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4D967-45D8-41C7-B3C6-9E997C6440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8D22E-6F31-4B31-903A-A6F9A00B7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53043-8576-4D8C-9664-EE907E3F17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0D74B-2CEB-49E6-9B16-4F88F46763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9922A-0C0F-4EE1-BD82-82FA23B0D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4C15E-7F25-4CEB-B978-2297C82BE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8D718-4DA4-4133-BCC4-54D82344A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16125-1755-423C-9769-B843B57F0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90263-F902-4560-9452-A4272823A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20819-833C-436F-BEF7-FC59CD3AA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9AF39-3B64-4874-8F5E-C2D43E002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B7F12-FA8A-441C-A1AB-BEFA8E4D9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A694-D15A-4DB8-A0D7-81A86C19CA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recios de Transferenc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os de Transferencia basados en costos</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ocasiones, los precios en el mercado no están disponibles, son inapropiados o demasiado altos para fijarlos como precios de transferenci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roducto puede ser especializado o singular, las listas de precios pueden no estar disponibles fácilmente o el producto interno puede ser diferente de productos disponibles externamente en términos</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 sz="2000" spc="-1" strike="noStrike">
                <a:solidFill>
                  <a:srgbClr val="000000"/>
                </a:solidFill>
                <a:latin typeface="Arial"/>
              </a:rPr>
              <a:t>de calidad y servici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estos casos, muchas organizaciones utilizan mediciones basadas en costos como precios de transferenci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533520" y="1447920"/>
            <a:ext cx="8092800" cy="46677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 este enfoque es posible utilizar una variedad de conceptos de costo.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Por ejemplo, el costo se puede referir al:</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total unitario del producto: los materiales directos, la mano de obra directa y los gastos indirectos están incluidos en el precio de transferencia</a:t>
            </a:r>
            <a:endParaRPr b="0" lang="en-US" sz="20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sto variable unitario del producto: los gastos indirectos, se excluyen del precio de transferenci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Al utilizar los costos reales, se corre con el riesgo de transferir las ineficiencias de la división productora a la división compradora.</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
          <p:cNvSpPr/>
          <p:nvPr/>
        </p:nvSpPr>
        <p:spPr>
          <a:xfrm>
            <a:off x="395280" y="549360"/>
            <a:ext cx="460756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 sz="2800" spc="-1" strike="noStrike">
                <a:solidFill>
                  <a:srgbClr val="000000"/>
                </a:solidFill>
                <a:latin typeface="Arial"/>
              </a:rPr>
              <a:t>Precios de Transferencia basados en costo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aciones sobre Impuestos </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directivos siempre deben tomar en cuenta los aspectos  tributarios que se derivan de los métodos de transferencia alternativ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 impuestos incluye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Valor agregad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mpuestos relacionados con el ambient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 Otros gravámenes gubernamental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sos prácticos sobre</a:t>
            </a:r>
            <a:br>
              <a:rPr sz="4000"/>
            </a:br>
            <a:r>
              <a:rPr b="0" lang="en-US" sz="4000" spc="-1" strike="noStrike">
                <a:solidFill>
                  <a:srgbClr val="000000"/>
                </a:solidFill>
                <a:latin typeface="Arial"/>
              </a:rPr>
              <a:t>Precios de Transferencia</a:t>
            </a:r>
            <a:endParaRPr b="0" lang="en-US" sz="4000" spc="-1" strike="noStrike">
              <a:solidFill>
                <a:srgbClr val="000000"/>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1</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10760" y="33336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PRODUC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
          <p:cNvSpPr/>
          <p:nvPr/>
        </p:nvSpPr>
        <p:spPr>
          <a:xfrm>
            <a:off x="6540840" y="260280"/>
            <a:ext cx="1867680" cy="158580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vendido 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rceras person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US$ 1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
          <p:cNvSpPr/>
          <p:nvPr/>
        </p:nvSpPr>
        <p:spPr>
          <a:xfrm>
            <a:off x="410760" y="2133720"/>
            <a:ext cx="4502880" cy="1159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TRANSPORT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Petróleo Crudo = US$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Petróleo Crudo = US$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Petróleo Crudo = US$ 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6" name=""/>
          <p:cNvSpPr/>
          <p:nvPr/>
        </p:nvSpPr>
        <p:spPr>
          <a:xfrm>
            <a:off x="6540840" y="2205000"/>
            <a:ext cx="1867680" cy="137268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gasol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endido a tercer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rsonas = US$ 5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7" name=""/>
          <p:cNvSpPr/>
          <p:nvPr/>
        </p:nvSpPr>
        <p:spPr>
          <a:xfrm>
            <a:off x="417600" y="4076640"/>
            <a:ext cx="1909080" cy="179892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Mercado Externo</a:t>
            </a:r>
            <a:r>
              <a:rPr b="0" lang="es-ES"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 en el merc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barril de petróle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rudo entregado p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veedores externo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 la refinería d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Houston = US$ 1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
          <p:cNvSpPr/>
          <p:nvPr/>
        </p:nvSpPr>
        <p:spPr>
          <a:xfrm>
            <a:off x="3780000" y="4437000"/>
            <a:ext cx="4786200" cy="115956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VISIÓN DE REFINACIÓ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Variables por Barril de Gasolina = US$ 8</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Fijos por Barril de Gasolina = US$ 6</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stos Totales por Barril de Gasolina = US$1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
          <p:cNvSpPr/>
          <p:nvPr/>
        </p:nvSpPr>
        <p:spPr>
          <a:xfrm>
            <a:off x="5003640" y="1125360"/>
            <a:ext cx="1440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2484360" y="1628640"/>
            <a:ext cx="0" cy="432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4356000" y="3429000"/>
            <a:ext cx="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V="1">
            <a:off x="7524720" y="3716280"/>
            <a:ext cx="0" cy="6494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2411280" y="5013360"/>
            <a:ext cx="12970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 name=""/>
          <p:cNvGraphicFramePr/>
          <p:nvPr/>
        </p:nvGraphicFramePr>
        <p:xfrm>
          <a:off x="1523880" y="1828800"/>
          <a:ext cx="6083280" cy="4059360"/>
        </p:xfrm>
        <a:graphic>
          <a:graphicData uri="http://schemas.openxmlformats.org/presentationml/2006/ole">
            <p:oleObj r:id="rId1" spid="">
              <p:embed/>
              <p:pic>
                <p:nvPicPr>
                  <p:cNvPr id="85" name="" descr=""/>
                  <p:cNvPicPr/>
                  <p:nvPr/>
                </p:nvPicPr>
                <p:blipFill>
                  <a:blip r:embed="rId2"/>
                  <a:stretch/>
                </p:blipFill>
                <p:spPr>
                  <a:xfrm>
                    <a:off x="1523880" y="1828800"/>
                    <a:ext cx="6083280" cy="4059360"/>
                  </a:xfrm>
                  <a:prstGeom prst="rect">
                    <a:avLst/>
                  </a:prstGeom>
                  <a:ln w="0">
                    <a:noFill/>
                  </a:ln>
                </p:spPr>
              </p:pic>
            </p:oleObj>
          </a:graphicData>
        </a:graphic>
      </p:graphicFrame>
      <p:pic>
        <p:nvPicPr>
          <p:cNvPr id="86" name="" descr=""/>
          <p:cNvPicPr/>
          <p:nvPr/>
        </p:nvPicPr>
        <p:blipFill>
          <a:blip r:embed="rId3"/>
          <a:stretch/>
        </p:blipFill>
        <p:spPr>
          <a:xfrm>
            <a:off x="971640" y="260280"/>
            <a:ext cx="7129440" cy="2952720"/>
          </a:xfrm>
          <a:prstGeom prst="rect">
            <a:avLst/>
          </a:prstGeom>
          <a:ln w="0">
            <a:noFill/>
          </a:ln>
        </p:spPr>
      </p:pic>
      <p:pic>
        <p:nvPicPr>
          <p:cNvPr id="87" name="" descr=""/>
          <p:cNvPicPr/>
          <p:nvPr/>
        </p:nvPicPr>
        <p:blipFill>
          <a:blip r:embed="rId4"/>
          <a:stretch/>
        </p:blipFill>
        <p:spPr>
          <a:xfrm>
            <a:off x="971640" y="3429000"/>
            <a:ext cx="7129440" cy="324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042920" y="549360"/>
            <a:ext cx="6913800" cy="3095640"/>
          </a:xfrm>
          <a:prstGeom prst="rect">
            <a:avLst/>
          </a:prstGeom>
          <a:ln w="0">
            <a:noFill/>
          </a:ln>
        </p:spPr>
      </p:pic>
      <p:pic>
        <p:nvPicPr>
          <p:cNvPr id="89" name="" descr=""/>
          <p:cNvPicPr/>
          <p:nvPr/>
        </p:nvPicPr>
        <p:blipFill>
          <a:blip r:embed="rId2"/>
          <a:stretch/>
        </p:blipFill>
        <p:spPr>
          <a:xfrm>
            <a:off x="1042920" y="4221000"/>
            <a:ext cx="6769080" cy="208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jemplo 2</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457200" y="533520"/>
            <a:ext cx="8153280" cy="5638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593640" y="1488960"/>
            <a:ext cx="8169480" cy="4362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Conforme se expanden las compañías y crean operaciones descentralizadas a través de las fronteras nacionales, se añaden nuevas dimensiones y complicaciones al problema de los preci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corresponden la fijación de precios de los bienes y servicios intercambiados en transacciones de compra </a:t>
            </a:r>
            <a:r>
              <a:rPr b="0" lang="es-MX" sz="2000" spc="-1" strike="noStrike">
                <a:solidFill>
                  <a:srgbClr val="333399"/>
                </a:solidFill>
                <a:latin typeface="Arial"/>
              </a:rPr>
              <a:t>ínter corporativas</a:t>
            </a:r>
            <a:r>
              <a:rPr b="0" lang="es-MX" sz="2000" spc="-1" strike="noStrike">
                <a:solidFill>
                  <a:srgbClr val="333399"/>
                </a:solidFill>
                <a:latin typeface="Arial"/>
              </a:rPr>
              <a:t>.</a:t>
            </a:r>
            <a:r>
              <a:rPr b="0" lang="es-MX" sz="2000" spc="-1" strike="noStrike">
                <a:solidFill>
                  <a:srgbClr val="000000"/>
                </a:solidFill>
                <a:latin typeface="Arial"/>
              </a:rPr>
              <a:t>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ES" sz="2000" spc="-1" strike="noStrike">
                <a:solidFill>
                  <a:srgbClr val="000000"/>
                </a:solidFill>
                <a:latin typeface="Arial"/>
              </a:rPr>
              <a:t>Un precio de transferencia es el precio que una sub unidad (segmento, departamento, división, etc.) de una organización cobra por un bien o servicio suministrado a otra sub unidad de la misma organización.</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1026360" y="44460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457200"/>
            <a:ext cx="8153280" cy="571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09480" y="1371600"/>
            <a:ext cx="8093160" cy="25333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Debido a que este precio afecta las metas de ambas sub unidades, su determinación es un punto sensible para los gerent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Los precios de transferencia  se deben de determinar de tal manera que la utilidad total de la empresa se incremente cuando los productos se transfieren entre las sub unidad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
          <p:cNvSpPr/>
          <p:nvPr/>
        </p:nvSpPr>
        <p:spPr>
          <a:xfrm>
            <a:off x="1098000" y="299880"/>
            <a:ext cx="655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é son los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5280" y="401760"/>
            <a:ext cx="7921800" cy="80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
        <p:nvSpPr>
          <p:cNvPr id="47" name="PlaceHolder 2"/>
          <p:cNvSpPr>
            <a:spLocks noGrp="1"/>
          </p:cNvSpPr>
          <p:nvPr>
            <p:ph/>
          </p:nvPr>
        </p:nvSpPr>
        <p:spPr>
          <a:xfrm>
            <a:off x="468360" y="1447920"/>
            <a:ext cx="8207280" cy="4876560"/>
          </a:xfrm>
          <a:prstGeom prst="rect">
            <a:avLst/>
          </a:prstGeom>
          <a:noFill/>
          <a:ln w="0">
            <a:noFill/>
          </a:ln>
        </p:spPr>
        <p:txBody>
          <a:bodyPr lIns="90000" rIns="90000" tIns="46800" bIns="46800" anchor="t">
            <a:normAutofit fontScale="97000"/>
          </a:bodyPr>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 precio de transferencia debe conducir a una unidad de negocios 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decisiones que beneficien al consorcio u organización como un</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o, observando los siguientes objetivo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ngruencia organizaciona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 negocio deben actuar de tal forma que sus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eneficien a todo el negoci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valuación del desempeño</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unidades deberían ser evaluadas en base al beneficio de toda l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organización, considerando que una unidad no se beneficia con el</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terioro de otra.</a:t>
            </a:r>
            <a:endParaRPr b="0" lang="en-US" sz="2000" spc="-1" strike="noStrike">
              <a:solidFill>
                <a:srgbClr val="000000"/>
              </a:solidFill>
              <a:latin typeface="Arial"/>
            </a:endParaRPr>
          </a:p>
          <a:p>
            <a:pPr lvl="1" marL="7207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utonomía</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administración central no debe interferir en la toma de decisiones</a:t>
            </a:r>
            <a:endParaRPr b="0" lang="en-US" sz="2000" spc="-1" strike="noStrike">
              <a:solidFill>
                <a:srgbClr val="000000"/>
              </a:solidFill>
              <a:latin typeface="Arial"/>
            </a:endParaRPr>
          </a:p>
          <a:p>
            <a:pPr marL="332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las unidades.</a:t>
            </a:r>
            <a:endParaRPr b="0" lang="en-US" sz="2000" spc="-1" strike="noStrike">
              <a:solidFill>
                <a:srgbClr val="000000"/>
              </a:solidFill>
              <a:latin typeface="Arial"/>
            </a:endParaRPr>
          </a:p>
          <a:p>
            <a:pPr marL="3326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0720" indent="0">
              <a:lnSpc>
                <a:spcPct val="16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68360" y="1557360"/>
            <a:ext cx="8169120" cy="1679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 </a:t>
            </a:r>
            <a:r>
              <a:rPr b="0" lang="es-MX" sz="2000" spc="-1" strike="noStrike">
                <a:solidFill>
                  <a:srgbClr val="000000"/>
                </a:solidFill>
                <a:latin typeface="Arial"/>
              </a:rPr>
              <a:t>Minimizar impuestos, cuotas y aranceles.</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valuar el desempeño de la unidad.</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Tomar mejores decisiones.</a:t>
            </a:r>
            <a:endParaRPr b="0" lang="en-US" sz="2000" spc="-1" strike="noStrike">
              <a:solidFill>
                <a:srgbClr val="000000"/>
              </a:solidFill>
              <a:latin typeface="Arial"/>
            </a:endParaRPr>
          </a:p>
        </p:txBody>
      </p:sp>
      <p:sp>
        <p:nvSpPr>
          <p:cNvPr id="49" name=""/>
          <p:cNvSpPr/>
          <p:nvPr/>
        </p:nvSpPr>
        <p:spPr>
          <a:xfrm>
            <a:off x="1042920" y="4762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0" name=""/>
          <p:cNvSpPr/>
          <p:nvPr/>
        </p:nvSpPr>
        <p:spPr>
          <a:xfrm>
            <a:off x="686880" y="404640"/>
            <a:ext cx="594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Objetivo del Precio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114280" y="3716280"/>
            <a:ext cx="4618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Negociado</a:t>
            </a:r>
            <a:endParaRPr b="0" lang="en-US" sz="2400" spc="-1" strike="noStrike">
              <a:solidFill>
                <a:srgbClr val="000000"/>
              </a:solidFill>
              <a:latin typeface="Arial"/>
            </a:endParaRPr>
          </a:p>
        </p:txBody>
      </p:sp>
      <p:sp>
        <p:nvSpPr>
          <p:cNvPr id="52" name=""/>
          <p:cNvSpPr/>
          <p:nvPr/>
        </p:nvSpPr>
        <p:spPr>
          <a:xfrm>
            <a:off x="1116000" y="3357720"/>
            <a:ext cx="6553080" cy="114300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187280" y="1773360"/>
            <a:ext cx="6553440" cy="11430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96720" y="2060640"/>
            <a:ext cx="477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Precio de Mercado</a:t>
            </a:r>
            <a:endParaRPr b="0" lang="en-US" sz="2400" spc="-1" strike="noStrike">
              <a:solidFill>
                <a:srgbClr val="000000"/>
              </a:solidFill>
              <a:latin typeface="Arial"/>
            </a:endParaRPr>
          </a:p>
        </p:txBody>
      </p:sp>
      <p:sp>
        <p:nvSpPr>
          <p:cNvPr id="55" name=""/>
          <p:cNvSpPr/>
          <p:nvPr/>
        </p:nvSpPr>
        <p:spPr>
          <a:xfrm>
            <a:off x="1187280" y="4941720"/>
            <a:ext cx="6553440" cy="114300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2945520" y="5300640"/>
            <a:ext cx="281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Verdana"/>
              </a:rPr>
              <a:t>Enfoque de Costo</a:t>
            </a:r>
            <a:endParaRPr b="0" lang="en-US" sz="2400" spc="-1" strike="noStrike">
              <a:solidFill>
                <a:srgbClr val="000000"/>
              </a:solidFill>
              <a:latin typeface="Arial"/>
            </a:endParaRPr>
          </a:p>
        </p:txBody>
      </p:sp>
      <p:sp>
        <p:nvSpPr>
          <p:cNvPr id="57" name=""/>
          <p:cNvSpPr/>
          <p:nvPr/>
        </p:nvSpPr>
        <p:spPr>
          <a:xfrm>
            <a:off x="1190160" y="404640"/>
            <a:ext cx="709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étodos para fijar Precios de Transfe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39640" y="1628640"/>
            <a:ext cx="8209080" cy="38138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0" lang="es-MX" sz="2000" spc="-1" strike="noStrike">
                <a:solidFill>
                  <a:srgbClr val="000000"/>
                </a:solidFill>
                <a:latin typeface="Arial"/>
              </a:rPr>
              <a:t>Es el precio al cual el producto o el servicio transferido internamente entre sus divisiones o segmentos es igual al que le podrían vender a compradores o clientes externos. </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El principal inconveniente de los precios basados en el mercado, es que no siempre están disponibles para los artículos que se transfieren internamente.</a:t>
            </a: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ndo el mercado intermedio es perfectamente competitivo, no hay costos o beneficios adicionales para la organización como un todo, en usar precios de mercado en lugar de precios interno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
          <p:cNvSpPr/>
          <p:nvPr/>
        </p:nvSpPr>
        <p:spPr>
          <a:xfrm>
            <a:off x="468360" y="333360"/>
            <a:ext cx="8280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os de Transferencia basados en el </a:t>
            </a:r>
            <a:r>
              <a:rPr b="0" lang="es-ES_tradnl" sz="2800" spc="-1" strike="noStrike">
                <a:solidFill>
                  <a:srgbClr val="000000"/>
                </a:solidFill>
                <a:latin typeface="Arial"/>
              </a:rPr>
              <a:t>Mercado</a:t>
            </a:r>
            <a:endParaRPr b="0" lang="en-US" sz="28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n mercado perfectamente competitivo existe cuando hay un producto homogéneo con precios equivalentes de venta y compra y ningún comprador o vendedor individual puede afectar esos precios por sus propias accion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precios de mercado conducen generalmente a decisiones óptima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uando una industria tiene capacidad excesiva, los precios de mercado pueden bajar considerablemente por debajo de su promedio históric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57200" y="1600200"/>
            <a:ext cx="816912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e enfoque permite a los gerentes de los centros de responsabilidad convengan </a:t>
            </a:r>
            <a:r>
              <a:rPr b="0" i="1" lang="es-MX" sz="2000" spc="-1" strike="noStrike">
                <a:solidFill>
                  <a:srgbClr val="000000"/>
                </a:solidFill>
                <a:latin typeface="Arial"/>
              </a:rPr>
              <a:t>(</a:t>
            </a:r>
            <a:r>
              <a:rPr b="0" lang="es-MX" sz="2000" spc="-1" strike="noStrike">
                <a:solidFill>
                  <a:srgbClr val="000000"/>
                </a:solidFill>
                <a:latin typeface="Arial"/>
              </a:rPr>
              <a:t>negocien) entre sí acerca del precio de transferencia.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única restricción sobre las negociaciones, es que el precio de transferencia sea menor que el precio de mercado, pero mayor que los costos variables unitarios del centro de costos que es proveedor.</a:t>
            </a:r>
            <a:endParaRPr b="0" lang="en-US" sz="2000" spc="-1" strike="noStrike">
              <a:solidFill>
                <a:srgbClr val="000000"/>
              </a:solidFill>
              <a:latin typeface="Arial"/>
            </a:endParaRPr>
          </a:p>
        </p:txBody>
      </p:sp>
      <p:sp>
        <p:nvSpPr>
          <p:cNvPr id="63" name=""/>
          <p:cNvSpPr/>
          <p:nvPr/>
        </p:nvSpPr>
        <p:spPr>
          <a:xfrm>
            <a:off x="1116000" y="476280"/>
            <a:ext cx="7281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ecio de Transferencia Negoci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8T03:24:37Z</dcterms:created>
  <dc:creator>Ivan Alvarez</dc:creator>
  <dc:description/>
  <dc:language>en-US</dc:language>
  <cp:lastModifiedBy>Ivan Alvarez Valdes</cp:lastModifiedBy>
  <dcterms:modified xsi:type="dcterms:W3CDTF">2008-10-17T02:03:39Z</dcterms:modified>
  <cp:revision>10</cp:revision>
  <dc:subject/>
  <dc:title>Diapositiva 1</dc:title>
</cp:coreProperties>
</file>