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BFE31-5FBF-4A1A-B0A1-00B0633AA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FDF98-5966-40D8-8AB4-5A72284CB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1DD1D-284B-440D-B476-41AD5EB90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57E45-9C2A-4BB5-81D7-CE1B5EABF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74197-9EB4-4E11-8058-D3C8F877E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445BF-E7BB-439E-A737-BFA0975CC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0B3D7-5CDD-4D99-9CE9-86D073519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A22F3-6C4A-48D2-B187-A6CA5D455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94A7F-07F6-44ED-85BB-09701648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5921A-5A6E-4049-84FB-3BF72F0B6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A0E50-D41A-42BE-947C-C3EE60F42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854F-6DC2-4359-BDDF-E168D6D3E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BECF-5336-40D4-805D-63BA70B667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 de la empresa se incremente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 Valdes</cp:lastModifiedBy>
  <dcterms:modified xsi:type="dcterms:W3CDTF">2008-10-17T02:03:39Z</dcterms:modified>
  <cp:revision>10</cp:revision>
  <dc:subject/>
  <dc:title>Diapositiva 1</dc:title>
</cp:coreProperties>
</file>