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D8D-C1CB-4D48-AE9A-9F1C88BD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AF3-8AE3-4C67-994D-90D99E6C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755-99A3-4490-9523-8B566E5A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AF7-0BF2-42EB-9918-236F6024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B095-03F2-430A-B368-F7FCCDAE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1966-6F9C-4079-8971-E2F9A0D3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C121-9F25-4739-AC81-2C6683F4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9BF3-76F0-487E-BD88-72347F71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C21D-FC64-4199-967A-EDEACDA3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D84E-4A08-47C3-9409-D3DC72BB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2752-6DB2-4CF5-8FBC-796E5785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0E9-641E-42AF-A53A-7E9DBAB2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70DA-DDA0-473F-822A-75182D25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4D06-0F7C-4E0E-ADAA-61DE7A08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93A6-25D8-4015-B4F6-822A3B33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A6AE-D6DF-439E-9001-117F3178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05B0-5800-4DED-A001-64C2F373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760-9E89-40A0-BF02-EB0988E3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C60A-FFF4-4F8D-8718-A761B744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7D1-3E50-438C-B7C0-6F1A5A0B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DD4-2819-4195-AE6D-0F7FDB86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0AB-5D57-4CB6-8B58-ACD7F33B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AAD-EBC7-497F-AFDE-E20EB16F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DFE-CA5A-4A08-9B37-E12C8BE5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3873-87AF-4919-9079-A975A500BCA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77F2-DDAB-473A-A5FE-81A1A6B06A1C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Los Centros de Responsabilidad (2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ntro de Beneficios (o utilid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a unidad organizativa en la cual, tanto los ingresos como los gastos se miden en términos mone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n decidir sobre como imputar los ingresos y ga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gresos: cuando se recibe un orden de compra, cuando se despacha el producto o cuando se c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astos: diferentes criterios: imputar sólo gastos variables, gastos generales, impue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ntro de Beneficios (o utilid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 asignación, no sólo se debe tener en cuenta consideraciones contables, sino que además, el comportamiento que esto podría traer del ejecu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 asignar aquellos ingresos y gastos sobre los cuales el directivo puede influir, incluso aunque no pueda controlarlos tot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Arial"/>
              </a:rPr>
              <a:t>Medición de la rentabilid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das cualitativas: la gestión de la dirección, para valorar al dir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das cuantitativas: resultados económicos, para valorar el desempeño del centro de beneficios como unidad econó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 prevalecer la gestión de la dirección en el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resultado económico de un centro de beneficios se puede valorar mediante cinco diferentes med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rgen de con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contro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antes de im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n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rgen de contribución: el margen de contribución refleja la diferencia entre los ingresos y los gastos variables. Gastos fijos fuera de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directo: refleja la contribución de un CB a los gastos generales y al beneficio global de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controlable: los gastos de los servicios centrales se pueden dividir en controlables y no control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antes de im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Ingresos por Vent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                  $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osto de Vent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ostos Variable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argen de Contribución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           2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Gastos Fijos incurridos en CB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Directo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                 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Gastos Corporativos Controlable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Controlable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Otras asignaciones corporativ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s antes de Impuesto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Impuesto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Neto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320" y="5335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NTROS DE INVERSIONES: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valuación del Desempeñ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480" y="1830240"/>
            <a:ext cx="9082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Retorno de la Invers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La rentabilidad o retorno de la inversión R.O.I. (return on investment) es el indicador tradicionalmente más utilizado en la evaluación del desempeño de un centro de inversión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Retorno de la Inversión   =   </a:t>
            </a:r>
            <a:r>
              <a:rPr b="0" lang="es-ES_tradnl" sz="2400" spc="-1" strike="noStrike" u="sng">
                <a:solidFill>
                  <a:srgbClr val="336666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480" y="1601640"/>
            <a:ext cx="90820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Un indicador alternativo para evaluar el desempeño de un centro de inversiones, y que se desarrolló con el propósito de evitar el desincentivo a inversiones que tienden a disminuir el ROI divisional, pero que son rentables a nivel firma, es el Resultado Residual, Resultado Diferencial o Spread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000" spc="-1" strike="noStrike">
                <a:solidFill>
                  <a:srgbClr val="336666"/>
                </a:solidFill>
                <a:latin typeface="Arial"/>
              </a:rPr>
              <a:t>Retorno Residual = Resultado Operacional – </a:t>
            </a:r>
            <a:r>
              <a:rPr b="1" i="1" lang="es-ES_tradnl" sz="2000" spc="-1" strike="noStrike">
                <a:solidFill>
                  <a:srgbClr val="336666"/>
                </a:solidFill>
                <a:latin typeface="Arial"/>
              </a:rPr>
              <a:t>r  </a:t>
            </a:r>
            <a:r>
              <a:rPr b="0" i="1" lang="es-ES_tradnl" sz="2000" spc="-1" strike="noStrike">
                <a:solidFill>
                  <a:srgbClr val="336666"/>
                </a:solidFill>
                <a:latin typeface="Arial"/>
              </a:rPr>
              <a:t>x  Activo Operaciona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r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: tasa de retorno exigido a la inversión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El mejor desempeño se evidencia por un mayor valor del Resultado Residual. Asimismo, tienen mayor prioridad las inversiones que arrojen un valor más alto del Resultado Residual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33520"/>
            <a:ext cx="736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NTROS DE INVERSIONES: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valuación del Desempeñ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03:09:41Z</dcterms:created>
  <dc:creator>Ivan Alvarez</dc:creator>
  <dc:description/>
  <dc:language>en-US</dc:language>
  <cp:lastModifiedBy>Ivan Alvarez</cp:lastModifiedBy>
  <dcterms:modified xsi:type="dcterms:W3CDTF">2007-09-14T03:37:21Z</dcterms:modified>
  <cp:revision>35</cp:revision>
  <dc:subject/>
  <dc:title>El control de la gestión</dc:title>
</cp:coreProperties>
</file>