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7959-FF4C-44DB-A9F0-03789EBC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FAFB-188B-4C91-9F10-0A0D0221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7EC2-4272-46D1-9D9C-28543A8C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9D72-07BC-4DCF-AEC1-2B6CADF8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D009-F9AF-45E5-970C-F921EC17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A763-1B83-4B59-953D-635F4CFB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958B-5ED0-4F78-9606-856DD0C5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BA1E-841C-4660-90D7-1CB6C94B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C2E7-91AA-4CA4-898A-3CF3B176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7015-125E-44E1-A648-81583458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6BAD-27B8-4816-A8AB-C04F2372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4CCC-5D3A-4A74-B2A6-C58298F5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6920-51EE-41D4-BCC4-00504827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7720-9D8B-4314-87A7-CF6954AF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99C7-E7EE-4380-AE7F-6689FF3C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31B8-562B-421B-AC17-643DF83D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4DA0-9D23-472A-918F-496A4D27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A918-86C9-4B82-99AF-771AD99A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1A38-7173-4EAD-BD54-B9AD6DAF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1911-74A4-4082-BBD0-BF27768E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3A4E-409B-43F2-A94A-277F6EDE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B2AD-5BC0-4B16-B5E1-98C43854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06BA-E25A-4B90-8306-A5F75088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1C67-FCE4-4FC9-83E2-26E91A97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6C71-31AA-4791-9BE4-6DC97B73F048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706A-5170-4EAA-AC99-5AC4579A4909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Los Centros de Responsabilidad (2)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entro de Beneficios (o utilida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0512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una unidad organizativa en la cual, tanto los ingresos como los gastos se miden en términos monet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deben decidir sobre como imputar los ingresos y ga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gresos: cuando se recibe un orden de compra, cuando se despacha el producto o cuando se c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astos: diferentes criterios: imputar sólo gastos variables, gastos generales, impue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entro de Beneficios (o utilida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la asignación, no sólo se debe tener en cuenta consideraciones contables, sino que además, el comportamiento que esto podría traer del ejecu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debe asignar aquellos ingresos y gastos sobre los cuales el directivo puede influir, incluso aunque no pueda controlarlos total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Arial"/>
              </a:rPr>
              <a:t>Medición de la rentabilida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7994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das cualitativas: la gestión de la dirección, para valorar al dire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das cuantitativas: resultados económicos, para valorar el desempeño del centro de beneficios como unidad económ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be prevalecer la gestión de la dirección en el dise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s de medidas de la re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resultado económico de un centro de beneficios se puede valorar mediante cinco diferentes medi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rgen de contrib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 contro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 antes de im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 n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s de medidas de la re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rgen de contribución: el margen de contribución refleja la diferencia entre los ingresos y los gastos variables. Gastos fijos fuera de contr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o directo: refleja la contribución de un CB a los gastos generales y al beneficio global de la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o controlable: los gastos de los servicios centrales se pueden dividir en controlables y no control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o antes de impue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o n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s de medidas de la re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Ingresos por Venta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                  $ 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Costo de Venta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Costos Variable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argen de Contribución</a:t>
            </a: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           2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Gastos Fijos incurridos en CB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eneficio Directo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                  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Gastos Corporativos Controlable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eneficio Controlable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Otras asignaciones corporativa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eneficios antes de Impuesto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Impuesto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eneficio Neto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  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320" y="5335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NTROS DE INVERSIONES: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valuación del Desempeñ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480" y="1830240"/>
            <a:ext cx="9082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Arial"/>
              </a:rPr>
              <a:t>Retorno de la Inversió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La rentabilidad o retorno de la inversión R.O.I. (return on investment) es el indicador tradicionalmente más utilizado en la evaluación del desempeño de un centro de inversión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Retorno de la Inversión   =   </a:t>
            </a:r>
            <a:r>
              <a:rPr b="0" lang="es-ES_tradnl" sz="2400" spc="-1" strike="noStrike" u="sng">
                <a:solidFill>
                  <a:srgbClr val="336666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0480" y="1601640"/>
            <a:ext cx="908208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Un indicador alternativo para evaluar el desempeño de un centro de inversiones, y que se desarrolló con el propósito de evitar el desincentivo a inversiones que tienden a disminuir el ROI divisional, pero que son rentables a nivel firma, es el Resultado Residual, Resultado Diferencial o Spread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000" spc="-1" strike="noStrike">
                <a:solidFill>
                  <a:srgbClr val="336666"/>
                </a:solidFill>
                <a:latin typeface="Arial"/>
              </a:rPr>
              <a:t>Retorno Residual = Resultado Operacional – </a:t>
            </a:r>
            <a:r>
              <a:rPr b="1" i="1" lang="es-ES_tradnl" sz="2000" spc="-1" strike="noStrike">
                <a:solidFill>
                  <a:srgbClr val="336666"/>
                </a:solidFill>
                <a:latin typeface="Arial"/>
              </a:rPr>
              <a:t>r  </a:t>
            </a:r>
            <a:r>
              <a:rPr b="0" i="1" lang="es-ES_tradnl" sz="2000" spc="-1" strike="noStrike">
                <a:solidFill>
                  <a:srgbClr val="336666"/>
                </a:solidFill>
                <a:latin typeface="Arial"/>
              </a:rPr>
              <a:t>x  Activo Operacional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r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: tasa de retorno exigido a la inversión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El mejor desempeño se evidencia por un mayor valor del Resultado Residual. Asimismo, tienen mayor prioridad las inversiones que arrojen un valor más alto del Resultado Residual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533520"/>
            <a:ext cx="7367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NTROS DE INVERSIONES: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valuación del Desempeñ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03:09:41Z</dcterms:created>
  <dc:creator>Ivan Alvarez</dc:creator>
  <dc:description/>
  <dc:language>en-US</dc:language>
  <cp:lastModifiedBy>Ivan Alvarez</cp:lastModifiedBy>
  <dcterms:modified xsi:type="dcterms:W3CDTF">2007-09-14T03:37:21Z</dcterms:modified>
  <cp:revision>35</cp:revision>
  <dc:subject/>
  <dc:title>El control de la gestión</dc:title>
</cp:coreProperties>
</file>