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79A1-D5CC-47C0-A03A-5063E5688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AD16-EC47-445D-9444-72843921A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00CD-C2EE-4B03-9923-A4A111351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5A97-094B-41CD-99EC-1EAC83B47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C6555-2512-4137-B9A9-A514355FB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4A269-C402-4915-8D6C-7EF1E1F97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3BA63-9FD6-4662-AE71-526D3B6C8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5D3C4-C03D-46AE-80D6-314678092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77E59-D8DB-48FA-8DA0-DB71C2FF9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623D2-0DAB-4C57-AD62-B98086A72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65DAA-6F55-4828-AB27-E0225205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B36E-2DD7-4D10-8336-8A8959237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194FF-3773-4601-BCDA-914AE742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8A506-75F7-4C6D-90E3-A5E50E84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D6866-6A8B-43B8-BA15-5A48F3E07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B7888-513A-4379-AAEB-B11040D61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81FA0-FA90-4507-A3EB-046251BEE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FC27-E6CB-4E64-AC34-13E4E40AA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573C-76FE-4B24-9A4D-FC9CE2113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D4F0-C58B-4E88-82F1-FD017CBD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DBF2-258A-4A92-A21C-5FFFBB7FA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7117-AEC9-4419-AB63-F205F7C4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E72D-6D72-41FC-BCCB-BF5328C4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C1A8-928C-45C0-B175-7A184927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69DF6-EC66-493F-8388-74D4924C09B5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EA24C-3120-48D1-B5BB-FA0FEA326FE8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Los Centros de Responsabilidad (2)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entro de Beneficios (o utilidad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360" y="1905120"/>
            <a:ext cx="785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 una unidad organizativa en la cual, tanto los ingresos como los gastos se miden en términos moneta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deben decidir sobre como imputar los ingresos y gas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gresos: cuando se recibe un orden de compra, cuando se despacha el producto o cuando se co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astos: diferentes criterios: imputar sólo gastos variables, gastos generales, impues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entro de Beneficios (o utilidad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0920" y="190512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la asignación, no sólo se debe tener en cuenta consideraciones contables, sino que además, el comportamiento que esto podría traer del ejecuti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debe asignar aquellos ingresos y gastos sobre los cuales el directivo puede influir, incluso aunque no pueda controlarlos total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0000"/>
                </a:solidFill>
                <a:latin typeface="Arial"/>
              </a:rPr>
              <a:t>Medición de la rentabilida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640" y="1905120"/>
            <a:ext cx="7994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edidas cualitativas: la gestión de la dirección, para valorar al direc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edidas cuantitativas: resultados económicos, para valorar el desempeño del centro de beneficios como unidad económ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be prevalecer la gestión de la dirección en el diseñ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pos de medidas de la rent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0920" y="190512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resultado económico de un centro de beneficios se puede valorar mediante cinco diferentes medid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argen de contrib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eneficio dir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eneficio contro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eneficio antes de impue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eneficio n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pos de medidas de la rent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0920" y="190512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rgen de contribución: el margen de contribución refleja la diferencia entre los ingresos y los gastos variables. Gastos fijos fuera de contro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eneficio directo: refleja la contribución de un CB a los gastos generales y al beneficio global de la empre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eneficio controlable: los gastos de los servicios centrales se pueden dividir en controlables y no controla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eneficio antes de impues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eneficio n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pos de medidas de la rent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0920" y="190512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Ingresos por Ventas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                         $ 1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Costo de Ventas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    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Costos Variables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     </a:t>
            </a:r>
            <a:r>
              <a:rPr b="0" lang="es-ES_tradnl" sz="2000" spc="-1" strike="noStrike" u="sng">
                <a:solidFill>
                  <a:srgbClr val="336666"/>
                </a:solidFill>
                <a:uFillTx/>
                <a:latin typeface="Arial"/>
              </a:rPr>
              <a:t>1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Margen de Contribución</a:t>
            </a:r>
            <a:r>
              <a:rPr b="1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                  2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Gastos Fijos incurridos en CB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      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       </a:t>
            </a:r>
            <a:r>
              <a:rPr b="0" lang="es-ES_tradnl" sz="2000" spc="-1" strike="noStrike" u="sng">
                <a:solidFill>
                  <a:srgbClr val="336666"/>
                </a:solidFill>
                <a:uFillTx/>
                <a:latin typeface="Arial"/>
              </a:rPr>
              <a:t>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Beneficio Directo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336666"/>
                </a:solidFill>
                <a:latin typeface="Arial"/>
              </a:rPr>
              <a:t>                  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1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Gastos Corporativos Controlables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       </a:t>
            </a:r>
            <a:r>
              <a:rPr b="0" lang="es-ES_tradnl" sz="2000" spc="-1" strike="noStrike" u="sng">
                <a:solidFill>
                  <a:srgbClr val="336666"/>
                </a:solidFill>
                <a:uFillTx/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Beneficio Controlable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     1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Otras asignaciones corporativas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       </a:t>
            </a:r>
            <a:r>
              <a:rPr b="0" lang="es-ES_tradnl" sz="2000" spc="-1" strike="noStrike" u="sng">
                <a:solidFill>
                  <a:srgbClr val="336666"/>
                </a:solidFill>
                <a:uFillTx/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Beneficios antes de Impuestos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    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Impuestos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       </a:t>
            </a:r>
            <a:r>
              <a:rPr b="0" lang="es-ES_tradnl" sz="2000" spc="-1" strike="noStrike" u="sng">
                <a:solidFill>
                  <a:srgbClr val="336666"/>
                </a:solidFill>
                <a:uFillTx/>
                <a:latin typeface="Arial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Beneficio Neto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     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6320" y="5335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ENTROS DE INVERSIONES: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valuación del Desempeño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480" y="1830240"/>
            <a:ext cx="9082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336666"/>
                </a:solidFill>
                <a:latin typeface="Arial"/>
              </a:rPr>
              <a:t>Retorno de la Inversió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La rentabilidad o retorno de la inversión R.O.I. (return on investment) es el indicador tradicionalmente más utilizado en la evaluación del desempeño de un centro de inversión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Retorno de la Inversión   =   </a:t>
            </a:r>
            <a:r>
              <a:rPr b="0" lang="es-ES_tradnl" sz="2400" spc="-1" strike="noStrike" u="sng">
                <a:solidFill>
                  <a:srgbClr val="336666"/>
                </a:solidFill>
                <a:uFillTx/>
                <a:latin typeface="Arial"/>
              </a:rPr>
              <a:t>Resultado Operacional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Inversió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0480" y="1601640"/>
            <a:ext cx="908208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Un indicador alternativo para evaluar el desempeño de un centro de inversiones, y que se desarrolló con el propósito de evitar el desincentivo a inversiones que tienden a disminuir el ROI divisional, pero que son rentables a nivel firma, es el Resultado Residual, Resultado Diferencial o Spread: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2000" spc="-1" strike="noStrike">
                <a:solidFill>
                  <a:srgbClr val="336666"/>
                </a:solidFill>
                <a:latin typeface="Arial"/>
              </a:rPr>
              <a:t>Retorno Residual = Resultado Operacional – </a:t>
            </a:r>
            <a:r>
              <a:rPr b="1" i="1" lang="es-ES_tradnl" sz="2000" spc="-1" strike="noStrike">
                <a:solidFill>
                  <a:srgbClr val="336666"/>
                </a:solidFill>
                <a:latin typeface="Arial"/>
              </a:rPr>
              <a:t>r  </a:t>
            </a:r>
            <a:r>
              <a:rPr b="0" i="1" lang="es-ES_tradnl" sz="2000" spc="-1" strike="noStrike">
                <a:solidFill>
                  <a:srgbClr val="336666"/>
                </a:solidFill>
                <a:latin typeface="Arial"/>
              </a:rPr>
              <a:t>x  Activo Operacional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336666"/>
                </a:solidFill>
                <a:latin typeface="Arial"/>
              </a:rPr>
              <a:t>r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: tasa de retorno exigido a la inversión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El mejor desempeño se evidencia por un mayor valor del Resultado Residual. Asimismo, tienen mayor prioridad las inversiones que arrojen un valor más alto del Resultado Residual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47640" y="533520"/>
            <a:ext cx="7367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ENTROS DE INVERSIONES: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valuación del Desempeño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4T03:09:41Z</dcterms:created>
  <dc:creator>Ivan Alvarez</dc:creator>
  <dc:description/>
  <dc:language>en-US</dc:language>
  <cp:lastModifiedBy>Ivan Alvarez</cp:lastModifiedBy>
  <dcterms:modified xsi:type="dcterms:W3CDTF">2007-09-14T03:37:21Z</dcterms:modified>
  <cp:revision>35</cp:revision>
  <dc:subject/>
  <dc:title>El control de la gestión</dc:title>
</cp:coreProperties>
</file>