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46D8-C84E-4B89-A52D-7944438E3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BA5B-1FD1-42C7-A552-2C969157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FB9D-FE34-49C8-AB9D-DED79162E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AFDB-DBB0-48AD-9294-CA7D8C542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B72F-96A5-462D-99B1-8277A565E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2B57-109F-4564-A70B-5D1D9932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4508-CCAC-4819-A607-C6D229B4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D10D-DE41-43D5-9853-A62268FC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AEC7-4DEE-446C-9967-96C37375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4160-0551-4603-9835-93C5A188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79364-A2DF-4FA0-8AE5-A8DF60EB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A048-287E-43F5-892A-C45272CB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3031-6BA0-40CA-B63C-4B2E3319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FC0D-3388-412E-BC95-8E404F16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9032-F927-4EBF-BC0F-ED2B233A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7049-C65C-4736-8FF7-336A286F7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0901-5209-4E0C-8626-76583A504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D929-995A-416C-A5BC-100E4179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33AA-584A-4EBE-B2C7-3B8D2911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D667-C97F-4202-B0DE-4777F625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1AB2-94EE-4705-96E5-D9423D25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FF20-2C1B-4D93-9AD3-0481D4AD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2B76-204D-4315-A4B9-F4A76922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1F83-DFBE-4147-A754-4D7D2024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58C3-ECD4-48F2-8A5D-8D1C14799910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8F85-930E-4C4C-918C-0266981E6EDD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Los Centros de Responsabilidad (2)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entro de Beneficios (o utilida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905120"/>
            <a:ext cx="785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una unidad organizativa en la cual, tanto los ingresos como los gastos se miden en términos monet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deben decidir sobre como imputar los ingresos y ga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gresos: cuando se recibe un orden de compra, cuando se despacha el producto o cuando se co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astos: diferentes criterios: imputar sólo gastos variables, gastos generales, impue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entro de Beneficios (o utilida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0920" y="190512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la asignación, no sólo se debe tener en cuenta consideraciones contables, sino que además, el comportamiento que esto podría traer del ejecu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debe asignar aquellos ingresos y gastos sobre los cuales el directivo puede influir, incluso aunque no pueda controlarlos total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0000"/>
                </a:solidFill>
                <a:latin typeface="Arial"/>
              </a:rPr>
              <a:t>Medición de la rentabilida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1905120"/>
            <a:ext cx="7994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didas cualitativas: la gestión de la dirección, para valorar al direc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didas cuantitativas: resultados económicos, para valorar el desempeño del centro de beneficios como unidad económ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be prevalecer la gestión de la dirección en el diseñ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pos de medidas de la rent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0920" y="190512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resultado económico de un centro de beneficios se puede valorar mediante cinco diferentes medid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rgen de contrib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eneficio dir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eneficio contro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eneficio antes de impue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eneficio n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pos de medidas de la rent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0920" y="190512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rgen de contribución: el margen de contribución refleja la diferencia entre los ingresos y los gastos variables. Gastos fijos fuera de contro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eneficio directo: refleja la contribución de un CB a los gastos generales y al beneficio global de la empr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eneficio controlable: los gastos de los servicios centrales se pueden dividir en controlables y no control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eneficio antes de impue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eneficio n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pos de medidas de la rent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0920" y="190512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Ingresos por Ventas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                    $ 1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Costo de Ventas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Costos Variables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</a:t>
            </a:r>
            <a:r>
              <a:rPr b="0" lang="es-ES_tradnl" sz="2000" spc="-1" strike="noStrike" u="sng">
                <a:solidFill>
                  <a:srgbClr val="336666"/>
                </a:solidFill>
                <a:uFillTx/>
                <a:latin typeface="Arial"/>
              </a:rPr>
              <a:t>1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Margen de Contribución</a:t>
            </a:r>
            <a:r>
              <a:rPr b="1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             2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Gastos Fijos incurridos en CB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 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  </a:t>
            </a:r>
            <a:r>
              <a:rPr b="0" lang="es-ES_tradnl" sz="2000" spc="-1" strike="noStrike" u="sng">
                <a:solidFill>
                  <a:srgbClr val="336666"/>
                </a:solidFill>
                <a:uFillTx/>
                <a:latin typeface="Arial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Beneficio Directo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336666"/>
                </a:solidFill>
                <a:latin typeface="Arial"/>
              </a:rPr>
              <a:t>                  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1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Gastos Corporativos Controlables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  </a:t>
            </a:r>
            <a:r>
              <a:rPr b="0" lang="es-ES_tradnl" sz="2000" spc="-1" strike="noStrike" u="sng">
                <a:solidFill>
                  <a:srgbClr val="336666"/>
                </a:solidFill>
                <a:uFillTx/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Beneficio Controlable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1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Otras asignaciones corporativas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  </a:t>
            </a:r>
            <a:r>
              <a:rPr b="0" lang="es-ES_tradnl" sz="2000" spc="-1" strike="noStrike" u="sng">
                <a:solidFill>
                  <a:srgbClr val="336666"/>
                </a:solidFill>
                <a:uFillTx/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Beneficios antes de Impuestos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Impuestos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      </a:t>
            </a:r>
            <a:r>
              <a:rPr b="0" lang="es-ES_tradnl" sz="2000" spc="-1" strike="noStrike" u="sng">
                <a:solidFill>
                  <a:srgbClr val="336666"/>
                </a:solidFill>
                <a:uFillTx/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Beneficio Neto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    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6320" y="5335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ENTROS DE INVERSIONES: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valuación del Desempeño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480" y="1830240"/>
            <a:ext cx="9082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Arial"/>
              </a:rPr>
              <a:t>Retorno de la Inversió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La rentabilidad o retorno de la inversión R.O.I. (return on investment) es el indicador tradicionalmente más utilizado en la evaluación del desempeño de un centro de inversión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Retorno de la Inversión   =   </a:t>
            </a:r>
            <a:r>
              <a:rPr b="0" lang="es-ES_tradnl" sz="2400" spc="-1" strike="noStrike" u="sng">
                <a:solidFill>
                  <a:srgbClr val="336666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336666"/>
                </a:solidFill>
                <a:latin typeface="Arial"/>
              </a:rPr>
              <a:t>Inversió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0480" y="1601640"/>
            <a:ext cx="908208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Un indicador alternativo para evaluar el desempeño de un centro de inversiones, y que se desarrolló con el propósito de evitar el desincentivo a inversiones que tienden a disminuir el ROI divisional, pero que son rentables a nivel firma, es el Resultado Residual, Resultado Diferencial o Spread: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000" spc="-1" strike="noStrike">
                <a:solidFill>
                  <a:srgbClr val="336666"/>
                </a:solidFill>
                <a:latin typeface="Arial"/>
              </a:rPr>
              <a:t>Retorno Residual = Resultado Operacional – </a:t>
            </a:r>
            <a:r>
              <a:rPr b="1" i="1" lang="es-ES_tradnl" sz="2000" spc="-1" strike="noStrike">
                <a:solidFill>
                  <a:srgbClr val="336666"/>
                </a:solidFill>
                <a:latin typeface="Arial"/>
              </a:rPr>
              <a:t>r  </a:t>
            </a:r>
            <a:r>
              <a:rPr b="0" i="1" lang="es-ES_tradnl" sz="2000" spc="-1" strike="noStrike">
                <a:solidFill>
                  <a:srgbClr val="336666"/>
                </a:solidFill>
                <a:latin typeface="Arial"/>
              </a:rPr>
              <a:t>x  Activo Operacional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336666"/>
                </a:solidFill>
                <a:latin typeface="Arial"/>
              </a:rPr>
              <a:t>r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: tasa de retorno exigido a la inversión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El mejor desempeño se evidencia por un mayor valor del Resultado Residual. Asimismo, tienen mayor prioridad las inversiones que arrojen un valor más alto del Resultado Residual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47640" y="533520"/>
            <a:ext cx="7367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ENTROS DE INVERSIONES: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valuación del Desempeño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4T03:09:41Z</dcterms:created>
  <dc:creator>Ivan Alvarez</dc:creator>
  <dc:description/>
  <dc:language>en-US</dc:language>
  <cp:lastModifiedBy>Ivan Alvarez</cp:lastModifiedBy>
  <dcterms:modified xsi:type="dcterms:W3CDTF">2007-09-14T03:37:21Z</dcterms:modified>
  <cp:revision>35</cp:revision>
  <dc:subject/>
  <dc:title>El control de la gestión</dc:title>
</cp:coreProperties>
</file>