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32F-3156-481C-805D-694EFBB5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914-9B6C-41C3-B75D-431D27FA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625-52A9-4909-AB70-5A7B8688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DAC-1AC2-4E41-B2EF-DF13AAC7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E5FE-81C1-421F-A285-7127D1BE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DB37-F7AC-42F1-838E-55D210B3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A466-883B-4F10-B837-E280D9A7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6FE1-A711-4F78-9B6D-86CFF420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7CF0-20BA-4E98-924D-AD247799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6FED-1258-4CB3-9224-9D4596E2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3040-97FB-4275-B961-0653ED1F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A04-30DE-491E-B70B-16B53E46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E880-EA7F-4BE6-BA82-689EB27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0205-0402-473F-AB46-394D17C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6246-0417-4ABD-8326-BBB7661B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6E64-50AD-455C-BC07-2F2A3C7B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05DA-98EC-4D18-A32D-B14B1031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550-3152-428C-A8C3-B3984E27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F4A-F562-4E02-A96F-980C0DF4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2DF-64FC-4306-984F-FB84C4E8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E1E-6CA5-4079-BB40-D67B5150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4CB-221F-4D00-8224-D7A1BEDF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D28-B596-47D8-8503-CBE0BC26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67C-A6D5-4207-B3FA-A09D4A3E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84D8-60FE-421A-8671-6CE266B0F77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3605-4572-400A-9E1F-53DD7AA4782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Los Centros de Responsabilidad (2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unidad organizativa en la cual, tanto los ingresos como los gastos se miden en términos mone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n decidir sobre como imputar los ingresos y ga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gresos: cuando se recibe un orden de compra, cuando se despacha el producto o cuando se c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stos: diferentes criterios: imputar sólo gastos variables, gastos generales, im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asignación, no sólo se debe tener en cuenta consideraciones contables, sino que además, el comportamiento que esto podría traer del ejecu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asignar aquellos ingresos y gastos sobre los cuales el directivo puede influir, incluso aunque no pueda controlarlos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Medición de la rentabilid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litativas: la gestión de la dirección, para valorar al dir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ntitativas: resultados económicos, para valorar el desempeño del centro de beneficios como unidad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prevalecer la gestión de la dirección en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esultado económico de un centro de beneficios se puede valorar mediante cinco diferentes med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gen de con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contro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gen de contribución: el margen de contribución refleja la diferencia entre los ingresos y los gastos variables. Gastos fijos fuera de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directo: refleja la contribución de un CB a los gastos generales y al beneficio global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controlable: los gastos de los servicios centrales se pueden dividir en controlables y no control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ngresos por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       $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 de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s Vari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rgen de Contribución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Fijos incurridos en CB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Direc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Corporativos Control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Controlable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Otras asignaciones corporativ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s antes de 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Ne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320" y="5335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480" y="1830240"/>
            <a:ext cx="90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Retorno de la 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a rentabilidad o retorno de la inversión R.O.I. (return on investment) es el indicador tradicionalmente más utilizado en la evaluación del desempeño de un centro de inversión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torno de la Inversión   =   </a:t>
            </a:r>
            <a:r>
              <a:rPr b="0" lang="es-ES_tradnl" sz="2400" spc="-1" strike="noStrike" u="sng">
                <a:solidFill>
                  <a:srgbClr val="336666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480" y="1601640"/>
            <a:ext cx="90820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Un indicador alternativo para evaluar el desempeño de un centro de inversiones, y que se desarrolló con el propósito de evitar el desincentivo a inversiones que tienden a disminuir el ROI divisional, pero que son rentables a nivel firma, es el Resultado Residual, Resultado Diferencial o Spread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Retorno Residual = Resultado Operacional – </a:t>
            </a:r>
            <a:r>
              <a:rPr b="1" i="1" lang="es-ES_tradnl" sz="2000" spc="-1" strike="noStrike">
                <a:solidFill>
                  <a:srgbClr val="336666"/>
                </a:solidFill>
                <a:latin typeface="Arial"/>
              </a:rPr>
              <a:t>r  </a:t>
            </a: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x  Activo Operac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: tasa de retorno exigido a la inversión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l mejor desempeño se evidencia por un mayor valor del Resultado Residual. Asimismo, tienen mayor prioridad las inversiones que arrojen un valor más alto del Resultado Residual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3520"/>
            <a:ext cx="736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3:09:41Z</dcterms:created>
  <dc:creator>Ivan Alvarez</dc:creator>
  <dc:description/>
  <dc:language>en-US</dc:language>
  <cp:lastModifiedBy>Ivan Alvarez</cp:lastModifiedBy>
  <dcterms:modified xsi:type="dcterms:W3CDTF">2007-09-14T03:37:21Z</dcterms:modified>
  <cp:revision>35</cp:revision>
  <dc:subject/>
  <dc:title>El control de la gestión</dc:title>
</cp:coreProperties>
</file>