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7B31F-A035-420E-989B-0F72859A7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1418A-DC74-4450-BCD2-DF6129068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ADAAC-321C-46F5-88FA-19A165D0A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5FCC4-D987-45DF-8636-923CF1C9C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74292-73BA-475D-967D-A0DBE80E7B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A4E7E-CD41-41D8-B646-0800ABAD1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68E61-FD4B-48A9-B8FE-E66F91B05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CF4A1-890C-4C9D-90B0-FBCB77D05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1E210-20CB-4CD1-A609-55FF9C9F5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B8EA2-B047-4C39-AA75-36E0E6BDC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208BE-69AC-4938-AEC6-C6DFF26D1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660A5-623F-4601-B0C1-EB1A60831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42839-F69D-4CF0-8C00-FF2B4DAF5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4F2AE-FD31-4FBC-AD6F-1540B7E59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E3524-678B-4553-9D05-CC8E13A55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81BC8-CB63-45EC-8B81-3F8080EAA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CBE6E-164A-46C6-8932-78DBD921F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CC9A3-BCDD-4EB3-B4D2-9E4F37478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622DB-8B9A-44AE-B70A-A31F523F3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5D6FF-E56D-4258-8BDE-CD71C34D4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1C7EE-7234-4891-BC66-DE2A2E943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F1050-8E17-4D69-94CA-2CEA7FD69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C41D7-BF54-4F94-9810-A26A4B040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7E9CA-2A02-4763-B27D-47EC75948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45B0-DFC0-4B9B-AA59-701ED718EC97}"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FDA9-2FD2-42D1-9378-A97705BD14F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rm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rm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ontrol de gestión </a:t>
            </a:r>
            <a:br>
              <a:rPr sz="2600"/>
            </a:br>
            <a:r>
              <a:rPr b="1" lang="en-U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29040" indent="-3290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29040" indent="-329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47880" indent="-28188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van Alvarez</cp:lastModifiedBy>
  <dcterms:modified xsi:type="dcterms:W3CDTF">2007-08-31T02:57:02Z</dcterms:modified>
  <cp:revision>40</cp:revision>
  <dc:subject/>
  <dc:title>El control de la gestión</dc:title>
</cp:coreProperties>
</file>