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6D0A2-C5EF-43ED-9C8E-7F52FA04C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CA7F6-DD28-4A86-842B-673642988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6C258-3313-4F14-984A-FFA3D613C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02800-C052-43BB-B06F-C1E5EF656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DF418-A621-489E-B60C-7477B48AE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7FCD4-8934-4043-8BF2-7C572E4E4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3E6B3-8799-4821-902C-A2EBEA204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13561-C8DD-4028-AA7B-5ADE3BC1E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893ED-5732-46EA-AAE0-64E4BC347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CF1AA-0F87-4AA7-8989-55CF38263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D679D-E6A7-4604-8DE0-D409B1452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63E4D-E742-447B-834C-9C53BE189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7AE2-A971-4677-ACE9-4F3747DC2C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ingresos, cost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La cadena de valor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3: Desarrollo de una ventaja competitiva basada en los costos</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rrollar una ventaja competitiva sostenible, apoyándose en e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ilisis de los costos, ya s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ndo las causa de costo, mejor que los competidores, o bi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nfigurando la cadena de val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objetivos y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Implementación de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Establecimiento y aplicación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fontScale="91000"/>
          </a:bodyPr>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1622520"/>
            <a:ext cx="7848360" cy="42544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ALVAREZ</cp:lastModifiedBy>
  <dcterms:modified xsi:type="dcterms:W3CDTF">2008-09-11T20:54:49Z</dcterms:modified>
  <cp:revision>17</cp:revision>
  <dc:subject/>
  <dc:title>Diapositiva 1</dc:title>
</cp:coreProperties>
</file>