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B37-1687-4EE9-A61C-3E824DD0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7CF-94C2-4A26-920A-19163E9D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6B2-E629-47A8-A8A9-632E7FCF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E2F-E3BD-4F7B-A0FD-24435C03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B2F-FFDD-400A-ADCD-3F7DB531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0A3-2CB4-426E-999C-82CB8A17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748-E13C-462C-9AD7-1EC4698A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56C-AC69-4A09-9840-4FE836C5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BD4-38EC-4DE3-867C-2699CAC1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DAB-FC1F-4D07-8AB3-F2E25A4F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F41-F081-40F1-8FEA-B83D9FD4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25B-6ED9-4015-BE1B-9BC2205A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F299-BEDA-486F-AB36-8E04EB502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trol Presupuestario y </a:t>
            </a:r>
            <a:br>
              <a:rPr sz="3200"/>
            </a:b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l análisis de las desviaciones es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or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estra si los responsables están cumpliendo o no con los objetivos espec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ye un proceso de aprendiz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iación de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628640"/>
            <a:ext cx="417672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flexible y los resultado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3141720"/>
            <a:ext cx="57150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s en los precios unitarios de ventas, y en los costos variables y fij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4724280"/>
            <a:ext cx="449568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ien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 la empresa en el uso de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riación Vo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628640"/>
            <a:ext cx="41148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estático y el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68580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 del nivel de actividad (ventas de un menor o mayor número de unidades) y no a control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4869000"/>
            <a:ext cx="414468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a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n el logro de objetivos.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Presupuesto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404640"/>
            <a:ext cx="83059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Lucida Sans Unicode"/>
              </a:rPr>
              <a:t>Empresa de TV Cable: nivel de actividad y costos estimados e incur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Lucida Sans Unicode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úmero de suscriptores:  Estimados = 50.000 líneas     (Tarifa = $ 25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es        = 56.000 líneas    (Tarifa = $ 23.000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844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estim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29080" y="1676520"/>
            <a:ext cx="3886200" cy="2133360"/>
            <a:chOff x="2629080" y="1676520"/>
            <a:chExt cx="3886200" cy="2133360"/>
          </a:xfrm>
        </p:grpSpPr>
        <p:grpSp>
          <p:nvGrpSpPr>
            <p:cNvPr id="72" name=""/>
            <p:cNvGrpSpPr/>
            <p:nvPr/>
          </p:nvGrpSpPr>
          <p:grpSpPr>
            <a:xfrm>
              <a:off x="2631600" y="1680120"/>
              <a:ext cx="3880800" cy="2125080"/>
              <a:chOff x="2631600" y="1680120"/>
              <a:chExt cx="3880800" cy="21250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631600" y="1680120"/>
                <a:ext cx="3880800" cy="353880"/>
                <a:chOff x="2631600" y="1680120"/>
                <a:chExt cx="3880800" cy="353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649960" y="16801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631600" y="16801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631600" y="2034000"/>
                <a:ext cx="3880800" cy="353880"/>
                <a:chOff x="2631600" y="2034000"/>
                <a:chExt cx="3880800" cy="353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49960" y="203400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631600" y="203400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631600" y="2388240"/>
                <a:ext cx="3880800" cy="354240"/>
                <a:chOff x="2631600" y="2388240"/>
                <a:chExt cx="3880800" cy="3542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649960" y="2388240"/>
                  <a:ext cx="384336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631600" y="2388240"/>
                  <a:ext cx="388080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631600" y="2742840"/>
                <a:ext cx="3880800" cy="353880"/>
                <a:chOff x="2631600" y="2742840"/>
                <a:chExt cx="3880800" cy="353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49960" y="274284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631600" y="274284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31600" y="3097080"/>
                <a:ext cx="3880800" cy="353880"/>
                <a:chOff x="2631600" y="3097080"/>
                <a:chExt cx="3880800" cy="353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49960" y="309708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31600" y="309708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631600" y="3451320"/>
                <a:ext cx="3880800" cy="353880"/>
                <a:chOff x="2631600" y="3451320"/>
                <a:chExt cx="3880800" cy="353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49960" y="34513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631600" y="34513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2629080" y="1676520"/>
              <a:ext cx="38862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705720" y="1676520"/>
            <a:ext cx="2057400" cy="2133360"/>
            <a:chOff x="6705720" y="1676520"/>
            <a:chExt cx="2057400" cy="2133360"/>
          </a:xfrm>
        </p:grpSpPr>
        <p:grpSp>
          <p:nvGrpSpPr>
            <p:cNvPr id="93" name=""/>
            <p:cNvGrpSpPr/>
            <p:nvPr/>
          </p:nvGrpSpPr>
          <p:grpSpPr>
            <a:xfrm>
              <a:off x="6707160" y="1680120"/>
              <a:ext cx="2054520" cy="2125080"/>
              <a:chOff x="6707160" y="1680120"/>
              <a:chExt cx="2054520" cy="21250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707160" y="1680120"/>
                <a:ext cx="2054520" cy="353880"/>
                <a:chOff x="6707160" y="1680120"/>
                <a:chExt cx="2054520" cy="3538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716880" y="16801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707160" y="16801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707160" y="2034000"/>
                <a:ext cx="2054520" cy="353880"/>
                <a:chOff x="6707160" y="2034000"/>
                <a:chExt cx="2054520" cy="3538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716880" y="203400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707160" y="203400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707160" y="2388240"/>
                <a:ext cx="2054520" cy="354240"/>
                <a:chOff x="6707160" y="2388240"/>
                <a:chExt cx="2054520" cy="354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716880" y="2388240"/>
                  <a:ext cx="2034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07160" y="2388240"/>
                  <a:ext cx="205452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707160" y="2742840"/>
                <a:ext cx="2054520" cy="353880"/>
                <a:chOff x="6707160" y="2742840"/>
                <a:chExt cx="2054520" cy="353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716880" y="274284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707160" y="274284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07160" y="3097080"/>
                <a:ext cx="2054520" cy="353880"/>
                <a:chOff x="6707160" y="3097080"/>
                <a:chExt cx="2054520" cy="353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716880" y="309708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8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07160" y="309708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707160" y="3451320"/>
                <a:ext cx="2054520" cy="353880"/>
                <a:chOff x="6707160" y="3451320"/>
                <a:chExt cx="2054520" cy="353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716880" y="34513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1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707160" y="34513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6705720" y="1676520"/>
              <a:ext cx="20574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29080" y="4003560"/>
            <a:ext cx="3886200" cy="2397240"/>
            <a:chOff x="2629080" y="4003560"/>
            <a:chExt cx="3886200" cy="2397240"/>
          </a:xfrm>
        </p:grpSpPr>
        <p:grpSp>
          <p:nvGrpSpPr>
            <p:cNvPr id="114" name=""/>
            <p:cNvGrpSpPr/>
            <p:nvPr/>
          </p:nvGrpSpPr>
          <p:grpSpPr>
            <a:xfrm>
              <a:off x="2631600" y="4007880"/>
              <a:ext cx="3880800" cy="2388240"/>
              <a:chOff x="2631600" y="4007880"/>
              <a:chExt cx="3880800" cy="23882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631600" y="4007880"/>
                <a:ext cx="3880800" cy="397800"/>
                <a:chOff x="2631600" y="4007880"/>
                <a:chExt cx="3880800" cy="397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649960" y="40078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31600" y="40078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631600" y="4405680"/>
                <a:ext cx="3880800" cy="397800"/>
                <a:chOff x="2631600" y="4405680"/>
                <a:chExt cx="3880800" cy="3978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649960" y="44056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31600" y="44056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631600" y="4803840"/>
                <a:ext cx="3880800" cy="398160"/>
                <a:chOff x="2631600" y="4803840"/>
                <a:chExt cx="3880800" cy="398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649960" y="4803840"/>
                  <a:ext cx="3843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631600" y="4803840"/>
                  <a:ext cx="38808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31600" y="5202360"/>
                <a:ext cx="3880800" cy="397800"/>
                <a:chOff x="2631600" y="5202360"/>
                <a:chExt cx="3880800" cy="397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49960" y="52023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31600" y="52023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631600" y="5600160"/>
                <a:ext cx="3880800" cy="397800"/>
                <a:chOff x="2631600" y="5600160"/>
                <a:chExt cx="3880800" cy="3978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649960" y="56001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31600" y="56001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631600" y="5998320"/>
                <a:ext cx="3880800" cy="397800"/>
                <a:chOff x="2631600" y="5998320"/>
                <a:chExt cx="3880800" cy="3978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649960" y="599832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31600" y="599832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2629080" y="4003560"/>
              <a:ext cx="3886200" cy="239724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705720" y="4038480"/>
            <a:ext cx="2057400" cy="2362320"/>
            <a:chOff x="6705720" y="4038480"/>
            <a:chExt cx="2057400" cy="2362320"/>
          </a:xfrm>
        </p:grpSpPr>
        <p:grpSp>
          <p:nvGrpSpPr>
            <p:cNvPr id="135" name=""/>
            <p:cNvGrpSpPr/>
            <p:nvPr/>
          </p:nvGrpSpPr>
          <p:grpSpPr>
            <a:xfrm>
              <a:off x="6707160" y="4042440"/>
              <a:ext cx="2054520" cy="2353320"/>
              <a:chOff x="6707160" y="4042440"/>
              <a:chExt cx="2054520" cy="23533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707160" y="4042440"/>
                <a:ext cx="2054520" cy="392040"/>
                <a:chOff x="6707160" y="4042440"/>
                <a:chExt cx="2054520" cy="3920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716880" y="404244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07160" y="404244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707160" y="4434480"/>
                <a:ext cx="2054520" cy="392040"/>
                <a:chOff x="6707160" y="4434480"/>
                <a:chExt cx="2054520" cy="392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716880" y="44344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5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707160" y="44344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707160" y="4826880"/>
                <a:ext cx="2054520" cy="392400"/>
                <a:chOff x="6707160" y="4826880"/>
                <a:chExt cx="2054520" cy="3924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716880" y="4826880"/>
                  <a:ext cx="203472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707160" y="4826880"/>
                  <a:ext cx="20545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707160" y="5219280"/>
                <a:ext cx="2054520" cy="392040"/>
                <a:chOff x="6707160" y="5219280"/>
                <a:chExt cx="2054520" cy="3920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716880" y="52192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7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7160" y="52192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707160" y="5611680"/>
                <a:ext cx="2054520" cy="392040"/>
                <a:chOff x="6707160" y="5611680"/>
                <a:chExt cx="2054520" cy="3920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716880" y="56116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7160" y="56116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707160" y="6003720"/>
                <a:ext cx="2054520" cy="392040"/>
                <a:chOff x="6707160" y="6003720"/>
                <a:chExt cx="2054520" cy="392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716880" y="600372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  9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07160" y="600372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6705720" y="4038480"/>
              <a:ext cx="2057400" cy="23623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9640" y="39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reales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33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620640"/>
            <a:ext cx="3324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de Operació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28160" y="5153040"/>
            <a:ext cx="269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 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9625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1040" y="20559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400" y="236052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1040" y="289404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51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7339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42670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4956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34136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52578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 To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39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8148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848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5400" y="455760"/>
            <a:ext cx="28036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de Oper. 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EXIBLE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8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84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91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39600" y="5241960"/>
            <a:ext cx="136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6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257800"/>
            <a:ext cx="217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105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9120" y="1217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8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6576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9120" y="1903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9840" y="22082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9840" y="26654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9840" y="24368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9120" y="34275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3160" y="4646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8862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41148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1219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6720" y="46530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2670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458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248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5029200"/>
            <a:ext cx="5465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34160" y="63086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90160" y="6308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ar los conceptos de Presupuesto Flexible, Análisis de Desviaciones y Costo Estándar, y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ostos estándar 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m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04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supuesto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341360"/>
            <a:ext cx="822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Horngren, un presupuesto es la expresión formal, cuantitativa de los planes de un individuo, empresa u organización, que proporcionan un punto de referencia para medir el desempeño re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213000"/>
            <a:ext cx="55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3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Costo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el siguiente Centro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“Presupuesto para un periodo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idera precios y cantidad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“Costos históricos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tituyen los precios y costos reales obtenidos 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048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2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7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14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 10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ipos de Presupuesto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el horizonte y los objetivos los presupuestos pueden s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Maest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Estratég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fija los objetivos global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rganiz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de Largo Plazo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 est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financi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yectados para períodos entre 5 (quinquenal) y 1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de Capi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dica las inversiones que d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cer la empresa para las instalaciones, equipos y de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rsiones de largo plazo para el cumplimento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 propuestos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 como par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canzar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y la posición financie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id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upues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rgo plaz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Ma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xpresa de forma cuantitativa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nes de todas las subunidades para el primer añ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 del plan de largo plazo, por ta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ye las proyecciones de las operaciones de l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presupuesto de ventas, compras, costo de 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stos,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resupuest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resultados) y pre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anciero (presupuesto de capital, de efectivo y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lance general)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360" y="2836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Pre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Está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4365720"/>
            <a:ext cx="822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evaluación del desempeño a partir del presupuesto flexible se realiza al calcular y analizar las variaciones de volumen y de presupues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916280"/>
            <a:ext cx="82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Lucida Sans Unicode"/>
              </a:rPr>
              <a:t>Presupuesto Flex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 basa en los mismos supuestos y formatos del presupuesto maestro (estát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pero combinándolos con los cambios que implican las variaciones del nivel de ventas o actividad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094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racterísticas del Presupuesto Flexibl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141720"/>
            <a:ext cx="8294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necesidad de uso de los presupuestos flexibles obedece a que las discrepancias (variaciones) entre los resultados reales y los presupuestados se deben a causas distintas</a:t>
            </a:r>
            <a:r>
              <a:rPr b="1" lang="es-ES_tradnl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Control Presupuesta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viación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1:02:37Z</dcterms:created>
  <dc:creator>Marisela Morillo</dc:creator>
  <dc:description/>
  <dc:language>en-US</dc:language>
  <cp:lastModifiedBy>Ivan Alvarez Valdes</cp:lastModifiedBy>
  <dcterms:modified xsi:type="dcterms:W3CDTF">2008-09-05T00:42:22Z</dcterms:modified>
  <cp:revision>28</cp:revision>
  <dc:subject/>
  <dc:title>Presentación de PowerPoint</dc:title>
</cp:coreProperties>
</file>