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72DA-00CC-4CBF-B0B5-EF985C255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3694-654C-4536-B48C-DC31AAF7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0102-1951-4B3B-A318-319ED6C4A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C1D8-7A26-49E0-9A9D-42F11ECF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962B-E7DB-4282-B862-E52EAFFF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0C56-5AA0-43F5-AB1A-E0BC6001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A63E-38C8-4B5E-B9BB-7B6461DB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34C4-BD49-4365-9DB5-5644D735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2F54-757D-4837-B46C-F51B2516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C600-012F-486B-AAA5-D630388E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CD31-B90E-4AF4-B4C2-2551C6C2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5697-5481-4EF6-A937-F329500F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0316-6E2B-4ED1-B660-552695154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Control Presupuestario y </a:t>
            </a:r>
            <a:br>
              <a:rPr sz="3200"/>
            </a:b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Análisis de Desvi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35344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El análisis de las desviaciones es 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porq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uestra si los responsables están cumpliendo o no con los objetivos especific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mite el feed-back o proceso de retroalimentación, mediante el cual la empresa tomará las medidas correctivas para ajustarse a lo plane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tituye un proceso de aprendiz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ariación de Presupues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628640"/>
            <a:ext cx="417672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ferencia entre el presupuesto flexible y los resultados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8000" y="3141720"/>
            <a:ext cx="571500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mbios en los precios unitarios de ventas, y en los costos variables y fijos to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84720" y="4724280"/>
            <a:ext cx="449568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fleja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ficienc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e la empresa en el uso de sus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ariación Vol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628640"/>
            <a:ext cx="4114800" cy="703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ferencia entre el presupuesto estático y el flex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6858000" cy="703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mbio del nivel de actividad (ventas de un menor o mayor número de unidades) y no a control 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4869000"/>
            <a:ext cx="4144680" cy="703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fleja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ficac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en el logro de objetivos.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jemplo 1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Presupuesto Flex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404640"/>
            <a:ext cx="83059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Lucida Sans Unicode"/>
              </a:rPr>
              <a:t>Empresa de TV Cable: nivel de actividad y costos estimados e incurr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  <a:ea typeface="Lucida Sans Unicode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Número de suscriptores:  Estimados = 50.000 líneas     (Tarifa = $ 25.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ales        = 56.000 líneas    (Tarifa = $ 23.000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84464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Costos y gastos estimad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629080" y="1676520"/>
            <a:ext cx="3886200" cy="2133360"/>
            <a:chOff x="2629080" y="1676520"/>
            <a:chExt cx="3886200" cy="2133360"/>
          </a:xfrm>
        </p:grpSpPr>
        <p:grpSp>
          <p:nvGrpSpPr>
            <p:cNvPr id="72" name=""/>
            <p:cNvGrpSpPr/>
            <p:nvPr/>
          </p:nvGrpSpPr>
          <p:grpSpPr>
            <a:xfrm>
              <a:off x="2631600" y="1680120"/>
              <a:ext cx="3880800" cy="2125080"/>
              <a:chOff x="2631600" y="1680120"/>
              <a:chExt cx="3880800" cy="212508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2631600" y="1680120"/>
                <a:ext cx="3880800" cy="353880"/>
                <a:chOff x="2631600" y="1680120"/>
                <a:chExt cx="3880800" cy="3538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2649960" y="168012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Arriendo (fijo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2631600" y="168012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2631600" y="2034000"/>
                <a:ext cx="3880800" cy="353880"/>
                <a:chOff x="2631600" y="2034000"/>
                <a:chExt cx="3880800" cy="3538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2649960" y="203400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Administrativos (fijos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631600" y="203400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2631600" y="2388240"/>
                <a:ext cx="3880800" cy="354240"/>
                <a:chOff x="2631600" y="2388240"/>
                <a:chExt cx="3880800" cy="35424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2649960" y="2388240"/>
                  <a:ext cx="3843360" cy="35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de marketing (fijo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2631600" y="2388240"/>
                  <a:ext cx="3880800" cy="35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2631600" y="2742840"/>
                <a:ext cx="3880800" cy="353880"/>
                <a:chOff x="2631600" y="2742840"/>
                <a:chExt cx="3880800" cy="35388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2649960" y="274284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Materiales y mano de obra direct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631600" y="274284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2631600" y="3097080"/>
                <a:ext cx="3880800" cy="353880"/>
                <a:chOff x="2631600" y="3097080"/>
                <a:chExt cx="3880800" cy="35388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2649960" y="309708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de 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631600" y="309708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2631600" y="3451320"/>
                <a:ext cx="3880800" cy="353880"/>
                <a:chOff x="2631600" y="3451320"/>
                <a:chExt cx="3880800" cy="35388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2649960" y="345132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Administrativ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631600" y="345132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2629080" y="1676520"/>
              <a:ext cx="3886200" cy="213336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705720" y="1676520"/>
            <a:ext cx="2057400" cy="2133360"/>
            <a:chOff x="6705720" y="1676520"/>
            <a:chExt cx="2057400" cy="2133360"/>
          </a:xfrm>
        </p:grpSpPr>
        <p:grpSp>
          <p:nvGrpSpPr>
            <p:cNvPr id="93" name=""/>
            <p:cNvGrpSpPr/>
            <p:nvPr/>
          </p:nvGrpSpPr>
          <p:grpSpPr>
            <a:xfrm>
              <a:off x="6707160" y="1680120"/>
              <a:ext cx="2054520" cy="2125080"/>
              <a:chOff x="6707160" y="1680120"/>
              <a:chExt cx="2054520" cy="212508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6707160" y="1680120"/>
                <a:ext cx="2054520" cy="353880"/>
                <a:chOff x="6707160" y="1680120"/>
                <a:chExt cx="2054520" cy="3538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6716880" y="168012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5.0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707160" y="168012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6707160" y="2034000"/>
                <a:ext cx="2054520" cy="353880"/>
                <a:chOff x="6707160" y="2034000"/>
                <a:chExt cx="2054520" cy="35388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6716880" y="203400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10.0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6707160" y="203400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6707160" y="2388240"/>
                <a:ext cx="2054520" cy="354240"/>
                <a:chOff x="6707160" y="2388240"/>
                <a:chExt cx="2054520" cy="35424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6716880" y="2388240"/>
                  <a:ext cx="2034720" cy="35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10.000.000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707160" y="2388240"/>
                  <a:ext cx="2054520" cy="35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6707160" y="2742840"/>
                <a:ext cx="2054520" cy="353880"/>
                <a:chOff x="6707160" y="2742840"/>
                <a:chExt cx="2054520" cy="353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6716880" y="274284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5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707160" y="274284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6707160" y="3097080"/>
                <a:ext cx="2054520" cy="353880"/>
                <a:chOff x="6707160" y="3097080"/>
                <a:chExt cx="2054520" cy="353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6716880" y="309708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8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707160" y="309708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6707160" y="3451320"/>
                <a:ext cx="2054520" cy="353880"/>
                <a:chOff x="6707160" y="3451320"/>
                <a:chExt cx="2054520" cy="353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6716880" y="345132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1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707160" y="345132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2" name=""/>
            <p:cNvSpPr/>
            <p:nvPr/>
          </p:nvSpPr>
          <p:spPr>
            <a:xfrm>
              <a:off x="6705720" y="1676520"/>
              <a:ext cx="2057400" cy="213336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629080" y="4003560"/>
            <a:ext cx="3886200" cy="2397240"/>
            <a:chOff x="2629080" y="4003560"/>
            <a:chExt cx="3886200" cy="2397240"/>
          </a:xfrm>
        </p:grpSpPr>
        <p:grpSp>
          <p:nvGrpSpPr>
            <p:cNvPr id="114" name=""/>
            <p:cNvGrpSpPr/>
            <p:nvPr/>
          </p:nvGrpSpPr>
          <p:grpSpPr>
            <a:xfrm>
              <a:off x="2631600" y="4007880"/>
              <a:ext cx="3880800" cy="2388240"/>
              <a:chOff x="2631600" y="4007880"/>
              <a:chExt cx="3880800" cy="238824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2631600" y="4007880"/>
                <a:ext cx="3880800" cy="397800"/>
                <a:chOff x="2631600" y="4007880"/>
                <a:chExt cx="3880800" cy="3978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2649960" y="400788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Arriendo (fijo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631600" y="400788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2631600" y="4405680"/>
                <a:ext cx="3880800" cy="397800"/>
                <a:chOff x="2631600" y="4405680"/>
                <a:chExt cx="3880800" cy="3978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649960" y="440568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Administrativos (fijos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31600" y="440568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2631600" y="4803840"/>
                <a:ext cx="3880800" cy="398160"/>
                <a:chOff x="2631600" y="4803840"/>
                <a:chExt cx="3880800" cy="39816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2649960" y="4803840"/>
                  <a:ext cx="3843360" cy="39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de marketing (fijo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631600" y="4803840"/>
                  <a:ext cx="3880800" cy="39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2631600" y="5202360"/>
                <a:ext cx="3880800" cy="397800"/>
                <a:chOff x="2631600" y="5202360"/>
                <a:chExt cx="3880800" cy="3978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649960" y="520236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Materiales y mano de obra direct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631600" y="520236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2631600" y="5600160"/>
                <a:ext cx="3880800" cy="397800"/>
                <a:chOff x="2631600" y="5600160"/>
                <a:chExt cx="3880800" cy="3978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2649960" y="560016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de 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631600" y="560016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2631600" y="5998320"/>
                <a:ext cx="3880800" cy="397800"/>
                <a:chOff x="2631600" y="5998320"/>
                <a:chExt cx="3880800" cy="3978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649960" y="599832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Administrativ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631600" y="599832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3" name=""/>
            <p:cNvSpPr/>
            <p:nvPr/>
          </p:nvSpPr>
          <p:spPr>
            <a:xfrm>
              <a:off x="2629080" y="4003560"/>
              <a:ext cx="3886200" cy="239724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705720" y="4038480"/>
            <a:ext cx="2057400" cy="2362320"/>
            <a:chOff x="6705720" y="4038480"/>
            <a:chExt cx="2057400" cy="2362320"/>
          </a:xfrm>
        </p:grpSpPr>
        <p:grpSp>
          <p:nvGrpSpPr>
            <p:cNvPr id="135" name=""/>
            <p:cNvGrpSpPr/>
            <p:nvPr/>
          </p:nvGrpSpPr>
          <p:grpSpPr>
            <a:xfrm>
              <a:off x="6707160" y="4042440"/>
              <a:ext cx="2054520" cy="2353320"/>
              <a:chOff x="6707160" y="4042440"/>
              <a:chExt cx="2054520" cy="235332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6707160" y="4042440"/>
                <a:ext cx="2054520" cy="392040"/>
                <a:chOff x="6707160" y="4042440"/>
                <a:chExt cx="2054520" cy="3920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6716880" y="404244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6.0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707160" y="404244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6707160" y="4434480"/>
                <a:ext cx="2054520" cy="392040"/>
                <a:chOff x="6707160" y="4434480"/>
                <a:chExt cx="2054520" cy="3920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6716880" y="443448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9.5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707160" y="443448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6707160" y="4826880"/>
                <a:ext cx="2054520" cy="392400"/>
                <a:chOff x="6707160" y="4826880"/>
                <a:chExt cx="2054520" cy="39240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6716880" y="4826880"/>
                  <a:ext cx="203472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9.000.000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707160" y="4826880"/>
                  <a:ext cx="205452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6707160" y="5219280"/>
                <a:ext cx="2054520" cy="392040"/>
                <a:chOff x="6707160" y="5219280"/>
                <a:chExt cx="2054520" cy="3920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716880" y="521928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7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707160" y="521928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6707160" y="5611680"/>
                <a:ext cx="2054520" cy="392040"/>
                <a:chOff x="6707160" y="5611680"/>
                <a:chExt cx="2054520" cy="3920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6716880" y="561168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6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707160" y="561168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6707160" y="6003720"/>
                <a:ext cx="2054520" cy="392040"/>
                <a:chOff x="6707160" y="6003720"/>
                <a:chExt cx="2054520" cy="3920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6716880" y="600372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  9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707160" y="600372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6705720" y="4038480"/>
              <a:ext cx="2057400" cy="236232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39640" y="39337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Costos y gastos reales: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1337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620640"/>
            <a:ext cx="33242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da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eriales y Mano de O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tos de Operación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tos Adm.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rend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reciaciones de equi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tos Adm. 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380880"/>
            <a:ext cx="19047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RESUPUE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ST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2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0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380880"/>
            <a:ext cx="19047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RESULTADOS RE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5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.28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392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33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50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778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9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9.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4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85.1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28160" y="5153040"/>
            <a:ext cx="269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F- :  Variación 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D- : Variación des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48520" y="396252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51040" y="205596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51400" y="236052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51040" y="289404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51040" y="25891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37339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426708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48520" y="449568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00720" y="134136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10080" y="525780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  Tot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favor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 39.9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81480" y="5181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848720" y="51051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5562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9152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95400" y="455760"/>
            <a:ext cx="28036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ida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ateriales y mano de o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tos de Oper. 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tos Adm.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otal 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rend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preciaciones de equi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tos Adm. 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otal 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228600"/>
            <a:ext cx="1905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RESUPUE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ST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2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0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228600"/>
            <a:ext cx="1905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RESUPUE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LEXIBLE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8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48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5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84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91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10280" y="228600"/>
            <a:ext cx="1905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RESULTADOS RE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5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.28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392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33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50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778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9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9.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4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85.1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39600" y="5241960"/>
            <a:ext cx="1364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 6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5257800"/>
            <a:ext cx="217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 105.9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89120" y="12175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08040" y="25891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86600" y="36576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9120" y="19033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89840" y="220824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89840" y="266544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89840" y="243684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89120" y="342756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13160" y="46465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86600" y="38862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86600" y="41148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121932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76720" y="46530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26708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845820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2485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6708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0100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5029200"/>
            <a:ext cx="5465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- :  Variación 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D-: Variación des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34160" y="630864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Efic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90160" y="63086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jemplo 2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Análisis de Desvi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95280" y="304920"/>
            <a:ext cx="813924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28600" y="318960"/>
            <a:ext cx="86868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Objetivo de la C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visar los conceptos de Presupuesto Flexible, Análisis de Desviaciones y Costo Estándar, y su apl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04920" y="620640"/>
            <a:ext cx="85341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5820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81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10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818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Costos Están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0000"/>
                </a:solidFill>
                <a:latin typeface="Arial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écnica de la contabilidad de costos que compara el costo considerado normal de cada producto, servicio o elemento con su costo re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costos estándar son costos preestablecidos, se calculan antes de comenzar las oper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 una herramienta del control presupues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mite evaluar la eficiencia de la gestión y tomar inmediatamente las acciones correctivas que se estimen pertin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igual que con los costos históricos, se pueden combinar con los métodos de costeo variable y absobente, y con los sistemas de costos por procesos y por órdenes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medida que se conocen los costos e ingresos reales, se van registrando en la contabilidad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os datos reales se comparan con los estándar, y las desviaciones entre unos y otros se ponen de manifiesto por el propio sistema con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Ventajas de los Costos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cilitan la “dirección por excepción”, que consiste en centrar la atención de la dirección en aquellas situaciones que se apartan de la norm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cilitan la valoración de los stocks y la fijación de precios, entre o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igen una definición de responsabilidades por centros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ipos de Costos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datos de la empresa en ejercicios anteri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datos de la empresa en ejercicios anteriores, pero correg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estudios técnicos. En este caso el estándar puede represent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mejor actuación po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a actuación efi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4360" y="40464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esupuesto</a:t>
            </a:r>
            <a:r>
              <a:rPr b="1" lang="en-US" sz="3200" spc="-1" strike="noStrike">
                <a:solidFill>
                  <a:srgbClr val="333399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1341360"/>
            <a:ext cx="822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gún Horngren, un presupuesto es la expresión formal, cuantitativa de los planes de un individuo, empresa u organización, que proporcionan un punto de referencia para medir el desempeño re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3213000"/>
            <a:ext cx="556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7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jemplo 3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Costo Está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idere el siguiente Centro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“Presupuesto para un periodo”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nsidera precios y cantidades estánd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_tradnl" sz="2000" spc="-1" strike="noStrike">
                <a:solidFill>
                  <a:srgbClr val="cc0099"/>
                </a:solidFill>
                <a:latin typeface="Arial"/>
              </a:rPr>
              <a:t>“Costos históricos”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nstituyen los precios y costos reales obtenidos en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476360" y="549360"/>
            <a:ext cx="604836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624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Desviaciones en Materias Pr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Global =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500 x 800 x 6 – 550 x 800 x 5 = 2.400.000 – 2.200.000 = 2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as cantidades (técn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500x800 – 550x800) x 6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24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os precios (económ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6 - 5) x 550 x 800 = + 44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47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Desviaciones en Man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Global =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5 x 800 x 40 – 26,25 x 800 x 45 = 800.000 – 945.000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14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as cantidades (técn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25x800 – 26,25x800) x 40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4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os precios (económ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40 - 45) x 26,25 x 800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 10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ipos de Presupuestos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ún el horizonte y los objetivos los presupuestos pueden s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Estraté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de Largo Plaz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upuesto de Cap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upuesto Maest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lan Estratég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fija los objetivos globale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organiz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lan de Largo Plazo,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nera estad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financier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yectados para períodos entre 5 (quinquenal) y 1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resupuesto de Capit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dica las inversiones que de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acer la empresa para las instalaciones, equipos y dem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versiones de largo plazo para el cumplimento de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bjetivos propuestos,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í como par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canzar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ultados y la posición financier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blecid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upuest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largo plaz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resupuesto Mae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xpresa de forma cuantitativa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lanes de todas las subunidades para el primer año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eraciones del plan de largo plazo, por ta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cluye las proyecciones de las operaciones de la empre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presupuesto de ventas, compras, costo de produc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astos,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presupuesto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resultados) y presupu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inanciero (presupuesto de capital, de efectivo y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lance general)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360" y="283680"/>
            <a:ext cx="7704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Presu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4247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Presupuesto Estátic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basa en el nivel de producción planificado al inicio del periodo del presupue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Presupuesto Flexibl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desarrolla considerando los precios y costos variables presupuestados y el nivel de producción r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4365720"/>
            <a:ext cx="822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La evaluación del desempeño a partir del presupuesto flexible se realiza al calcular y analizar las variaciones de volumen y de presupuesto flexible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916280"/>
            <a:ext cx="829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l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Lucida Sans Unicode"/>
              </a:rPr>
              <a:t>Presupuesto Flexibl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se basa en los mismos supuestos y formatos del presupuesto maestro (estátic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pero combinándolos con los cambios que implican las variaciones del nivel de ventas o actividade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6094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aracterísticas del Presupuesto Flexible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3141720"/>
            <a:ext cx="82947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La necesidad de uso de los presupuestos flexibles obedece a que las discrepancias (variaciones) entre los resultados reales y los presupuestados se deben a causas distintas</a:t>
            </a:r>
            <a:r>
              <a:rPr b="1" lang="es-ES_tradnl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.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53316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rol Presupuestario y Análisis de Desvi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84872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Control Presupuestar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roceso permanente de comparación entre lo planificado (plasmado en los presupuestos) y lo acontecido en la re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Desviación</a:t>
            </a: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iferencia entre el resultado real y el proyectado (puede ser favorable o desfavor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21:02:37Z</dcterms:created>
  <dc:creator>Marisela Morillo</dc:creator>
  <dc:description/>
  <dc:language>en-US</dc:language>
  <cp:lastModifiedBy>Ivan Alvarez Valdes</cp:lastModifiedBy>
  <dcterms:modified xsi:type="dcterms:W3CDTF">2008-09-05T00:42:22Z</dcterms:modified>
  <cp:revision>28</cp:revision>
  <dc:subject/>
  <dc:title>Presentación de PowerPoint</dc:title>
</cp:coreProperties>
</file>