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40732-AD0A-4CE8-8FBF-CA8A85382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91AFA-ABA8-4ECB-9020-91B59CF90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7FC50-ABBD-47D1-AA5D-92579C085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FEFC4-288F-4D84-B043-758A303B7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C54BD-6E9B-4659-B936-827D90C17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7D7A6-0B3D-4F9D-B940-A6065716C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34D76-C92D-4EF9-B7FC-6641CA440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072A3-CC4E-4AA1-ABCD-C68A39823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17152-14DF-4B86-A7CA-9C9908577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7F5FC-DCFC-472D-A59A-EA3FB20D3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9050C-0A3B-4902-BC2D-2E7120966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C9A23-484A-4053-9A79-368C03F81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004BE-3AA2-46EE-9192-099BF172B5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Arial"/>
              </a:rPr>
              <a:t>Control Presupuestario y </a:t>
            </a:r>
            <a:br>
              <a:rPr sz="3200"/>
            </a:br>
            <a:r>
              <a:rPr b="1" lang="es-ES_tradnl" sz="3200" spc="-1" strike="noStrike">
                <a:solidFill>
                  <a:srgbClr val="333399"/>
                </a:solidFill>
                <a:latin typeface="Arial"/>
              </a:rPr>
              <a:t>Análisis de Desviac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395280" y="549000"/>
            <a:ext cx="8353440" cy="55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99"/>
                </a:solidFill>
                <a:latin typeface="Arial"/>
              </a:rPr>
              <a:t>El análisis de las desviaciones es importa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99"/>
                </a:solidFill>
                <a:latin typeface="Arial"/>
              </a:rPr>
              <a:t>porqu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uestra si los responsables están cumpliendo o no con los objetivos especificad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ermite el feed-back o proceso de retroalimentación, mediante el cual la empresa tomará las medidas correctivas para ajustarse a lo planea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nstituye un proceso de aprendizaj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Variación de Presupues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39640" y="1628640"/>
            <a:ext cx="4176720" cy="7038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Diferencia entre el presupuesto flexible y los resultados re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08000" y="3141720"/>
            <a:ext cx="5715000" cy="7038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Cambios en los precios unitarios de ventas, y en los costos variables y fijos tot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284720" y="4724280"/>
            <a:ext cx="4495680" cy="7038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Refleja l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eficienci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de la empresa en el uso de sus recurs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Variación Volu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68360" y="1628640"/>
            <a:ext cx="4114800" cy="703800"/>
          </a:xfrm>
          <a:prstGeom prst="rect">
            <a:avLst/>
          </a:prstGeom>
          <a:noFill/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Diferencia entre el presupuesto estático y el flexi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403280" y="3141720"/>
            <a:ext cx="6858000" cy="703800"/>
          </a:xfrm>
          <a:prstGeom prst="rect">
            <a:avLst/>
          </a:prstGeom>
          <a:noFill/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Cambio del nivel de actividad (ventas de un menor o mayor número de unidades) y no a control de cos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500720" y="4869000"/>
            <a:ext cx="4144680" cy="703800"/>
          </a:xfrm>
          <a:prstGeom prst="rect">
            <a:avLst/>
          </a:prstGeom>
          <a:noFill/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Refleja l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eficaci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en el logro de objetivos.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Arial"/>
              </a:rPr>
              <a:t>Ejemplo 1</a:t>
            </a:r>
            <a:br>
              <a:rPr sz="4400"/>
            </a:br>
            <a:r>
              <a:rPr b="0" lang="es-ES_tradnl" sz="4400" spc="-1" strike="noStrike">
                <a:solidFill>
                  <a:srgbClr val="333399"/>
                </a:solidFill>
                <a:latin typeface="Arial"/>
              </a:rPr>
              <a:t>Presupuesto Flexi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457200" y="404640"/>
            <a:ext cx="8305920" cy="12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Lucida Sans Unicode"/>
              </a:rPr>
              <a:t>Empresa de TV Cable: nivel de actividad y costos estimados e incurri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0000"/>
                </a:solidFill>
                <a:latin typeface="Arial"/>
                <a:ea typeface="Lucida Sans Unicode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Lucida Sans Unicode"/>
              </a:rPr>
              <a:t>Número de suscriptores:  Estimados = 50.000 líneas     (Tarifa = $ 25.00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Lucida Sans Unicode"/>
              </a:rPr>
              <a:t>                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Lucida Sans Unicode"/>
              </a:rPr>
              <a:t>Reales        = 56.000 líneas    (Tarifa = $ 23.000)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39640" y="1844640"/>
            <a:ext cx="1447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Lucida Sans Unicode"/>
              </a:rPr>
              <a:t>Costos y gastos estimado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2629080" y="1676520"/>
            <a:ext cx="3886200" cy="2133360"/>
            <a:chOff x="2629080" y="1676520"/>
            <a:chExt cx="3886200" cy="2133360"/>
          </a:xfrm>
        </p:grpSpPr>
        <p:grpSp>
          <p:nvGrpSpPr>
            <p:cNvPr id="72" name=""/>
            <p:cNvGrpSpPr/>
            <p:nvPr/>
          </p:nvGrpSpPr>
          <p:grpSpPr>
            <a:xfrm>
              <a:off x="2631600" y="1680120"/>
              <a:ext cx="3880800" cy="2125080"/>
              <a:chOff x="2631600" y="1680120"/>
              <a:chExt cx="3880800" cy="2125080"/>
            </a:xfrm>
          </p:grpSpPr>
          <p:grpSp>
            <p:nvGrpSpPr>
              <p:cNvPr id="73" name=""/>
              <p:cNvGrpSpPr/>
              <p:nvPr/>
            </p:nvGrpSpPr>
            <p:grpSpPr>
              <a:xfrm>
                <a:off x="2631600" y="1680120"/>
                <a:ext cx="3880800" cy="353880"/>
                <a:chOff x="2631600" y="1680120"/>
                <a:chExt cx="3880800" cy="353880"/>
              </a:xfrm>
            </p:grpSpPr>
            <p:sp>
              <p:nvSpPr>
                <p:cNvPr id="74" name=""/>
                <p:cNvSpPr/>
                <p:nvPr/>
              </p:nvSpPr>
              <p:spPr>
                <a:xfrm>
                  <a:off x="2649960" y="1680120"/>
                  <a:ext cx="3843360" cy="35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Lucida Sans Unicode"/>
                    </a:rPr>
                    <a:t>Arriendo (fijo)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2631600" y="1680120"/>
                  <a:ext cx="3880800" cy="353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" name=""/>
              <p:cNvGrpSpPr/>
              <p:nvPr/>
            </p:nvGrpSpPr>
            <p:grpSpPr>
              <a:xfrm>
                <a:off x="2631600" y="2034000"/>
                <a:ext cx="3880800" cy="353880"/>
                <a:chOff x="2631600" y="2034000"/>
                <a:chExt cx="3880800" cy="353880"/>
              </a:xfrm>
            </p:grpSpPr>
            <p:sp>
              <p:nvSpPr>
                <p:cNvPr id="77" name=""/>
                <p:cNvSpPr/>
                <p:nvPr/>
              </p:nvSpPr>
              <p:spPr>
                <a:xfrm>
                  <a:off x="2649960" y="2034000"/>
                  <a:ext cx="3843360" cy="35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Lucida Sans Unicode"/>
                    </a:rPr>
                    <a:t>Gastos Administrativos (fijos)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2631600" y="2034000"/>
                  <a:ext cx="3880800" cy="353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" name=""/>
              <p:cNvGrpSpPr/>
              <p:nvPr/>
            </p:nvGrpSpPr>
            <p:grpSpPr>
              <a:xfrm>
                <a:off x="2631600" y="2388240"/>
                <a:ext cx="3880800" cy="354240"/>
                <a:chOff x="2631600" y="2388240"/>
                <a:chExt cx="3880800" cy="354240"/>
              </a:xfrm>
            </p:grpSpPr>
            <p:sp>
              <p:nvSpPr>
                <p:cNvPr id="80" name=""/>
                <p:cNvSpPr/>
                <p:nvPr/>
              </p:nvSpPr>
              <p:spPr>
                <a:xfrm>
                  <a:off x="2649960" y="2388240"/>
                  <a:ext cx="3843360" cy="35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Lucida Sans Unicode"/>
                    </a:rPr>
                    <a:t>Gastos de marketing (fijos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" name=""/>
                <p:cNvSpPr/>
                <p:nvPr/>
              </p:nvSpPr>
              <p:spPr>
                <a:xfrm>
                  <a:off x="2631600" y="2388240"/>
                  <a:ext cx="3880800" cy="354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" name=""/>
              <p:cNvGrpSpPr/>
              <p:nvPr/>
            </p:nvGrpSpPr>
            <p:grpSpPr>
              <a:xfrm>
                <a:off x="2631600" y="2742840"/>
                <a:ext cx="3880800" cy="353880"/>
                <a:chOff x="2631600" y="2742840"/>
                <a:chExt cx="3880800" cy="353880"/>
              </a:xfrm>
            </p:grpSpPr>
            <p:sp>
              <p:nvSpPr>
                <p:cNvPr id="83" name=""/>
                <p:cNvSpPr/>
                <p:nvPr/>
              </p:nvSpPr>
              <p:spPr>
                <a:xfrm>
                  <a:off x="2649960" y="2742840"/>
                  <a:ext cx="3843360" cy="35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Lucida Sans Unicode"/>
                    </a:rPr>
                    <a:t>Materiales y mano de obra directa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>
                  <a:off x="2631600" y="2742840"/>
                  <a:ext cx="3880800" cy="353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" name=""/>
              <p:cNvGrpSpPr/>
              <p:nvPr/>
            </p:nvGrpSpPr>
            <p:grpSpPr>
              <a:xfrm>
                <a:off x="2631600" y="3097080"/>
                <a:ext cx="3880800" cy="353880"/>
                <a:chOff x="2631600" y="3097080"/>
                <a:chExt cx="3880800" cy="353880"/>
              </a:xfrm>
            </p:grpSpPr>
            <p:sp>
              <p:nvSpPr>
                <p:cNvPr id="86" name=""/>
                <p:cNvSpPr/>
                <p:nvPr/>
              </p:nvSpPr>
              <p:spPr>
                <a:xfrm>
                  <a:off x="2649960" y="3097080"/>
                  <a:ext cx="3843360" cy="35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Lucida Sans Unicode"/>
                    </a:rPr>
                    <a:t>Gastos de operación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>
                  <a:off x="2631600" y="3097080"/>
                  <a:ext cx="3880800" cy="353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" name=""/>
              <p:cNvGrpSpPr/>
              <p:nvPr/>
            </p:nvGrpSpPr>
            <p:grpSpPr>
              <a:xfrm>
                <a:off x="2631600" y="3451320"/>
                <a:ext cx="3880800" cy="353880"/>
                <a:chOff x="2631600" y="3451320"/>
                <a:chExt cx="3880800" cy="353880"/>
              </a:xfrm>
            </p:grpSpPr>
            <p:sp>
              <p:nvSpPr>
                <p:cNvPr id="89" name=""/>
                <p:cNvSpPr/>
                <p:nvPr/>
              </p:nvSpPr>
              <p:spPr>
                <a:xfrm>
                  <a:off x="2649960" y="3451320"/>
                  <a:ext cx="3843360" cy="35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Lucida Sans Unicode"/>
                    </a:rPr>
                    <a:t>Gastos Administrativo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>
                  <a:off x="2631600" y="3451320"/>
                  <a:ext cx="3880800" cy="353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91" name=""/>
            <p:cNvSpPr/>
            <p:nvPr/>
          </p:nvSpPr>
          <p:spPr>
            <a:xfrm>
              <a:off x="2629080" y="1676520"/>
              <a:ext cx="3886200" cy="2133360"/>
            </a:xfrm>
            <a:prstGeom prst="rect">
              <a:avLst/>
            </a:prstGeom>
            <a:noFill/>
            <a:ln w="1440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6705720" y="1676520"/>
            <a:ext cx="2057400" cy="2133360"/>
            <a:chOff x="6705720" y="1676520"/>
            <a:chExt cx="2057400" cy="2133360"/>
          </a:xfrm>
        </p:grpSpPr>
        <p:grpSp>
          <p:nvGrpSpPr>
            <p:cNvPr id="93" name=""/>
            <p:cNvGrpSpPr/>
            <p:nvPr/>
          </p:nvGrpSpPr>
          <p:grpSpPr>
            <a:xfrm>
              <a:off x="6707160" y="1680120"/>
              <a:ext cx="2054520" cy="2125080"/>
              <a:chOff x="6707160" y="1680120"/>
              <a:chExt cx="2054520" cy="2125080"/>
            </a:xfrm>
          </p:grpSpPr>
          <p:grpSp>
            <p:nvGrpSpPr>
              <p:cNvPr id="94" name=""/>
              <p:cNvGrpSpPr/>
              <p:nvPr/>
            </p:nvGrpSpPr>
            <p:grpSpPr>
              <a:xfrm>
                <a:off x="6707160" y="1680120"/>
                <a:ext cx="2054520" cy="353880"/>
                <a:chOff x="6707160" y="1680120"/>
                <a:chExt cx="2054520" cy="353880"/>
              </a:xfrm>
            </p:grpSpPr>
            <p:sp>
              <p:nvSpPr>
                <p:cNvPr id="95" name=""/>
                <p:cNvSpPr/>
                <p:nvPr/>
              </p:nvSpPr>
              <p:spPr>
                <a:xfrm>
                  <a:off x="6716880" y="1680120"/>
                  <a:ext cx="2034720" cy="35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  <a:ea typeface="Lucida Sans Unicode"/>
                    </a:rPr>
                    <a:t>$   5.000.00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" name=""/>
                <p:cNvSpPr/>
                <p:nvPr/>
              </p:nvSpPr>
              <p:spPr>
                <a:xfrm>
                  <a:off x="6707160" y="1680120"/>
                  <a:ext cx="2054520" cy="353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7" name=""/>
              <p:cNvGrpSpPr/>
              <p:nvPr/>
            </p:nvGrpSpPr>
            <p:grpSpPr>
              <a:xfrm>
                <a:off x="6707160" y="2034000"/>
                <a:ext cx="2054520" cy="353880"/>
                <a:chOff x="6707160" y="2034000"/>
                <a:chExt cx="2054520" cy="353880"/>
              </a:xfrm>
            </p:grpSpPr>
            <p:sp>
              <p:nvSpPr>
                <p:cNvPr id="98" name=""/>
                <p:cNvSpPr/>
                <p:nvPr/>
              </p:nvSpPr>
              <p:spPr>
                <a:xfrm>
                  <a:off x="6716880" y="2034000"/>
                  <a:ext cx="2034720" cy="35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  <a:ea typeface="Lucida Sans Unicode"/>
                    </a:rPr>
                    <a:t>$ 10.000.00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" name=""/>
                <p:cNvSpPr/>
                <p:nvPr/>
              </p:nvSpPr>
              <p:spPr>
                <a:xfrm>
                  <a:off x="6707160" y="2034000"/>
                  <a:ext cx="2054520" cy="353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0" name=""/>
              <p:cNvGrpSpPr/>
              <p:nvPr/>
            </p:nvGrpSpPr>
            <p:grpSpPr>
              <a:xfrm>
                <a:off x="6707160" y="2388240"/>
                <a:ext cx="2054520" cy="354240"/>
                <a:chOff x="6707160" y="2388240"/>
                <a:chExt cx="2054520" cy="354240"/>
              </a:xfrm>
            </p:grpSpPr>
            <p:sp>
              <p:nvSpPr>
                <p:cNvPr id="101" name=""/>
                <p:cNvSpPr/>
                <p:nvPr/>
              </p:nvSpPr>
              <p:spPr>
                <a:xfrm>
                  <a:off x="6716880" y="2388240"/>
                  <a:ext cx="2034720" cy="35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  <a:ea typeface="Lucida Sans Unicode"/>
                    </a:rPr>
                    <a:t>$ 10.000.000 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6707160" y="2388240"/>
                  <a:ext cx="2054520" cy="354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3" name=""/>
              <p:cNvGrpSpPr/>
              <p:nvPr/>
            </p:nvGrpSpPr>
            <p:grpSpPr>
              <a:xfrm>
                <a:off x="6707160" y="2742840"/>
                <a:ext cx="2054520" cy="353880"/>
                <a:chOff x="6707160" y="2742840"/>
                <a:chExt cx="2054520" cy="353880"/>
              </a:xfrm>
            </p:grpSpPr>
            <p:sp>
              <p:nvSpPr>
                <p:cNvPr id="104" name=""/>
                <p:cNvSpPr/>
                <p:nvPr/>
              </p:nvSpPr>
              <p:spPr>
                <a:xfrm>
                  <a:off x="6716880" y="2742840"/>
                  <a:ext cx="2034720" cy="35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  <a:ea typeface="Lucida Sans Unicode"/>
                    </a:rPr>
                    <a:t>$   5.000/lin.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6707160" y="2742840"/>
                  <a:ext cx="2054520" cy="353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6" name=""/>
              <p:cNvGrpSpPr/>
              <p:nvPr/>
            </p:nvGrpSpPr>
            <p:grpSpPr>
              <a:xfrm>
                <a:off x="6707160" y="3097080"/>
                <a:ext cx="2054520" cy="353880"/>
                <a:chOff x="6707160" y="3097080"/>
                <a:chExt cx="2054520" cy="353880"/>
              </a:xfrm>
            </p:grpSpPr>
            <p:sp>
              <p:nvSpPr>
                <p:cNvPr id="107" name=""/>
                <p:cNvSpPr/>
                <p:nvPr/>
              </p:nvSpPr>
              <p:spPr>
                <a:xfrm>
                  <a:off x="6716880" y="3097080"/>
                  <a:ext cx="2034720" cy="35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  <a:ea typeface="Lucida Sans Unicode"/>
                    </a:rPr>
                    <a:t>$   8.000/lin.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6707160" y="3097080"/>
                  <a:ext cx="2054520" cy="353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" name=""/>
              <p:cNvGrpSpPr/>
              <p:nvPr/>
            </p:nvGrpSpPr>
            <p:grpSpPr>
              <a:xfrm>
                <a:off x="6707160" y="3451320"/>
                <a:ext cx="2054520" cy="353880"/>
                <a:chOff x="6707160" y="3451320"/>
                <a:chExt cx="2054520" cy="353880"/>
              </a:xfrm>
            </p:grpSpPr>
            <p:sp>
              <p:nvSpPr>
                <p:cNvPr id="110" name=""/>
                <p:cNvSpPr/>
                <p:nvPr/>
              </p:nvSpPr>
              <p:spPr>
                <a:xfrm>
                  <a:off x="6716880" y="3451320"/>
                  <a:ext cx="2034720" cy="35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  <a:ea typeface="Lucida Sans Unicode"/>
                    </a:rPr>
                    <a:t>$   1.000/lin.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6707160" y="3451320"/>
                  <a:ext cx="2054520" cy="353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12" name=""/>
            <p:cNvSpPr/>
            <p:nvPr/>
          </p:nvSpPr>
          <p:spPr>
            <a:xfrm>
              <a:off x="6705720" y="1676520"/>
              <a:ext cx="2057400" cy="2133360"/>
            </a:xfrm>
            <a:prstGeom prst="rect">
              <a:avLst/>
            </a:prstGeom>
            <a:noFill/>
            <a:ln w="1440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2629080" y="4003560"/>
            <a:ext cx="3886200" cy="2397240"/>
            <a:chOff x="2629080" y="4003560"/>
            <a:chExt cx="3886200" cy="2397240"/>
          </a:xfrm>
        </p:grpSpPr>
        <p:grpSp>
          <p:nvGrpSpPr>
            <p:cNvPr id="114" name=""/>
            <p:cNvGrpSpPr/>
            <p:nvPr/>
          </p:nvGrpSpPr>
          <p:grpSpPr>
            <a:xfrm>
              <a:off x="2631600" y="4007880"/>
              <a:ext cx="3880800" cy="2388240"/>
              <a:chOff x="2631600" y="4007880"/>
              <a:chExt cx="3880800" cy="2388240"/>
            </a:xfrm>
          </p:grpSpPr>
          <p:grpSp>
            <p:nvGrpSpPr>
              <p:cNvPr id="115" name=""/>
              <p:cNvGrpSpPr/>
              <p:nvPr/>
            </p:nvGrpSpPr>
            <p:grpSpPr>
              <a:xfrm>
                <a:off x="2631600" y="4007880"/>
                <a:ext cx="3880800" cy="397800"/>
                <a:chOff x="2631600" y="4007880"/>
                <a:chExt cx="3880800" cy="397800"/>
              </a:xfrm>
            </p:grpSpPr>
            <p:sp>
              <p:nvSpPr>
                <p:cNvPr id="116" name=""/>
                <p:cNvSpPr/>
                <p:nvPr/>
              </p:nvSpPr>
              <p:spPr>
                <a:xfrm>
                  <a:off x="2649960" y="4007880"/>
                  <a:ext cx="3843360" cy="397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Lucida Sans Unicode"/>
                    </a:rPr>
                    <a:t>Arriendo (fijo)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2631600" y="4007880"/>
                  <a:ext cx="3880800" cy="397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8" name=""/>
              <p:cNvGrpSpPr/>
              <p:nvPr/>
            </p:nvGrpSpPr>
            <p:grpSpPr>
              <a:xfrm>
                <a:off x="2631600" y="4405680"/>
                <a:ext cx="3880800" cy="397800"/>
                <a:chOff x="2631600" y="4405680"/>
                <a:chExt cx="3880800" cy="39780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2649960" y="4405680"/>
                  <a:ext cx="3843360" cy="397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Lucida Sans Unicode"/>
                    </a:rPr>
                    <a:t>Gastos Administrativos (fijos)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2631600" y="4405680"/>
                  <a:ext cx="3880800" cy="397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1" name=""/>
              <p:cNvGrpSpPr/>
              <p:nvPr/>
            </p:nvGrpSpPr>
            <p:grpSpPr>
              <a:xfrm>
                <a:off x="2631600" y="4803840"/>
                <a:ext cx="3880800" cy="398160"/>
                <a:chOff x="2631600" y="4803840"/>
                <a:chExt cx="3880800" cy="398160"/>
              </a:xfrm>
            </p:grpSpPr>
            <p:sp>
              <p:nvSpPr>
                <p:cNvPr id="122" name=""/>
                <p:cNvSpPr/>
                <p:nvPr/>
              </p:nvSpPr>
              <p:spPr>
                <a:xfrm>
                  <a:off x="2649960" y="4803840"/>
                  <a:ext cx="3843360" cy="398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Lucida Sans Unicode"/>
                    </a:rPr>
                    <a:t>Gastos de marketing (fijos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2631600" y="4803840"/>
                  <a:ext cx="3880800" cy="398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4" name=""/>
              <p:cNvGrpSpPr/>
              <p:nvPr/>
            </p:nvGrpSpPr>
            <p:grpSpPr>
              <a:xfrm>
                <a:off x="2631600" y="5202360"/>
                <a:ext cx="3880800" cy="397800"/>
                <a:chOff x="2631600" y="5202360"/>
                <a:chExt cx="3880800" cy="39780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2649960" y="5202360"/>
                  <a:ext cx="3843360" cy="397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Lucida Sans Unicode"/>
                    </a:rPr>
                    <a:t>Materiales y mano de obra directa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2631600" y="5202360"/>
                  <a:ext cx="3880800" cy="397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7" name=""/>
              <p:cNvGrpSpPr/>
              <p:nvPr/>
            </p:nvGrpSpPr>
            <p:grpSpPr>
              <a:xfrm>
                <a:off x="2631600" y="5600160"/>
                <a:ext cx="3880800" cy="397800"/>
                <a:chOff x="2631600" y="5600160"/>
                <a:chExt cx="3880800" cy="3978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2649960" y="5600160"/>
                  <a:ext cx="3843360" cy="397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Lucida Sans Unicode"/>
                    </a:rPr>
                    <a:t>Gastos de operación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2631600" y="5600160"/>
                  <a:ext cx="3880800" cy="397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0" name=""/>
              <p:cNvGrpSpPr/>
              <p:nvPr/>
            </p:nvGrpSpPr>
            <p:grpSpPr>
              <a:xfrm>
                <a:off x="2631600" y="5998320"/>
                <a:ext cx="3880800" cy="397800"/>
                <a:chOff x="2631600" y="5998320"/>
                <a:chExt cx="3880800" cy="39780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2649960" y="5998320"/>
                  <a:ext cx="3843360" cy="397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Lucida Sans Unicode"/>
                    </a:rPr>
                    <a:t>Gastos Administrativo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2631600" y="5998320"/>
                  <a:ext cx="3880800" cy="397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33" name=""/>
            <p:cNvSpPr/>
            <p:nvPr/>
          </p:nvSpPr>
          <p:spPr>
            <a:xfrm>
              <a:off x="2629080" y="4003560"/>
              <a:ext cx="3886200" cy="2397240"/>
            </a:xfrm>
            <a:prstGeom prst="rect">
              <a:avLst/>
            </a:prstGeom>
            <a:noFill/>
            <a:ln w="1440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6705720" y="4038480"/>
            <a:ext cx="2057400" cy="2362320"/>
            <a:chOff x="6705720" y="4038480"/>
            <a:chExt cx="2057400" cy="2362320"/>
          </a:xfrm>
        </p:grpSpPr>
        <p:grpSp>
          <p:nvGrpSpPr>
            <p:cNvPr id="135" name=""/>
            <p:cNvGrpSpPr/>
            <p:nvPr/>
          </p:nvGrpSpPr>
          <p:grpSpPr>
            <a:xfrm>
              <a:off x="6707160" y="4042440"/>
              <a:ext cx="2054520" cy="2353320"/>
              <a:chOff x="6707160" y="4042440"/>
              <a:chExt cx="2054520" cy="2353320"/>
            </a:xfrm>
          </p:grpSpPr>
          <p:grpSp>
            <p:nvGrpSpPr>
              <p:cNvPr id="136" name=""/>
              <p:cNvGrpSpPr/>
              <p:nvPr/>
            </p:nvGrpSpPr>
            <p:grpSpPr>
              <a:xfrm>
                <a:off x="6707160" y="4042440"/>
                <a:ext cx="2054520" cy="392040"/>
                <a:chOff x="6707160" y="4042440"/>
                <a:chExt cx="2054520" cy="392040"/>
              </a:xfrm>
            </p:grpSpPr>
            <p:sp>
              <p:nvSpPr>
                <p:cNvPr id="137" name=""/>
                <p:cNvSpPr/>
                <p:nvPr/>
              </p:nvSpPr>
              <p:spPr>
                <a:xfrm>
                  <a:off x="6716880" y="4042440"/>
                  <a:ext cx="2034720" cy="39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  <a:ea typeface="Lucida Sans Unicode"/>
                    </a:rPr>
                    <a:t>$  6.000.00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6707160" y="4042440"/>
                  <a:ext cx="2054520" cy="392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9" name=""/>
              <p:cNvGrpSpPr/>
              <p:nvPr/>
            </p:nvGrpSpPr>
            <p:grpSpPr>
              <a:xfrm>
                <a:off x="6707160" y="4434480"/>
                <a:ext cx="2054520" cy="392040"/>
                <a:chOff x="6707160" y="4434480"/>
                <a:chExt cx="2054520" cy="392040"/>
              </a:xfrm>
            </p:grpSpPr>
            <p:sp>
              <p:nvSpPr>
                <p:cNvPr id="140" name=""/>
                <p:cNvSpPr/>
                <p:nvPr/>
              </p:nvSpPr>
              <p:spPr>
                <a:xfrm>
                  <a:off x="6716880" y="4434480"/>
                  <a:ext cx="2034720" cy="39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  <a:ea typeface="Lucida Sans Unicode"/>
                    </a:rPr>
                    <a:t>$  9.500.00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6707160" y="4434480"/>
                  <a:ext cx="2054520" cy="392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2" name=""/>
              <p:cNvGrpSpPr/>
              <p:nvPr/>
            </p:nvGrpSpPr>
            <p:grpSpPr>
              <a:xfrm>
                <a:off x="6707160" y="4826880"/>
                <a:ext cx="2054520" cy="392400"/>
                <a:chOff x="6707160" y="4826880"/>
                <a:chExt cx="2054520" cy="392400"/>
              </a:xfrm>
            </p:grpSpPr>
            <p:sp>
              <p:nvSpPr>
                <p:cNvPr id="143" name=""/>
                <p:cNvSpPr/>
                <p:nvPr/>
              </p:nvSpPr>
              <p:spPr>
                <a:xfrm>
                  <a:off x="6716880" y="4826880"/>
                  <a:ext cx="2034720" cy="392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  <a:ea typeface="Lucida Sans Unicode"/>
                    </a:rPr>
                    <a:t>$  9.000.000 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6707160" y="4826880"/>
                  <a:ext cx="2054520" cy="392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5" name=""/>
              <p:cNvGrpSpPr/>
              <p:nvPr/>
            </p:nvGrpSpPr>
            <p:grpSpPr>
              <a:xfrm>
                <a:off x="6707160" y="5219280"/>
                <a:ext cx="2054520" cy="392040"/>
                <a:chOff x="6707160" y="5219280"/>
                <a:chExt cx="2054520" cy="39204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6716880" y="5219280"/>
                  <a:ext cx="2034720" cy="39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  <a:ea typeface="Lucida Sans Unicode"/>
                    </a:rPr>
                    <a:t>$  7.000/lin.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707160" y="5219280"/>
                  <a:ext cx="2054520" cy="392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8" name=""/>
              <p:cNvGrpSpPr/>
              <p:nvPr/>
            </p:nvGrpSpPr>
            <p:grpSpPr>
              <a:xfrm>
                <a:off x="6707160" y="5611680"/>
                <a:ext cx="2054520" cy="392040"/>
                <a:chOff x="6707160" y="5611680"/>
                <a:chExt cx="2054520" cy="392040"/>
              </a:xfrm>
            </p:grpSpPr>
            <p:sp>
              <p:nvSpPr>
                <p:cNvPr id="149" name=""/>
                <p:cNvSpPr/>
                <p:nvPr/>
              </p:nvSpPr>
              <p:spPr>
                <a:xfrm>
                  <a:off x="6716880" y="5611680"/>
                  <a:ext cx="2034720" cy="39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  <a:ea typeface="Lucida Sans Unicode"/>
                    </a:rPr>
                    <a:t>$  6.000/lin.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6707160" y="5611680"/>
                  <a:ext cx="2054520" cy="392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1" name=""/>
              <p:cNvGrpSpPr/>
              <p:nvPr/>
            </p:nvGrpSpPr>
            <p:grpSpPr>
              <a:xfrm>
                <a:off x="6707160" y="6003720"/>
                <a:ext cx="2054520" cy="392040"/>
                <a:chOff x="6707160" y="6003720"/>
                <a:chExt cx="2054520" cy="392040"/>
              </a:xfrm>
            </p:grpSpPr>
            <p:sp>
              <p:nvSpPr>
                <p:cNvPr id="152" name=""/>
                <p:cNvSpPr/>
                <p:nvPr/>
              </p:nvSpPr>
              <p:spPr>
                <a:xfrm>
                  <a:off x="6716880" y="6003720"/>
                  <a:ext cx="2034720" cy="39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  <a:ea typeface="Lucida Sans Unicode"/>
                    </a:rPr>
                    <a:t>$     900/lin.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6707160" y="6003720"/>
                  <a:ext cx="2054520" cy="392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54" name=""/>
            <p:cNvSpPr/>
            <p:nvPr/>
          </p:nvSpPr>
          <p:spPr>
            <a:xfrm>
              <a:off x="6705720" y="4038480"/>
              <a:ext cx="2057400" cy="2362320"/>
            </a:xfrm>
            <a:prstGeom prst="rect">
              <a:avLst/>
            </a:prstGeom>
            <a:noFill/>
            <a:ln w="1440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5" name=""/>
          <p:cNvSpPr/>
          <p:nvPr/>
        </p:nvSpPr>
        <p:spPr>
          <a:xfrm>
            <a:off x="539640" y="3933720"/>
            <a:ext cx="137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Lucida Sans Unicode"/>
              </a:rPr>
              <a:t>Costos y gastos reales: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213372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116000" y="620640"/>
            <a:ext cx="33242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idad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ent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stos Variabl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teriales y Mano de Ob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astos de Operación Variab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astos Adm. Variab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otal Costos Variabl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Costos Fijo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rendamie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preciaciones de equip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astos Adm. Fij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otal Costos Fijo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TIL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191120" y="380880"/>
            <a:ext cx="190476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PRESUPUEST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ESTÁT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.25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50.0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00.0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50.0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700.0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.0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.0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10.0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5.0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25.0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477120" y="380880"/>
            <a:ext cx="190476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Arial"/>
              </a:rPr>
              <a:t>RESULTADOS RE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56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1.288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392.0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336.0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r>
              <a:rPr b="1" lang="es-ES" sz="1600" spc="-1" strike="noStrike" u="sng">
                <a:solidFill>
                  <a:srgbClr val="000000"/>
                </a:solidFill>
                <a:uFillTx/>
                <a:latin typeface="Arial"/>
              </a:rPr>
              <a:t>50.4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778.4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6.0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9.5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 u="sng">
                <a:solidFill>
                  <a:srgbClr val="000000"/>
                </a:solidFill>
                <a:uFillTx/>
                <a:latin typeface="Arial"/>
              </a:rPr>
              <a:t>9.</a:t>
            </a:r>
            <a:r>
              <a:rPr b="1" lang="es-ES_tradnl" sz="1600" spc="-1" strike="noStrike" u="sng">
                <a:solidFill>
                  <a:srgbClr val="000000"/>
                </a:solidFill>
                <a:uFillTx/>
                <a:latin typeface="Arial"/>
              </a:rPr>
              <a:t>0</a:t>
            </a:r>
            <a:r>
              <a:rPr b="1" lang="es-ES" sz="1600" spc="-1" strike="noStrike" u="sng">
                <a:solidFill>
                  <a:srgbClr val="000000"/>
                </a:solidFill>
                <a:uFillTx/>
                <a:latin typeface="Arial"/>
              </a:rPr>
              <a:t>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24.5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485.1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028160" y="5153040"/>
            <a:ext cx="26967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F- :  Variación favor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D- : Variación desfavor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248520" y="3962520"/>
            <a:ext cx="54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F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251040" y="2055960"/>
            <a:ext cx="46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251400" y="2360520"/>
            <a:ext cx="43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F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251040" y="2894040"/>
            <a:ext cx="46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251040" y="2589120"/>
            <a:ext cx="46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248520" y="3733920"/>
            <a:ext cx="46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248520" y="4267080"/>
            <a:ext cx="54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F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248520" y="4495680"/>
            <a:ext cx="54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F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300720" y="1341360"/>
            <a:ext cx="54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F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410080" y="5257800"/>
            <a:ext cx="2057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ación  Tot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favorab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$ 39.9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5181480" y="518112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7848720" y="510516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181480" y="55627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391520" y="5638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995400" y="455760"/>
            <a:ext cx="280368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Unidad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Vent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ostos Variabl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Materiales y mano de ob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Gastos de Oper.  variab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Gastos Adm. Variab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Total Costos Variabl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ostos Fijo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Arrendamie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epreciaciones de equip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Gastos Adm. Fij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Total Costos Fijo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UTIL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124080" y="228600"/>
            <a:ext cx="190512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PRESUPUEST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ESTÁT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.25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50.0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00.0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50.0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700.0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.0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.0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10.0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5.0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25.0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181480" y="228600"/>
            <a:ext cx="190512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PRESUPUEST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FLEXIBLE</a:t>
            </a:r>
            <a:r>
              <a:rPr b="1" lang="en-US" sz="16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6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.4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80.0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48.0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56.0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784.0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.0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.0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10.0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5.0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91.0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010280" y="228600"/>
            <a:ext cx="190512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99"/>
                </a:solidFill>
                <a:latin typeface="Arial"/>
              </a:rPr>
              <a:t>RESULTADOS RE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56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1.288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392.0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336.0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r>
              <a:rPr b="1" lang="es-ES" sz="1600" spc="-1" strike="noStrike" u="sng">
                <a:solidFill>
                  <a:srgbClr val="000000"/>
                </a:solidFill>
                <a:uFillTx/>
                <a:latin typeface="Arial"/>
              </a:rPr>
              <a:t>50.4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778.4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6.0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9.5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 u="sng">
                <a:solidFill>
                  <a:srgbClr val="000000"/>
                </a:solidFill>
                <a:uFillTx/>
                <a:latin typeface="Arial"/>
              </a:rPr>
              <a:t>9.</a:t>
            </a:r>
            <a:r>
              <a:rPr b="1" lang="es-ES_tradnl" sz="1600" spc="-1" strike="noStrike" u="sng">
                <a:solidFill>
                  <a:srgbClr val="000000"/>
                </a:solidFill>
                <a:uFillTx/>
                <a:latin typeface="Arial"/>
              </a:rPr>
              <a:t>0</a:t>
            </a:r>
            <a:r>
              <a:rPr b="1" lang="es-ES" sz="1600" spc="-1" strike="noStrike" u="sng">
                <a:solidFill>
                  <a:srgbClr val="000000"/>
                </a:solidFill>
                <a:uFillTx/>
                <a:latin typeface="Arial"/>
              </a:rPr>
              <a:t>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24.5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485.1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539600" y="5241960"/>
            <a:ext cx="1364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ació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olum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vor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$ 66.0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5257800"/>
            <a:ext cx="2178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ació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upues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favor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$ 105.9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089120" y="1217520"/>
            <a:ext cx="46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D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108040" y="2589120"/>
            <a:ext cx="46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D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086600" y="3657600"/>
            <a:ext cx="54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F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89120" y="1903320"/>
            <a:ext cx="46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D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089840" y="2208240"/>
            <a:ext cx="43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F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089840" y="2665440"/>
            <a:ext cx="43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F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089840" y="2436840"/>
            <a:ext cx="43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F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089120" y="3427560"/>
            <a:ext cx="46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D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013160" y="4646520"/>
            <a:ext cx="46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D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086600" y="3886200"/>
            <a:ext cx="54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F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086600" y="4114800"/>
            <a:ext cx="54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F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105520" y="1219320"/>
            <a:ext cx="54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F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076720" y="4653000"/>
            <a:ext cx="54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F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4267080" y="50292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8458200" y="50292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6248520" y="50292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267080" y="55627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715000" y="55627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248520" y="5562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8001000" y="5562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990720" y="5029200"/>
            <a:ext cx="54655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F- :  Variación favor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D-: Variación desfavor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734160" y="6308640"/>
            <a:ext cx="124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ff"/>
                </a:solidFill>
                <a:latin typeface="Arial"/>
              </a:rPr>
              <a:t>Eficien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790160" y="6308640"/>
            <a:ext cx="10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ff"/>
                </a:solidFill>
                <a:latin typeface="Arial"/>
              </a:rPr>
              <a:t>Efica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Arial"/>
              </a:rPr>
              <a:t>Ejemplo 2</a:t>
            </a:r>
            <a:br>
              <a:rPr sz="4400"/>
            </a:br>
            <a:r>
              <a:rPr b="0" lang="es-ES_tradnl" sz="4400" spc="-1" strike="noStrike">
                <a:solidFill>
                  <a:srgbClr val="333399"/>
                </a:solidFill>
                <a:latin typeface="Arial"/>
              </a:rPr>
              <a:t>Análisis de Desviac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395280" y="304920"/>
            <a:ext cx="8139240" cy="625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228600" y="318960"/>
            <a:ext cx="8686800" cy="621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ff"/>
                </a:solidFill>
                <a:latin typeface="Arial"/>
              </a:rPr>
              <a:t>Objetivo de la Cl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Revisar los conceptos de Presupuesto Flexible, Análisis de Desviaciones y Costo Estándar, y su aplicac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304920" y="620640"/>
            <a:ext cx="8534160" cy="38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8458200" cy="392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250920" y="476280"/>
            <a:ext cx="8381880" cy="25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250920" y="476280"/>
            <a:ext cx="861048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250920" y="476280"/>
            <a:ext cx="8381880" cy="185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0000"/>
                </a:solidFill>
                <a:latin typeface="Arial"/>
              </a:rPr>
              <a:t>Costos Estánd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45360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990000"/>
                </a:solidFill>
                <a:latin typeface="Arial"/>
              </a:rPr>
              <a:t>Costos Estánd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Técnica de la contabilidad de costos que compara el costo considerado normal de cada producto, servicio o elemento con su costo real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Los costos estándar son costos preestablecidos, se calculan antes de comenzar las operacio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s una herramienta del control presupuestari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ermite evaluar la eficiencia de la gestión y tomar inmediatamente las acciones correctivas que se estimen pertinen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685440" y="685440"/>
            <a:ext cx="80773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l igual que con los costos históricos, se pueden combinar con los métodos de costeo variable y absobente, y con los sistemas de costos por procesos y por órdenes de trabaj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 medida que se conocen los costos e ingresos reales, se van registrando en la contabilidad de cost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stos datos reales se comparan con los estándar, y las desviaciones entre unos y otros se ponen de manifiesto por el propio sistema conta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45360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Ventajas de los Costos Estánd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Facilitan la “dirección por excepción”, que consiste en centrar la atención de la dirección en aquellas situaciones que se apartan de la normalid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Facilitan la valoración de los stocks y la fijación de precios, entre otr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xigen una definición de responsabilidades por centros de cost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45360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Tipos de Costos Estánd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 partir de datos de la empresa en ejercicios anteri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 partir de datos de la empresa en ejercicios anteriores, pero corregi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 partir de estudios técnicos. En este caso el estándar puede representa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La mejor actuación posi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Una actuación efici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684360" y="40464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Presupuesto</a:t>
            </a:r>
            <a:r>
              <a:rPr b="1" lang="en-US" sz="3200" spc="-1" strike="noStrike">
                <a:solidFill>
                  <a:srgbClr val="333399"/>
                </a:solidFill>
                <a:latin typeface="Lucida Sans Unicode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68360" y="1341360"/>
            <a:ext cx="8223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Según Horngren, un presupuesto es la expresión formal, cuantitativa de los planes de un individuo, empresa u organización, que proporcionan un punto de referencia para medir el desempeño rea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3213000"/>
            <a:ext cx="5562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8">
                                  <p:stCondLst>
                                    <p:cond delay="7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Arial"/>
              </a:rPr>
              <a:t>Ejemplo 3</a:t>
            </a:r>
            <a:br>
              <a:rPr sz="4400"/>
            </a:br>
            <a:r>
              <a:rPr b="0" lang="es-ES_tradnl" sz="4400" spc="-1" strike="noStrike">
                <a:solidFill>
                  <a:srgbClr val="333399"/>
                </a:solidFill>
                <a:latin typeface="Arial"/>
              </a:rPr>
              <a:t>Costo Estánd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nsidere el siguiente Centro de Cost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l </a:t>
            </a:r>
            <a:r>
              <a:rPr b="1" lang="es-ES_tradnl" sz="2000" spc="-1" strike="noStrike">
                <a:solidFill>
                  <a:srgbClr val="333399"/>
                </a:solidFill>
                <a:latin typeface="Arial"/>
              </a:rPr>
              <a:t>“Presupuesto para un periodo”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considera precios y cantidades estánd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os </a:t>
            </a:r>
            <a:r>
              <a:rPr b="1" lang="es-ES_tradnl" sz="2000" spc="-1" strike="noStrike">
                <a:solidFill>
                  <a:srgbClr val="cc0099"/>
                </a:solidFill>
                <a:latin typeface="Arial"/>
              </a:rPr>
              <a:t>“Costos históricos”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constituyen los precios y costos reales obtenidos en la produc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1476360" y="549360"/>
            <a:ext cx="6048360" cy="58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258920" y="404640"/>
            <a:ext cx="6624720" cy="59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45360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66"/>
                </a:solidFill>
                <a:latin typeface="Arial"/>
              </a:rPr>
              <a:t>Desviaciones en Materias Pri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esviación Global = Q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– Q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r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=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500 x 800 x 6 – 550 x 800 x 5 = 2.400.000 – 2.200.000 = 200.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esviación por causa de las cantidades (técnica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– Q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= (Q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– Q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) P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= (500x800 – 550x800) x 6 = </a:t>
            </a:r>
            <a:r>
              <a:rPr b="0" lang="es-CL" sz="2000" spc="-1" strike="noStrike">
                <a:solidFill>
                  <a:srgbClr val="ff0000"/>
                </a:solidFill>
                <a:latin typeface="Arial"/>
              </a:rPr>
              <a:t>-240.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esviación por causa de los precios (económica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– Q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= (P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– P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) Q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= (6 - 5) x 550 x 800 = + 440.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4360" y="47268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66"/>
                </a:solidFill>
                <a:latin typeface="Arial"/>
              </a:rPr>
              <a:t>Desviaciones en Mano de Ob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esviación Global = H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– H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r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=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25 x 800 x 40 – 26,25 x 800 x 45 = 800.000 – 945.000 = </a:t>
            </a:r>
            <a:r>
              <a:rPr b="0" lang="es-CL" sz="2000" spc="-1" strike="noStrike">
                <a:solidFill>
                  <a:srgbClr val="ff0000"/>
                </a:solidFill>
                <a:latin typeface="Arial"/>
              </a:rPr>
              <a:t>-145.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esviación por causa de las cantidades (técnica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– H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= (H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– H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) P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= (25x800 – 26,25x800) x 40 = </a:t>
            </a:r>
            <a:r>
              <a:rPr b="0" lang="es-CL" sz="2000" spc="-1" strike="noStrike">
                <a:solidFill>
                  <a:srgbClr val="ff0000"/>
                </a:solidFill>
                <a:latin typeface="Arial"/>
              </a:rPr>
              <a:t>-40.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esviación por causa de los precios (económica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– H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= (P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– P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) H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= (40 - 45) x 26,25 x 800 = </a:t>
            </a:r>
            <a:r>
              <a:rPr b="0" lang="es-CL" sz="2000" spc="-1" strike="noStrike">
                <a:solidFill>
                  <a:srgbClr val="ff0000"/>
                </a:solidFill>
                <a:latin typeface="Arial"/>
              </a:rPr>
              <a:t>- 105.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Tipos de Presupuestos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ún el horizonte y los objetivos los presupuestos pueden ser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 Estratégic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 de Largo Plaz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upuesto de Capit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upuesto Maestr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619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l </a:t>
            </a:r>
            <a:r>
              <a:rPr b="0" lang="es-ES" sz="2400" spc="-1" strike="noStrike">
                <a:solidFill>
                  <a:srgbClr val="333399"/>
                </a:solidFill>
                <a:latin typeface="Arial"/>
              </a:rPr>
              <a:t>Plan Estratégico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, fija los objetivos globales 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 organizació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l</a:t>
            </a:r>
            <a:r>
              <a:rPr b="0" lang="es-E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333399"/>
                </a:solidFill>
                <a:latin typeface="Arial"/>
              </a:rPr>
              <a:t>Plan de Largo Plazo,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genera estado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financier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royectados para períodos entre 5 (quinquenal) y 10 añ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l</a:t>
            </a:r>
            <a:r>
              <a:rPr b="0" lang="es-E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333399"/>
                </a:solidFill>
                <a:latin typeface="Arial"/>
              </a:rPr>
              <a:t>Presupuesto de Capital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indica las inversiones que de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hacer la empresa para las instalaciones, equipos y demá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inversiones de largo plazo para el cumplimento de l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objetivos propuestos,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sí como para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lcanzar l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resultados y la posición financiera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tablecida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n l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resupuestos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de largo plazo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68360" y="549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l </a:t>
            </a:r>
            <a:r>
              <a:rPr b="0" lang="es-ES" sz="2400" spc="-1" strike="noStrike">
                <a:solidFill>
                  <a:srgbClr val="333399"/>
                </a:solidFill>
                <a:latin typeface="Arial"/>
              </a:rPr>
              <a:t>Presupuesto Maestro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expresa de forma cuantitativa l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lanes de todas las subunidades para el primer año 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operaciones del plan de largo plazo, por tan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Incluye las proyecciones de las operaciones de la empres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(presupuesto de ventas, compras, costo de producción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gastos, 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y presupuesto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e resultados) y presupues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financiero (presupuesto de capital, de efectivo y 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balance general).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4360" y="283680"/>
            <a:ext cx="77043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Arial"/>
              </a:rPr>
              <a:t>Presupues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842472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00"/>
                </a:solidFill>
                <a:latin typeface="Arial"/>
              </a:rPr>
              <a:t>Presupuesto Estático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: se basa en el nivel de producción planificado al inicio del periodo del presupues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00"/>
                </a:solidFill>
                <a:latin typeface="Arial"/>
              </a:rPr>
              <a:t>Presupuesto Flexible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: se desarrolla considerando los precios y costos variables presupuestados y el nivel de producción re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539640" y="4365720"/>
            <a:ext cx="8223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Lucida Sans Unicode"/>
              </a:rPr>
              <a:t>La evaluación del desempeño a partir del presupuesto flexible se realiza al calcular y analizar las variaciones de volumen y de presupuesto flexible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1916280"/>
            <a:ext cx="8294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El 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  <a:ea typeface="Lucida Sans Unicode"/>
              </a:rPr>
              <a:t>Presupuesto Flexible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se basa en los mismos supuestos y formatos del presupuesto maestro (estático)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,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 pero combinándolos con los cambios que implican las variaciones del nivel de ventas o actividades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11280" y="609480"/>
            <a:ext cx="82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aracterísticas del Presupuesto Flexible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3141720"/>
            <a:ext cx="829476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La necesidad de uso de los presupuestos flexibles obedece a que las discrepancias (variaciones) entre los resultados reales y los presupuestados se deben a causas distintas</a:t>
            </a:r>
            <a:r>
              <a:rPr b="1" lang="es-ES_tradnl" sz="22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.</a:t>
            </a:r>
            <a:r>
              <a:rPr b="1" lang="es-E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94920" y="533160"/>
            <a:ext cx="806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758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ntrol Presupuestario y Análisis de Desviac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060640"/>
            <a:ext cx="7848720" cy="426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8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66"/>
                </a:solidFill>
                <a:latin typeface="Arial"/>
              </a:rPr>
              <a:t>Control Presupuestario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: Proceso permanente de comparación entre lo planificado (plasmado en los presupuestos) y lo acontecido en la realid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38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8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66"/>
                </a:solidFill>
                <a:latin typeface="Arial"/>
              </a:rPr>
              <a:t>Desviación</a:t>
            </a:r>
            <a:r>
              <a:rPr b="0" lang="es-ES_tradnl" sz="2400" spc="-1" strike="noStrike">
                <a:solidFill>
                  <a:srgbClr val="000066"/>
                </a:solidFill>
                <a:latin typeface="Arial"/>
              </a:rPr>
              <a:t>: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Diferencia entre el resultado real y el proyectado (puede ser favorable o desfavor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04T21:02:37Z</dcterms:created>
  <dc:creator>Marisela Morillo</dc:creator>
  <dc:description/>
  <dc:language>en-US</dc:language>
  <cp:lastModifiedBy>Ivan Alvarez Valdes</cp:lastModifiedBy>
  <dcterms:modified xsi:type="dcterms:W3CDTF">2008-09-05T00:42:22Z</dcterms:modified>
  <cp:revision>28</cp:revision>
  <dc:subject/>
  <dc:title>Presentación de PowerPoint</dc:title>
</cp:coreProperties>
</file>