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A07-A865-48AC-978D-DB9201E7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263-681A-47C6-A8FE-2EE07C3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0B9-10A8-4ADE-AB8B-014E481E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D78-4948-4FF8-95C7-5EBF5D87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2B1-1AE9-449B-9B1D-C55E1AEB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08FA-203F-40F6-BDC3-87E31D1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8F68-3366-4F9E-99A2-8CD7492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B56E-3AB0-4D23-8ACE-BF40A686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4CE-2ACB-4246-A0AC-10E59C01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54A-8D0D-44F7-B3FC-CBEBA7F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5E68-BAB7-4998-95C4-C12C727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7E5-AEDE-4653-B84D-FD04D9F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9AD1-FB44-4376-A283-333FD83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B48-E98F-4D8D-88F0-178CDF5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58C2-8CEB-44F8-8C3C-7BC094A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52A-38F5-43C6-81C3-8F5C1EFA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1E5-9393-4022-8010-669AB6F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9BB-C1C5-42C7-9639-B8F2CE0B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EEB-DBB2-4071-8CFE-807E4A11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3DB-5BFC-4DEF-A83B-B69DC16C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DFA-09A9-4657-96B8-A32CACE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431-F557-46BB-9370-03E60248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6AB-CB8C-4D01-B6D9-26C4AF98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DEF-4392-412A-B8C4-7A968DA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829-ED7A-415C-8605-9241DBAC67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28F6-D114-4661-A5F5-F387EA9E481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 Valdes</cp:lastModifiedBy>
  <cp:lastPrinted>1999-04-29T23:00:42Z</cp:lastPrinted>
  <dcterms:modified xsi:type="dcterms:W3CDTF">2008-09-03T03:05:48Z</dcterms:modified>
  <cp:revision>55</cp:revision>
  <dc:subject/>
  <dc:title>Sin título de diapositiva</dc:title>
</cp:coreProperties>
</file>