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7CA-E15D-49C3-8775-02C4D725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1DD-4322-4079-AFC1-7D1ADC21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208-2EC1-4B10-AF2E-D77A1EC9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6A5-9A2B-420B-BE0C-32F625F3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F5C5-084F-4ADF-BDA9-F16A6C77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5B9D-900E-4C8B-B989-163C32CC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ADBF-3BDC-4F7C-8E59-40EC47BA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D4EC-C03D-4986-B7F0-829B26DB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3863-488C-43BA-AF7E-5E8ECAD1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6F7A-230F-4C0F-B901-4E8CCCA1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A474-800D-4082-87FD-6470109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7FB-F029-4644-9760-14BA5471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913F-8E11-495B-8AC7-5162052B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FFB4-CF96-436F-83F5-A776C86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EAAD-03D5-41C7-BE31-26935930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3F1F-83EC-42FC-82B0-DA7F001D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402D-350B-42B6-8D2E-4CC3EC57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84E-65BB-49AA-B632-EEB2EC64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65F-262C-44E6-8809-D80FF268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6C8-0E3A-4078-8C45-F65787FE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4CC-2F98-4910-8EC3-31052F5C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0AE-CAAA-44BA-A320-58F295D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C20-54EC-4197-9BF1-5EF99E1D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653-F700-4451-9850-7BB312F9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27D5-A6CC-40CF-9CED-A4598D00EFD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80B3-93E0-43FF-90D2-B4822F66FE8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s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4479840"/>
            <a:ext cx="2087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Maquinas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197000"/>
            <a:ext cx="2001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 operación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94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para la elaboración del presupuesto se requiere de ciertas definiciones previas,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fines de confección de un presupuesto, es suficiente contar con un conjunto de lineamientos, que orienten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.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 Valdes</cp:lastModifiedBy>
  <cp:lastPrinted>1999-04-29T23:00:42Z</cp:lastPrinted>
  <dcterms:modified xsi:type="dcterms:W3CDTF">2008-09-03T03:05:48Z</dcterms:modified>
  <cp:revision>55</cp:revision>
  <dc:subject/>
  <dc:title>Sin título de diapositiva</dc:title>
</cp:coreProperties>
</file>