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12-3FC0-4FFA-9154-FCE581FA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CCD-AFA5-4D08-A875-492BA5A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7D2-4996-44BC-8BB9-A8199F63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271-0078-42F3-AB4A-ADE14432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D9C7-631D-4287-AEBA-03D31700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038-361F-47F3-A785-1324B576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EDA-49A2-435F-8CAC-0BD55A2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632A-CF14-4B39-8353-C79AF0B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584D-7EDA-4DAF-A06E-12C60C7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D562-9773-4FC8-9AB6-214CFACE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DED1-7373-4DDE-9D50-50C67B0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2D7-4AC4-4211-83AA-249E4DB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EB1-F36D-48EB-9EEF-BF7516F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EC38-0897-498F-86CB-6B183E53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3EF1-20CC-4471-979E-70E41B7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11B-9516-4656-B7BF-F8DA6F77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9890-B1A1-4CF2-9352-281C5E70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6A5-621E-4826-AEFF-10FF10E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DBB-53B2-400D-8EDF-E538E9C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B29-A432-4927-B64E-F2E25C5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BAB-F9D2-4355-90D4-EFADB48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28D-562F-4D79-9E3A-59C1025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EA3-CAE1-4502-A9E2-33F1ED3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A94-C23E-4C6E-9007-2E24ED4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3FE-EEA2-466C-8D2F-C1CFB466CC3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CFC-AB23-47D4-9491-DB4F857D76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 Valdes</cp:lastModifiedBy>
  <cp:lastPrinted>1999-04-29T23:00:42Z</cp:lastPrinted>
  <dcterms:modified xsi:type="dcterms:W3CDTF">2008-09-03T03:05:48Z</dcterms:modified>
  <cp:revision>55</cp:revision>
  <dc:subject/>
  <dc:title>Sin título de diapositiva</dc:title>
</cp:coreProperties>
</file>