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AC7-2DB1-47E7-9963-0684C14B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60F-8321-486F-979B-7310B9C9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C6C-A32E-4E00-9B2C-87793C9D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EF9-C83B-48F6-8CFB-29E9F1D5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201F-A032-483D-BB62-5CDB15D8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200A-1809-4D24-8E9C-55548D57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49FA-F60C-4997-BD75-F57DC32B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A3FE-7489-42D3-9378-4DACAF19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916A-459E-48FD-9843-04ACD55D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C125-D981-4888-9FBF-7803E1D9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E2B-46B8-43EB-977F-725D389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D2C-4884-47D6-9C19-C58E906A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E735-21DE-40E1-8C28-108EFF6D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D5B4-6F13-4A68-8950-E3E24881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C37B-3FBE-4321-BF30-91C0356F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B85C-F5E8-4DCE-AAAF-99DC71E7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4C5D-CBF2-4CA2-BBC9-DB52450D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BE2-F761-4439-A1B4-46C185A1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B97-D4D6-477B-AD44-A9774EA6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D11-5C28-499F-9C35-D1CE78C8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551-2AA3-4B94-BD2F-B2C502A5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0FE-8565-481F-9C07-DD3D2B1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F33-E79E-4394-8F23-AFBFAB1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099-FE27-4311-8B6C-E596E715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228C-4ED9-4298-9335-3066519BA96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4547-1F3F-41CA-9F54-57FEFA36763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s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4479840"/>
            <a:ext cx="2087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Maquinas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197000"/>
            <a:ext cx="2001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 operación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94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para la elaboración del presupuesto se requiere de ciertas definiciones previas,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fines de confección de un presupuesto, es suficiente contar con un conjunto de lineamientos, que orienten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.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 Valdes</cp:lastModifiedBy>
  <cp:lastPrinted>1999-04-29T23:00:42Z</cp:lastPrinted>
  <dcterms:modified xsi:type="dcterms:W3CDTF">2008-09-03T03:05:48Z</dcterms:modified>
  <cp:revision>55</cp:revision>
  <dc:subject/>
  <dc:title>Sin título de diapositiva</dc:title>
</cp:coreProperties>
</file>