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0901-17EF-4EAB-9D94-F170D773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EDA6-D301-4913-A54C-8BECFF55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E6D6-34F8-482B-BBAD-2EC09C02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7C99-9DB1-43C2-829E-39C3EB6C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B91C-C7BD-497A-9849-BB9F22D8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B1D1-6B47-4331-981D-660BFDEB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0E1F-30FC-4622-8799-DEE80245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09FC-6E21-47E6-AE31-C7EF77D7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E621-C8EA-4BF9-A6DC-184FC384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8473-0E16-4D3D-9AD5-07780E71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3626-0FB6-42F9-81F1-678D063A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AA73-15AB-4566-A956-E8D53333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AA13-9128-4ACE-86FA-FE61E7D8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E824-32F5-41DA-8D02-FD541B79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0D71-CA0C-4A65-81BA-738C0C1A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CB24-F4EE-4167-9DAB-406721A1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09C3-7ADB-4CF1-960D-A29B61ED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91EF-C456-4E54-89FC-14B443D0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5031-408A-498B-8ED1-E1F86CF8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F820-365C-4F81-94AA-ED5696C2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602-D6EE-4D77-A1D1-CDB6C1F2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237D-DC45-4BC0-90E3-D031D00F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30FC-D0A5-434D-AA4F-690C19CC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D9DC-66C9-44D2-A542-41CFFA7C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02D3-7D51-4E1D-8FA9-1E43EDDD0F6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DD66-EFF9-4AAD-A97D-5992B138B8A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Herramientas Contables para la Planificación y el Control.</a:t>
            </a:r>
            <a:br>
              <a:rPr sz="3600"/>
            </a:b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 Presupues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upuesto Maest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)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resupuesto Operacion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Vent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Produ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MP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M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Gastos de Fabri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Exist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4653000"/>
            <a:ext cx="7199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resupuestos Financie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Caj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G. presupu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ERR presupu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0" y="494172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19640" y="5229360"/>
            <a:ext cx="2454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stados Financiero Profo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492360" y="3657600"/>
            <a:ext cx="1296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86400" y="3657600"/>
            <a:ext cx="2232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373392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Invers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92360" y="4479840"/>
            <a:ext cx="20876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eva Tecnologí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ovación Activo Fij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evas Instalacion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evas Maquinas y Equip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492360" y="65977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38088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Estratég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1197000"/>
            <a:ext cx="200196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álisis interno y ex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rateg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48520" y="30492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Financier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1295280"/>
            <a:ext cx="1828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lujo de Ca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38088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Oper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81280" y="1127160"/>
            <a:ext cx="1981440" cy="17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duc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r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stos Administra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35280" y="4221000"/>
            <a:ext cx="16761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acterísticas de los Presupuestos Operac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comprender todas y cada una de las funciones que se desarrollan en la empresa, en situación de normalidad. Habrá presupuestos de ventas, de compras, de remuneraciones, de producción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presentan la actuación futura de la organización, por lo que la información que contienen se refiere a proyecciones y no a hechos histór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uelen comprender el horizonte temporal correspondiente al ejercicio contable, generalmente un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686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Deben presentar información en términos cuantita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Cetrix SA planea vender 9.500 computadores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róximo año. Su presupuesto de ventas es el siguient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4753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250560" y="685800"/>
            <a:ext cx="85122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especificar tanto los objetivos concretos que se quieren alcanzar como los medios necesarios para conseguir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Para poder alcanzar las ventas deseadas, Cetrix deberá incurrir en los siguientes gastos de vent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24000" y="685440"/>
            <a:ext cx="8424720" cy="15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3640" y="2282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esupuestos parciales e integración presupues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stintas actividades llevadas a cabo dentro de la organización dará lugar a la necesidad de elaborar presupuesto en cada centro de responsabilidad, que se conocen como presupuestos parcia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or ejemplo: presupuesto de ventas, presupuestos de fabricación, presupuestos de compras, presupuestos financiero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n embargo, la empresa debe ser vista como un todo unitario, coordinado y coherente, en busca de un objetivo comú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integración de los presupuestos parciales dará lugar al Presupuesto Maest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rmalmente se usa el método de integración sucesiva, en donde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unto de partida es el presupuesto de vent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uencia de la integración sucesiva es la siguie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ventas y gastos de ve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productos en proceso y productos termin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Cetrix tiene un stock de 1.200 computadores valorados en $60 millones. Desea mantener un stock de seguridad de 900 unidades. Luego, necesitará producir 9.200 computadores el próximo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533160"/>
            <a:ext cx="8291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etrix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a determinado que para producir 9.200 computadores requerirá los siguientes recurs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69134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24000" y="609120"/>
            <a:ext cx="8362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l responsable del almacén de Cetrix, ha estimado mantener siempre un stock de seguridad que le permitan atender la producción de 850 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bjetivo de la cl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strar el empleo de dos instrumentos básicos de la contabilidad gerencial (o administrativa) como son, el Presupuesto y los Estados Financieros Pro Forma, en la planificación y control de gest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50560" y="457200"/>
            <a:ext cx="8435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4008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23640" y="228600"/>
            <a:ext cx="81342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7.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gastos de administración. El responsable de administración calculará las necesidades de la empresa en estas fun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50560" y="609480"/>
            <a:ext cx="843588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0866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tros 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l período temporal que comprend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estát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efectúa una vez al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progresiv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una vez transcurrido un subperíodo (mes, trimestre o cuatrimestre) se agrega el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posibilidad de introducir modifica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ú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mantiene pase lo que p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revisad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actualiza, para reflejar los cambios en las condiciones que sirvieron de base para su elabor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adaptación de los valores presupuestados a los volúmenes realmente alcanzad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fi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flexibl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ajusta o se rehace con los valores reales de cantidades vendidas y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ajas del Proceso Presupues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23640" y="1218960"/>
            <a:ext cx="8210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liga a los ejecutivos o administradores a pensar en forma estructurada sobre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e establecer metas que posibiliten la evaluación del desempe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obtiene una mayor coordinación y coherencia en el trabajo de las distintas unidades o centros de responsa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rve como motiv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e comunicar los objetivos de la alta dirección a las divisiones operativ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emplo: Elabor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empresa comercial se encuentra en el proceso de elaboración 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supuesto Maestro para los primeros cuatro meses d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09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para 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al dispone de la siguiente inform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nóstico d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vender las sigu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ntidades de mercader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28600" y="3933720"/>
            <a:ext cx="8915400" cy="892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24000" y="4842000"/>
            <a:ext cx="85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ventas en diciembre pasado alcanzaron a las 4.000 unidad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precio de venta es de $10 por unidad y se espera que no cambie en el futuro. Las ventas se efectúan 60% al contado y el resto pagadero al mes sigu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sto de ventas y niveles de exist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empresa vende con un Margen de Explotación del 3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 existencias de $20.000 como base más un 80% del costo de venta de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mercaderías se compran pagando un 50% al contado y el resto a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95280" y="549360"/>
            <a:ext cx="84247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astos de Administración y 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 pagan cada 15 días, en el período sigu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 que son ganadas, ascendiendo a $2.500 por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misiones sobr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cienden al 15% de las ventas y 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gan de la misma forma que las remuneraciones fij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 gastos variables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canzan al 5% de las ventas y se pagan 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tros gastos de administración y ventas fij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e paga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$2.000 al mes por concepto de arriendo, se consumen seguros por $200 y la depreciación se calcula en $400 al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ja y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, por motivos de seguridad, un saldo de caja mínimo de $10.000 a fines de cada 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24000" y="533520"/>
            <a:ext cx="8362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V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alance general al 31 de diciembre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2009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812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Presupue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a herramienta de gest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a expresión, en términos monetarios, de un plan de a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poya la implementación de la estrateg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presupuesto considera la operación, las inversiones, los flujos de efectivo y, en general, los recursos que movilizará la organización en un periodo futuro para lograr sus objetiv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7138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89154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59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90544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361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68360" y="495360"/>
            <a:ext cx="80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Planificación Estratégica y Presupues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1484280"/>
            <a:ext cx="849636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3573360"/>
            <a:ext cx="122400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is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24000" y="3573360"/>
            <a:ext cx="122400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3573360"/>
            <a:ext cx="122364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Formul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3573360"/>
            <a:ext cx="1584360" cy="71928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mple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3573360"/>
            <a:ext cx="136836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valuac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39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48000" y="3933720"/>
            <a:ext cx="432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39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20000" y="3933720"/>
            <a:ext cx="361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4869000"/>
            <a:ext cx="158436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Visión: el sueñ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isión: cual es nuestro nego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Objetivos: donde se llegará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494172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rogram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92360" y="48690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úsqueda de una ventaja competiti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4869000"/>
            <a:ext cx="1800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álisis Externo: que podría hac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álisis Interno: que puedo hac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494172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dicadores. Compar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9892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2764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95672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48360" y="1989000"/>
            <a:ext cx="0" cy="431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64360" y="1989000"/>
            <a:ext cx="0" cy="439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91600" y="2060640"/>
            <a:ext cx="26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Planificación 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22880" y="2060640"/>
            <a:ext cx="17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mplement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07440" y="208116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4880" y="6021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lan Estratég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66160" y="60213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35800" y="60404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aboración del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nque para la elaboración del presupuesto se requiere de ciertas definiciones previas, tales com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a fines de confección de un presupuesto, es suficiente contar con un conjunto de lineamientos, que orienten el desarrollo futuro de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Largo plazo: 5 a 10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ición o eliminación de líneas de produ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ño y ubicación de nuevas pla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quisiciones de nuevas instalaciones, edificios y maquin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Mediano plazo: 3 a 5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estión de mar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ansiones de loc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Corto plazo: 1 a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773000"/>
            <a:ext cx="8153640" cy="40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endiendo del horizonte de planific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1. Presupuestos Maestros (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Oper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2. Presupuesto de Capital (más de 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Maestr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análisis exhaustivo del primer año del plan de largo plaz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sidera y resume las actividades planeadas en todas las unidades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de Ca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informe de las inversiones que se proyecta realizar, es decir, de las adiciones de activo fijo, que se proyecta en cada periodo y que es consistente con las operaciones planifica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91400" cy="475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iclo Presupuestario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el proceso por el cual una empresa elabora el presupues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 un determinado perío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Ivan Alvarez Valdes</cp:lastModifiedBy>
  <cp:lastPrinted>1999-04-29T23:00:42Z</cp:lastPrinted>
  <dcterms:modified xsi:type="dcterms:W3CDTF">2008-09-03T03:05:48Z</dcterms:modified>
  <cp:revision>55</cp:revision>
  <dc:subject/>
  <dc:title>Sin título de diapositiva</dc:title>
</cp:coreProperties>
</file>