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C450D-19EE-4B95-8C28-CAD2FC5A9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0B588-9EEA-4671-BC0E-37C65C15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28EB7-EC35-4DFF-85E6-E2C35F3EA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CA85E-786A-42FC-B9F5-E22FD984D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FCDBA-85EE-4CCA-A6CF-1A3BB9407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C55A9-C5A1-4D8E-945F-3DC56A73D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6B3E9-F227-4CA4-BCE0-16AB418DC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5158C-9D07-459A-949A-0696131C4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93D2A-33A8-4241-8373-B593E6C09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0D3F0-2D9C-434E-9B2B-CA159648C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8D765-315D-439B-8245-CFB08D029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0B68D-7867-4E28-9503-B6763CB50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F5E85-B26D-4663-851A-1CAE79063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A9AB3-7C6A-4DD4-95F0-3D8E780F9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13830-EEB2-489D-B9FF-9FD569575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0F34F-FB6C-4F0F-A404-2F72B054F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F52DD-3A0F-4BB0-9DE4-55E49F9A8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B568D-DCB0-4FEE-B662-5647FA00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21749-02FA-4D57-A475-665D39B48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32BD-4B07-452B-B0F7-57B211525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B45BE-FAD9-40E2-AE8B-DD4D160EC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4B60-589F-486F-9188-068D2B4FA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99F4-44AB-4137-9372-A443DEFC2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B88E-FD58-4DC2-9047-764A72CD4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7AE6-36A2-4B4D-ACBF-D6D28282B6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3726-51C6-49CD-81D6-C7B45F9075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2:49:11Z</dcterms:modified>
  <cp:revision>16</cp:revision>
  <dc:subject/>
  <dc:title>Diapositiva 1</dc:title>
</cp:coreProperties>
</file>