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DF4-DC39-4D6F-ACFE-FC15765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6C1-140A-4DB3-A3AB-E2EB4BD1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BE0-7FDE-4783-BF08-998F06D6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A4F-B731-4E25-8A1B-8925D469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60EE-B4D1-4713-99D1-07244662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54E4-7624-43F6-8F23-F2D5C7C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A93-678B-4A66-A08D-A91C575F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DC7C-FF6E-4C7C-AD17-CC9D410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9DFA-0CC5-4C08-88EE-6FEE4524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3878-B0D6-42B5-B38E-3843A390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60DE-38A2-4646-B0AD-564C91D3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3AF-82EB-472A-97A3-29B7711E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2927-5C4E-43C3-99B8-C8DA37B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82E1-490C-4443-A6F1-80142F0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FE37-F30D-416D-942A-BCD4ED1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A83-EF08-4786-83BB-FACDB1F8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FD71-9E82-4B8B-A4A9-A2987F5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2B5-D6B5-45EA-9BB7-BF484DB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DDC-5FD2-4D44-8711-EBC01FE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5FD-1249-493F-AC35-C3FC6E87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F7B-E1AD-4781-8F44-DA76A2B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B7F-3205-4841-A9C1-81A9ABE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07E-F31A-4859-A524-6D12E91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D49-D75C-4485-B027-C5A8A1D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E44-D601-47CA-8329-41677A124D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D6E-A8FD-49A6-8E63-AA0B2A2E0E3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álisis Estratég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 Planif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EME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00" y="182520"/>
            <a:ext cx="90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4. Implement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dentificar la cultura organizacional des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 Generales (Visión, Misión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En resumen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Dirección Estraté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proceso, cuya secuencia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los aspectos centrales de la Dirección Estratég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l rol del Control de Gestión en la Dirección Estraté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113440" cy="43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1840" y="549360"/>
            <a:ext cx="81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ene dos fases claramente distinguibles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Direc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irección Estratég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 es un proceso relacionado con la toma de decisiones sobre la dirección futura de una empre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 la implementación de estas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Fases de l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ep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álisis estraté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1. Conceptualiz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eación de la V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ción de la M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ción de la Filosofía y Val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indicar cliente, servicio y ámbito geográf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VISIÓN/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2. Análisis Estratég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del entorno y determinación de oportunidades y amena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industrial, determinación del atractivo de la industria y oportunidades y amena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interno, determinación de fortalezas y debilidades, factores críticos de éxito y ventajas compet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orno polí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 y cul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 Valdes</cp:lastModifiedBy>
  <cp:lastPrinted>2001-11-23T07:32:28Z</cp:lastPrinted>
  <dcterms:modified xsi:type="dcterms:W3CDTF">2008-08-08T10:32:45Z</dcterms:modified>
  <cp:revision>52</cp:revision>
  <dc:subject/>
  <dc:title>Los cuatro grandes sistemas sociales</dc:title>
</cp:coreProperties>
</file>