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439-AAA7-4F01-82FE-32061DFD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981-B936-4171-9D3A-09F33D20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05F-ACFA-4565-A5F8-2DA5BF29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828-D26F-4479-A343-F314CE26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A10C-A4EA-4286-942F-EA8B5073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215-872B-41B2-BD21-053E2C59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5124-859F-4172-B475-3FE342F4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7062-4248-4DF4-889F-1387F79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0071-3F73-495C-BBB1-C6425092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AF5C-C725-45AE-B8F0-49D1E7A1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D864-4020-4948-A218-529D2F1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719-A597-49F5-888D-CFFC61F6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5669-6D6A-4D78-AEB1-FCA518B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D3DC-D6F4-4017-8DCE-19F93376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3900-CB91-402E-83C5-ECC85202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07BF-06E8-4B6F-BF1D-29EA6D27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458C-8D95-4746-863A-9A71DF8D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2AB-7920-45A9-AD28-A88BBDF7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9EC-2AC0-4957-A498-779D7731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3E2-253A-4DE5-AE58-2FAABF92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E99-5C91-4E79-9E2D-1F48B86C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B30-58A8-4A2A-A957-1B4A35A9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748-C9D7-4C27-A073-AA315BC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794-620C-4F5B-84CF-101C9CA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3A6-82AA-4CA2-A18B-95FF67AA98B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E5E5-098A-4287-904F-106A4B29E8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Introducción a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Dirección Estratégic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álisis Estratég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(PE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3. Planif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objetivos a corto, mediano y largo plazo para lograr la mi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mular la (s) estrategias posibles para lograr los objetivos de la empre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guías para la toma de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91440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ULAR la estrategia es, determinar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do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tá hoy la empresa y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ó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bería estar en el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una brecha (gap) entre ambas situ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LEMENTAR la estrategia es, decidir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irigir la empresa desde donde está hoy, hasta debería estar mañ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00" y="182520"/>
            <a:ext cx="90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EGIA: Formulación e implem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4. Implement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sarrollar la estructura organizativa para implementar la estrate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dentificar la cultura organizacional des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egurar que las actividades necesarias para lograr las estrategias se cumple con efe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trolar la eficacia de la estrategia para conseguir los objetivos de l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s Generales (Visión, Misión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 situación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 situación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álisis F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estratég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n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gram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78280" y="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En resumen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4508640"/>
            <a:ext cx="71042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nificación Estratégica fija los límites dentro de los cuales tiene lugar el control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Dirección Estraté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proceso, cuya secuencia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Exter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los aspectos centrales de la Dirección Estratég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el rol del Control de Gestión en la Dirección Estraté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113440" cy="439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21840" y="549360"/>
            <a:ext cx="81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ene dos fases claramente distinguibles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45c98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28560" y="2286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quema del Proceso de Direc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7b46d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7b46d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763640" y="1341360"/>
            <a:ext cx="3504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0" y="17"/>
                </a:moveTo>
                <a:arcTo wR="10800" hR="10800" stAng="-5590941" swAng="5769019"/>
                <a:lnTo>
                  <a:pt x="10800" y="10800"/>
                </a:lnTo>
                <a:close/>
              </a:path>
              <a:path fill="none" w="21600" h="21600">
                <a:moveTo>
                  <a:pt x="10200" y="17"/>
                </a:moveTo>
                <a:arcTo wR="10800" hR="10800" stAng="-5590941" swAng="576901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90920" y="1339200"/>
            <a:ext cx="345708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9" y="39"/>
                </a:moveTo>
                <a:arcTo wR="10800" hR="10800" stAng="-5107071" swAng="5107071"/>
                <a:lnTo>
                  <a:pt x="10800" y="10800"/>
                </a:lnTo>
                <a:close/>
              </a:path>
              <a:path fill="none" w="21600" h="21600">
                <a:moveTo>
                  <a:pt x="11719" y="39"/>
                </a:moveTo>
                <a:arcTo wR="10800" hR="10800" stAng="-5107071" swAng="5107071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Dirección Estratég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 es un proceso relacionado con la toma de decisiones sobre la dirección futura de una empre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 la implementación de estas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Fases de l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ceptu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álisis estraté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1. Conceptualiz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reación de la V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ción de la M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ción de la Filosofía y Val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47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n del futuro que quiere conseguir la empresa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ser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En qué negocio esta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necesidad queremos satisfacer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indicar cliente, servicio y ámbito geográf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do colectivo de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sión compartida de lo que es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ceptualización: 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R UNA VISIÓN/ 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y clarifica a dónde se quiere  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ece una meta a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sentido a la 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2. Análisis Estratég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del entorno y determinación de oportunidades y amena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industrial, determinación del atractivo de la industria y oportunidades y amena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interno, determinación de fortalezas y debilidades, factores críticos de éxito y ventajas compet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reas potencialmente im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orno polí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sociales y cul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econ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cion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ntos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aspe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38800" y="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izar 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van Alvarez Valdes</cp:lastModifiedBy>
  <cp:lastPrinted>2001-11-23T07:32:28Z</cp:lastPrinted>
  <dcterms:modified xsi:type="dcterms:W3CDTF">2008-08-08T10:32:45Z</dcterms:modified>
  <cp:revision>52</cp:revision>
  <dc:subject/>
  <dc:title>Los cuatro grandes sistemas sociales</dc:title>
</cp:coreProperties>
</file>