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81B-9898-441C-AB34-72D51546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E97-58F2-464A-A3BF-84F19652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92B-0B8D-4A0B-928C-BF5CCE8C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63C-1507-456F-8B93-581ED55D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1A1A-89A6-47CB-8B22-0F59CBD9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6322-DD30-486E-B9DF-482F06AC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839D-4A64-4896-A493-B41F36C5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ACF4-AB52-413A-9E29-C48DD488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9B12-20B1-405F-9814-3DEAB66F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3B43-FDE9-4075-99B3-23F9B0CC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D5FE-24B5-4732-ADCC-341513BE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83F-322D-4E77-9EDC-8D1027DD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C205-1636-454D-9401-8606FBC8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49E3-8356-41B7-815B-079247C9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C093-D659-4521-B413-92DBD2F8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637B-700C-4EBD-8D3B-2868481A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DA05-7BC6-4269-A654-7AD6B2C2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76A-F9BF-42E2-8D13-D0051DD8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4F6-9A84-429C-8189-5F9F4CE1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C54-4603-4A86-BC70-3AA14069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88E-4B09-4A88-AF76-183A54F9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41C-6333-4BDD-90CC-7BA2AEEA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07A-1DE2-4041-B93B-E625899F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490-CB49-48BE-9E44-D8E8A112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90F0-80F0-4B26-8E70-6FB20A2594F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868F-FDDD-42F4-A14E-45EBF3AF0EC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8920" y="2349360"/>
            <a:ext cx="6842160" cy="16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Arial"/>
              </a:rPr>
              <a:t>Introducción a l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Arial"/>
              </a:rPr>
              <a:t>Dirección Estratégic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44080" y="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álisis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84836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álisis Estratég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8380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907920"/>
            <a:ext cx="2873160" cy="132156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D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(PES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OLÍTICO-ECONÓMICO-SOCIAL-TECNOLOG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4687920"/>
            <a:ext cx="2873160" cy="218952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INNOVA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EN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5334120"/>
            <a:ext cx="304920" cy="609480"/>
          </a:xfrm>
          <a:prstGeom prst="upArrow">
            <a:avLst>
              <a:gd name="adj1" fmla="val 28574"/>
              <a:gd name="adj2" fmla="val 84561"/>
            </a:avLst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5867280"/>
            <a:ext cx="1904760" cy="76320"/>
          </a:xfrm>
          <a:prstGeom prst="rect">
            <a:avLst/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2209680"/>
            <a:ext cx="2895840" cy="3048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2349360"/>
            <a:ext cx="2873160" cy="230580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DEL S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NUEVOS ENTR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ROD. SUSTITU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ODER DE NEGOCIACION DE PROVEEDORES Y CL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IVALIDAD ACTU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2860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PORTUN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18288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562720" y="228564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266688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41148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7339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7339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ORTALE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3733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BIL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2286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MENA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3920" y="220968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373392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3374400">
            <a:off x="2994840" y="2305800"/>
            <a:ext cx="1114200" cy="264960"/>
          </a:xfrm>
          <a:prstGeom prst="rightArrow">
            <a:avLst>
              <a:gd name="adj1" fmla="val 35889"/>
              <a:gd name="adj2" fmla="val 133962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7960400">
            <a:off x="3053880" y="3341880"/>
            <a:ext cx="1028520" cy="395280"/>
          </a:xfrm>
          <a:prstGeom prst="rightArrow">
            <a:avLst>
              <a:gd name="adj1" fmla="val 35889"/>
              <a:gd name="adj2" fmla="val 82891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1506400">
            <a:off x="7020000" y="2998440"/>
            <a:ext cx="431640" cy="272880"/>
          </a:xfrm>
          <a:prstGeom prst="rightArrow">
            <a:avLst>
              <a:gd name="adj1" fmla="val 35889"/>
              <a:gd name="adj2" fmla="val 50390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20000" y="4653000"/>
            <a:ext cx="431640" cy="228600"/>
          </a:xfrm>
          <a:prstGeom prst="rightArrow">
            <a:avLst>
              <a:gd name="adj1" fmla="val 37843"/>
              <a:gd name="adj2" fmla="val 51269"/>
            </a:avLst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443700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DIAGNÓSTICO EM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24720" y="2708280"/>
            <a:ext cx="1619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3. Planific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objetivos a corto, mediano y largo plazo para lograr la mi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mular la (s) estrategias posibles para lograr los objetivos de la empre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laración tangible y mensurable sobre los resultados estratégicos dese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Estrate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los medios por los cuales se logran los objetivo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ineamientos de acuerdo con los cuales se guía el funcionamiento al interior de una organ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guías para la toma de dec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91440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RMULAR la estrategia es, determinar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dond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stá hoy la empresa y </a:t>
            </a: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dónd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bería estar en el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una brecha (gap) entre ambas situ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LEMENTAR la estrategia es, decidir </a:t>
            </a: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cóm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irigir la empresa desde donde está hoy, hasta debería estar mañ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00" y="182520"/>
            <a:ext cx="90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RATEGIA: Formulación e implem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4. Implement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sarrollar la estructura organizativa para implementar la estrate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dentificar la cultura organizacional des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egurar que las actividades necesarias para lograr las estrategias se cumple con efectiv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trolar la eficacia de la estrategia para conseguir los objetivos de la organ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jetivos Generales (Visión, Misión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valuación de la situación ex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valuación de la situación in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álisis F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jetivos estraté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estratég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lan 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grama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78280" y="0"/>
            <a:ext cx="49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En resumen 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4772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47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71640" y="1916280"/>
            <a:ext cx="6858000" cy="192276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o que se sigue para determinar las metas de una organización y las estrategias que permitirán alcanzar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380988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4508640"/>
            <a:ext cx="710424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Planificación Estratégica fija los límites dentro de los cuales tiene lugar el control de 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Dirección Estratég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676520"/>
            <a:ext cx="84960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proceso, cuya secuencia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256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5640" y="3573360"/>
            <a:ext cx="136836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36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3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7840" y="393372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7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7564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4869000"/>
            <a:ext cx="1584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Visión: su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: que h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: donde se lleg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rogramas. 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3528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Búsqueda ventaja competi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5013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 Interno Análisis Extern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49417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arámetros. Objetivos. Indicadores. Comparaciones. Camb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83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6764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r los aspectos centrales de la Dirección Estratég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r el rol del Control de Gestión en la Dirección Estraté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113440" cy="43923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21840" y="549360"/>
            <a:ext cx="81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iene dos fases claramente distinguibles 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lanificación Estratégica y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trol de Gest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060640"/>
            <a:ext cx="20890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3573360"/>
            <a:ext cx="2089080" cy="914400"/>
          </a:xfrm>
          <a:prstGeom prst="rect">
            <a:avLst/>
          </a:prstGeom>
          <a:solidFill>
            <a:srgbClr val="45c984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00720" y="5157720"/>
            <a:ext cx="20890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92360" y="2997360"/>
            <a:ext cx="0" cy="1079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92360" y="4076640"/>
            <a:ext cx="1800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4508640"/>
            <a:ext cx="0" cy="108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5589720"/>
            <a:ext cx="1655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28560" y="22860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quema del Proceso de Dirección Estraté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08360" y="981000"/>
            <a:ext cx="15429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00720" y="1989000"/>
            <a:ext cx="1511280" cy="3173760"/>
          </a:xfrm>
          <a:prstGeom prst="rect">
            <a:avLst/>
          </a:prstGeom>
          <a:solidFill>
            <a:srgbClr val="7b46d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SIS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09000" y="1773360"/>
            <a:ext cx="485280" cy="37432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talezas y Debil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1844640"/>
            <a:ext cx="533520" cy="36576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enazas y Oport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1905120"/>
            <a:ext cx="1523880" cy="3257640"/>
          </a:xfrm>
          <a:prstGeom prst="rect">
            <a:avLst/>
          </a:prstGeom>
          <a:solidFill>
            <a:srgbClr val="7b46d0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óm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nológ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g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2209680"/>
            <a:ext cx="20163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ATEG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3357720"/>
            <a:ext cx="2057400" cy="33732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19640" y="5589720"/>
            <a:ext cx="2057400" cy="33732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4149720"/>
            <a:ext cx="2952720" cy="838080"/>
          </a:xfrm>
          <a:prstGeom prst="ellipse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S, PROGRAMA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763640" y="1341360"/>
            <a:ext cx="35042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00" y="17"/>
                </a:moveTo>
                <a:arcTo wR="10800" hR="10800" stAng="-5590941" swAng="5769019"/>
                <a:lnTo>
                  <a:pt x="10800" y="10800"/>
                </a:lnTo>
                <a:close/>
              </a:path>
              <a:path fill="none" w="21600" h="21600">
                <a:moveTo>
                  <a:pt x="10200" y="17"/>
                </a:moveTo>
                <a:arcTo wR="10800" hR="10800" stAng="-5590941" swAng="576901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90920" y="1339200"/>
            <a:ext cx="3457080" cy="12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19" y="39"/>
                </a:moveTo>
                <a:arcTo wR="10800" hR="10800" stAng="-5107071" swAng="5107071"/>
                <a:lnTo>
                  <a:pt x="10800" y="10800"/>
                </a:lnTo>
                <a:close/>
              </a:path>
              <a:path fill="none" w="21600" h="21600">
                <a:moveTo>
                  <a:pt x="11719" y="39"/>
                </a:moveTo>
                <a:arcTo wR="10800" hR="10800" stAng="-5107071" swAng="5107071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5013360"/>
            <a:ext cx="0" cy="50472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66247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771640" y="2565360"/>
            <a:ext cx="749520" cy="22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08720" y="2565360"/>
            <a:ext cx="769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27640" y="2997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419720" y="1773360"/>
            <a:ext cx="7920" cy="436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27640" y="3789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Dirección Estratég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 es un proceso relacionado con la toma de decisiones sobre la dirección futura de una empre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y la implementación de estas deci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Fases de la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ceptual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álisis estraté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anif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1. Conceptualiz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reación de la Vi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terminación de la Mi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terminación de la Filosofía y Val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4470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n del futuro que quiere conseguir la empresa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ser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En qué negocio estam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necesidad queremos satisfacer?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 indicar cliente, servicio y ámbito geográf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Val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ido colectivo de ident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nsión compartida de lo que es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ceptualización: Conceptos Cl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476280"/>
            <a:ext cx="81392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R UNA VISIÓN/ 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y clarifica a dónde se quiere  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ece una meta a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sentido a la estrateg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2. Análisis Estratég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álisis del entorno y determinación de oportunidades y amena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álisis industrial, determinación del atractivo de la industria y oportunidades y amena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álisis interno, determinación de fortalezas y debilidades, factores críticos de éxito y ventajas competi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Áreas potencialmente importa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orno polí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s sociales y cultu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s económ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ctos leg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cional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untos medioambi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aspec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38800" y="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izar el ento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39:15Z</dcterms:created>
  <dc:creator>CARLOS REY ESCRIBANO</dc:creator>
  <dc:description/>
  <dc:language>en-US</dc:language>
  <cp:lastModifiedBy>Ivan Alvarez Valdes</cp:lastModifiedBy>
  <cp:lastPrinted>2001-11-23T07:32:28Z</cp:lastPrinted>
  <dcterms:modified xsi:type="dcterms:W3CDTF">2008-08-08T10:32:45Z</dcterms:modified>
  <cp:revision>52</cp:revision>
  <dc:subject/>
  <dc:title>Los cuatro grandes sistemas sociales</dc:title>
</cp:coreProperties>
</file>