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B1B19-88B2-427C-8E50-7AF75C89C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625D7-F4C8-4FD3-BD1E-2353C2C2B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3E04C-3282-47EB-AE99-A5F77EF6C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1A714-9CE5-44E1-B038-25BE9D50A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EDA01-D306-496A-8FB5-68613BE86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1DB72-E445-46B8-A610-8325227E3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D75D7-DC18-44D2-9E22-CE2617D9B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A2B4C-99C7-4C28-BF1B-6BE4B000B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E3E7A-C1E9-4573-924E-FC689CB48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3C10D-40C2-438E-912B-20F4EB003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A52BC-5B7A-45A4-B9C9-1706274EA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5C9B0-6AE1-40FF-8E5F-F6411253B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6F837-928F-4469-8BD5-4C5D826753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987640" y="2205000"/>
            <a:ext cx="2808360" cy="187164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2124000" y="4581360"/>
            <a:ext cx="475164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 acreditación institucional  tiene por objetivo evaluar el cumplimiento de la misión institucional y verificar la existencia de mecanismos eficaces de autorregulación y de aseguramiento de la calidad al interior de las instituciones de educación superior , y propender al fortalecimiento de su capacidad de autorregulación y al mejoramiento continuo de la calid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 evaluación institucional se refiere principalmente a la verificación de la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xistencia formal y a la aplicación sistemática de políticas y mecanismos tendientes a velar por el cumplimiento de los propósitos institucionales , 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que contempla necesariamente las funciones de gestión institucional y docencia de pregrado o docencia conducente a título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ebe contar con propós itos y fin es in s t itu cion a les a propia dos 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la ros , qu e or ien ta n a decu a damen te s u des a r rollo. As imismo, la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olít ica s y meca n ismos de a s egu ramien to de la ca lida d deben vela 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or el cumplimien to de los propós itos decla ra dos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· Debe con ta r con p olít ica s y meca n ismos de a s egu ramien to de 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a lida d qu e s e a pliqu en s is temá t icamen te en los diver s os n ive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n s t itu cion a les , de modo eficien te y efica z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· Debe da r eviden cia s de res u lta dos con corda n tes con los propós i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n s t itu cion a les decla ra dos y ca u tela d os media n te polít ica s 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eca n ismos de a u tor regu la ción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· Debe demos t ra r qu e t ien e ca pa cida d pa r a efectu a r a ju s tes y camb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n eces a r ios pa ra mejora r s u ca lida d y a va n za r con s is ten temen 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h a cia el logro de s u s propós itos decla ra dos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Guia para la Aacredit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Normas y Procedimien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Junio 20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mision Nacional de Acredit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1T09:22:40Z</dcterms:created>
  <dc:creator>Ivan Alvarez Valdes</dc:creator>
  <dc:description/>
  <dc:language>en-US</dc:language>
  <cp:lastModifiedBy>Ivan Alvarez Valdes</cp:lastModifiedBy>
  <dcterms:modified xsi:type="dcterms:W3CDTF">2008-08-01T09:31:34Z</dcterms:modified>
  <cp:revision>4</cp:revision>
  <dc:subject/>
  <dc:title>Diapositiva 1</dc:title>
</cp:coreProperties>
</file>