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6ECE-4BF7-43E9-808A-FBF3FF3F5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7056-D8CB-4FC6-BDF7-442FDB20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6C3D-0C0A-4D5A-A717-A1BB89DF6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9A92-1F9A-40E4-9D96-317377204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28BB-EF2B-451B-8B5E-D2CDCC1A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4104-33CE-4DC4-A51C-CF0A6467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AC14-ACF4-4799-8A15-E9787507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C848-129E-41B5-AE6C-EA567583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2E57-9598-4F96-93A0-0356985F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BD83-2117-4520-AB16-D91C8300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CBFF-2C99-44B5-B9AB-89A4F298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81A9-49FB-4D41-AE33-DF739599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5007-0950-4404-894B-C1A1C3D76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987640" y="2205000"/>
            <a:ext cx="2808360" cy="1871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124000" y="4581360"/>
            <a:ext cx="4751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acreditación institucional  tiene por objetivo evaluar el cumplimiento de la misión institucional y verificar la existencia de mecanismos eficaces de autorregulación y de aseguramiento de la calidad al interior de las instituciones de educación superior , y propender al fortalecimiento de su capacidad de autorregulación y al mejoramiento continuo de la c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evaluación institucional se refiere principalmente a la verificación de l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stencia formal y a la aplicación sistemática de políticas y mecanismos tendientes a velar por el cumplimiento de los propósitos institucionales ,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 contempla necesariamente las funciones de gestión institucional y docencia de pregrado o docencia conducente a títul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be contar con propós itos y fin es in s t itu cion a les a propia dos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a ros , qu e or ien ta n a decu a damen te s u des a r rollo. As imismo, la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ít ica s y meca n ismos de a s egu ramien to de la ca lida d deben vela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 el cumplimien to de los propós itos decla ra dos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· Debe con ta r con p olít ica s y meca n ismos de a s egu ramien to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 lida d qu e s e a pliqu en s is temá t icamen te en los diver s os n iv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 s t itu cion a les , de modo eficien te y efica z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· Debe da r eviden cia s de res u lta dos con corda n tes con los propós 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 s t itu cion a les decla ra dos y ca u tela d os media n te polít ica s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ca n ismos de a u tor regu la ción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· Debe demos t ra r qu e t ien e ca pa cida d pa r a efectu a r a ju s tes y camb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 eces a r ios pa ra mejora r s u ca lida d y a va n za r con s is ten temen 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 a cia el logro de s u s propós itos decla ra do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uia para la Aacredi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rmas y Proced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Junio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ision Nacional de Acredi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09:22:40Z</dcterms:created>
  <dc:creator>Ivan Alvarez Valdes</dc:creator>
  <dc:description/>
  <dc:language>en-US</dc:language>
  <cp:lastModifiedBy>Ivan Alvarez Valdes</cp:lastModifiedBy>
  <dcterms:modified xsi:type="dcterms:W3CDTF">2008-08-01T09:31:34Z</dcterms:modified>
  <cp:revision>4</cp:revision>
  <dc:subject/>
  <dc:title>Diapositiva 1</dc:title>
</cp:coreProperties>
</file>