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05C0-BFE1-4740-8AE7-8C899060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C9D9-8C08-4F41-BC5D-50CB23DF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390E-7819-48E6-971D-A244EF7A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619-8793-4556-A914-B86A627C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C3F-91EC-42FA-9612-C4C85DA3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72F-01C7-4683-A6F5-1F61F3DF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3F6-05A3-4B22-A719-AF37F371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040D-9443-4F48-822E-F3C3E161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627-A336-41A7-A5D7-3D116A11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3AA-4086-47F5-A7F5-AC9C244E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87D-7126-4D37-B230-2318BCC9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E9C-73C9-4AAD-9550-A9F7260E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19AE-3DD9-4D78-AF90-236DD86E7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87640" y="2205000"/>
            <a:ext cx="2808360" cy="1871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124000" y="4581360"/>
            <a:ext cx="4751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acreditación institucional  tiene por objetivo evaluar el cumplimiento de la misión institucional y verificar la existencia de mecanismos eficaces de autorregulación y de aseguramiento de la calidad al interior de las instituciones de educación superior , y propender al fortalecimiento de su capacidad de autorregulación y al mejoramiento continuo de la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evaluación institucional se refiere principalmente a la verificación de 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stencia formal y a la aplicación sistemática de políticas y mecanismos tendientes a velar por el cumplimiento de los propósitos institucionales 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contempla necesariamente las funciones de gestión institucional y docencia de pregrado o docencia conducente a título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be contar con propós itos y fin es in s t itu cion a les a propia do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a ros , qu e or ien ta n a decu a damen te s u des a r rollo. As imismo, la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lít ica s y meca n ismos de a s egu ramien to de la ca lida d deben vela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cumplimien to de los propós itos decla ra dos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· Debe con ta r con p olít ica s y meca n ismos de a s egu ramien to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 lida d qu e s e a pliqu en s is temá t icamen te en los diver s os n 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 s t itu cion a les , de modo eficien te y efica 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· Debe da r eviden cia s de res u lta dos con corda n tes con los propós 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 s t itu cion a les decla ra dos y ca u tela d os media n te polít ica 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 n ismos de a u tor regu la ción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· Debe demos t ra r qu e t ien e ca pa cida d pa r a efectu a r a ju s tes y cam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 eces a r ios pa ra mejora r s u ca lida d y a va n za r con s is ten temen 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 a cia el logro de s u s propós itos decla ra do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uia para la Aacred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rmas y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Junio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ision Nacional de Acred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9:22:40Z</dcterms:created>
  <dc:creator>Ivan Alvarez Valdes</dc:creator>
  <dc:description/>
  <dc:language>en-US</dc:language>
  <cp:lastModifiedBy>Ivan Alvarez Valdes</cp:lastModifiedBy>
  <dcterms:modified xsi:type="dcterms:W3CDTF">2008-08-01T09:31:34Z</dcterms:modified>
  <cp:revision>4</cp:revision>
  <dc:subject/>
  <dc:title>Diapositiva 1</dc:title>
</cp:coreProperties>
</file>