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582-546F-4F9F-BB54-4C9CC1F7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5F36-F1FD-4EEC-97E7-569EA448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469-1366-4F28-8B38-0F49926C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050-876D-4991-BF66-620872C5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4B00-503C-4688-92E4-E4B1B3F2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83F-12BC-4185-9781-256508B1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F210-F5B4-4B51-92CD-807A1A22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831-3106-450E-8621-53ADC5BA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DC7-D1E3-4519-ABBA-742018AB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966-2C62-46BD-BB54-881D338A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D17-FFBE-4E00-B565-B2F05EF2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345-FC05-42DD-918C-F7BC0969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EC8C-8043-4938-BFDF-C0B19308B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87640" y="220500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24000" y="4581360"/>
            <a:ext cx="4751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creditación institucional  tiene por objetivo evaluar el cumplimiento de la misión institucional y verificar la existencia de mecanismos eficaces de autorregulación y de aseguramiento de la calidad al interior de las instituciones de educación superior , y propender al fortalecimiento de su capacidad de autorregulación y al mejoramiento continuo de la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valuación institucional se refiere principalmente a la verificación de l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cia formal y a la aplicación sistemática de políticas y mecanismos tendientes a velar por el cumplimiento de los propósitos institucionales 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contempla necesariamente las funciones de gestión institucional y docencia de pregrado o docencia conducente a títul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be contar con propós itos y fin es in s t itu cion a les a propia do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a ros , qu e or ien ta n a decu a damen te s u des a r rollo. As imismo, la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ít ica s y meca n ismos de a s egu ramien to de la ca lida d deben vel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l cumplimien to de los propós itos decla ra do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· Debe con ta r con p olít ica s y meca n ismos de a s egu ramien to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 lida d qu e s e a pliqu en s is temá t icamen te en los diver s os n 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 s t itu cion a les , de modo eficien te y efica 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· Debe da r eviden cia s de res u lta dos con corda n tes con los propós 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 s t itu cion a les decla ra dos y ca u tela d os media n te polít ica 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 n ismos de a u tor regu la ción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· Debe demos t ra r qu e t ien e ca pa cida d pa r a efectu a r a ju s tes y cam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 eces a r ios pa ra mejora r s u ca lida d y a va n za r con s is ten temen 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 a cia el logro de s u s propós itos decla ra do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ia para la Aacred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rmas y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unio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ision Nacional de Acred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9:22:40Z</dcterms:created>
  <dc:creator>Ivan Alvarez Valdes</dc:creator>
  <dc:description/>
  <dc:language>en-US</dc:language>
  <cp:lastModifiedBy>Ivan Alvarez Valdes</cp:lastModifiedBy>
  <dcterms:modified xsi:type="dcterms:W3CDTF">2008-08-01T09:31:34Z</dcterms:modified>
  <cp:revision>4</cp:revision>
  <dc:subject/>
  <dc:title>Diapositiva 1</dc:title>
</cp:coreProperties>
</file>