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7AED-7564-467C-A4B2-8E624316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A9E6-FE1A-4654-8FB5-998F8CBD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F126-5986-48AC-9A1F-ACEDA41C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B32B-027E-4D2F-8117-191349F4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A74A-2FAA-4E23-8733-B314CE09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5A03-13D3-44D6-BF90-BA0BA621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8CE0-CFE4-4836-B6DC-F154B845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0545-6A48-4649-8E7D-4FBA0264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5CB6-134D-4097-9471-0AD40B9C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8E14-A668-4E25-A2E4-5E30D336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0C47-E575-4DB0-B6D8-FAE9EB21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3F8D-CDC8-4727-9395-107F9782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6B77-BCE6-455F-84D0-9368CCB9001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trol de Gestión Estratég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án Álvarez 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mavera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lan Estratégico es el conjunto de análisis, decisiones y acciones que una organización lleva a cabo para crear y mantener ventajas competitivas sustentables a lo largo del tiemp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4572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lan Estraté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Fases de la gestión empresarial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Visión Trad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Organización y asignación de recursos (dot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3809880"/>
            <a:ext cx="5257800" cy="762120"/>
          </a:xfrm>
          <a:prstGeom prst="wedgeRectCallout">
            <a:avLst>
              <a:gd name="adj1" fmla="val -49004"/>
              <a:gd name="adj2" fmla="val -118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38098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mparar los resultados obtenidos </a:t>
            </a:r>
            <a:br>
              <a:rPr sz="2000"/>
            </a:b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n los objetivos plante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ses de la gestión empresarial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isión de la Dirección Estraté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pt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sión, Misión y Filosofía y Va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croentorno, Industria, Interno (FO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lecer objetivos y definir estrateg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, cultura, actividades, Control de Gest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l Control de la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Un instrumento de realimentación para el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ogro de los objetivos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tra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stemas de control: un 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2924280"/>
            <a:ext cx="2087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ermost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19640" y="4724280"/>
            <a:ext cx="2016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ns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3357720"/>
            <a:ext cx="187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72360" y="3357720"/>
            <a:ext cx="0" cy="180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435640" y="5157720"/>
            <a:ext cx="93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63640" y="3068640"/>
            <a:ext cx="609840" cy="60948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050920" y="5157720"/>
            <a:ext cx="136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050920" y="3716280"/>
            <a:ext cx="0" cy="144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3357720"/>
            <a:ext cx="93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3357720"/>
            <a:ext cx="93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50880" y="35002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3440" y="35002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e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0360" y="220500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aración de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al con dese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138400" y="1638360"/>
            <a:ext cx="4867200" cy="3581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63080" y="380880"/>
            <a:ext cx="60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gulador centrifugo de Wat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76520" y="533520"/>
            <a:ext cx="5257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128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stema de Control: Esquema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01640" y="2424240"/>
            <a:ext cx="7128000" cy="3288600"/>
            <a:chOff x="701640" y="2424240"/>
            <a:chExt cx="7128000" cy="3288600"/>
          </a:xfrm>
        </p:grpSpPr>
        <p:sp>
          <p:nvSpPr>
            <p:cNvPr id="88" name=""/>
            <p:cNvSpPr/>
            <p:nvPr/>
          </p:nvSpPr>
          <p:spPr>
            <a:xfrm>
              <a:off x="6373080" y="2424240"/>
              <a:ext cx="1456560" cy="140832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Entidad Control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83640" y="2424240"/>
              <a:ext cx="1458720" cy="1408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808080"/>
                  </a:solidFill>
                  <a:latin typeface="Arial"/>
                </a:rPr>
                <a:t>Instrumento de 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01640" y="2424240"/>
              <a:ext cx="1457640" cy="1408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Evaluador: comparación con un estánd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27640" y="2424240"/>
              <a:ext cx="1458720" cy="1408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808080"/>
                  </a:solidFill>
                  <a:latin typeface="Arial"/>
                </a:rPr>
                <a:t>Ejecutor: alineación del comport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27640" y="4302720"/>
              <a:ext cx="1458720" cy="1410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808080"/>
                  </a:solidFill>
                  <a:latin typeface="Arial"/>
                </a:rPr>
                <a:t>Detector: información sobre lo que ocur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159280" y="3129480"/>
              <a:ext cx="324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42360" y="3129480"/>
              <a:ext cx="48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86720" y="3129480"/>
              <a:ext cx="48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20000" y="3832560"/>
              <a:ext cx="1080" cy="1175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886720" y="5007960"/>
              <a:ext cx="1133280" cy="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3132000" y="5007960"/>
              <a:ext cx="1295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132000" y="3832560"/>
              <a:ext cx="0" cy="1175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roceso de control de gestión es el proceso por el cuál los directivos de todos los niveles aseguran de que las personas a las que supervisan implantan sus estrategias formul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roceso de control utilizado por los directivos contiene los mismos elementos que los sistemas de control más simp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detectores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forman de lo que ocurre en la organiz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evaluadores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paran esta información con el estado dese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ejecutores</a:t>
            </a:r>
            <a:r>
              <a:rPr b="0" lang="es-MX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oman acciones correctoras una vez que perciben diferencias significativas entre el estado actual y el dese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stemas de comunicac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informan a los directivos sobre lo que está ocurriendo y de su comparación con el estado dese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n embargo existen diferencias entre el proceso de control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estión y el proceso más simple descri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estándar no esta predeterminado, es plan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control de gestión no es automá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control de gestión requiere coordinación entre individ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relación entre la percepción de la necesidad de actuar y la decisión sobre las medidas a tomar para obtener el resultado deseado puede no ser cl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a gran parte del control de gestión es auto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éxito empresarial, exige desarrollar </a:t>
            </a: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ventajas compet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requiere una </a:t>
            </a: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estrategi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 debe implementar, ejecutar y monitorear adecuadamente a fin de conseguir los resultados propues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implementación de un </a:t>
            </a: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Sistema de Control de Gest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roporciona el apoyo necesario para tomar decisiones correctivas a nivel estratégico y operacional, con el fin de alcanzar los objetivos propues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Arial"/>
              </a:rPr>
              <a:t>Sistema de Control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una herramienta gerencial y estratégica de información que, apoyada 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u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vestig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índ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d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idos en forma sistemática, periódica y objetiva, que permite que la organización sea eficaz, eficiente, efectiva y produc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Un SCG es un instrumento de realimentación, para verificar que estamos cumpliendo lo que nos propus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ara qué contr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Todos hacemos gestión, aunque sea intuitiva, y controlamos el rumbo, aunque no usemos indic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l control de gestión busca sistematizar estos datos par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Ordenar el aparente ca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Definir cursos de acción que potencien las fortalezas y neutralicen las deb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Sin control, de nada vale planificar, programar y operar bien, porque nunca sabremos si fuimos efec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finalizar el curso el participa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ocerá l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ceptos fundamentales sobre Sistemas de Control de Gest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rá capaz de analizar, diseñar, implementar y mejorar Sistemas de Control de Gestión orientados a la implementación de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licará los enfoques e instrumentos específicos del Control de Gestión tales como, análisis de desviaciones, presupuestos flexibles, Balanced Scorec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ará con un marco conceptual actualizado para la toma de deci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ceptos y definiciones funda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erramientas contables de Planificación y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stión basada en procesos y gestión estratégica de co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stión Corporativa y de Unidades Estratégicas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valuación del desempeño corporativo y de las unidades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stema de control de Gestión integral, el Balanced Score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1523880"/>
            <a:ext cx="86425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Un hombre caminaba por la calle de un pequeño puebl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cuando de pronto se da cuenta que encima de el h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un globo aerostático flotando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De ese globo cuelga una canasta, y en la canasta hay un hombre, que le hace señas desesperado. Con curiosidad, se aproxima lo mas que puede y escucha con atención al piloto del globo, quien le gri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Disculpe ¿podría ayudarme?. Le prometí a un amigo que me encontraría con el a las 2 p.m., pero ya son las 2:30 p.m., y no se donde esto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l transeúnte, con mucha cortesía le responde: claro que puedo ayudarle, usted se encuentra flotando a unos 20 metros encima de la Calle Principal. Esta a 40 grados de latitud Norte y 58 grados de longitud Oes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495360"/>
            <a:ext cx="82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roducción: el ingeniero y el ger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93080" y="260280"/>
            <a:ext cx="149220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685800"/>
            <a:ext cx="8229600" cy="557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l aeronauta escucha con atención, y después le pregunta con una sonris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¿Amigo, es usted ingenier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i señor, para servirle, pero ¿como lo sup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Porque todo lo que usted me ha dicho es técnicamente correcto, pero esa información no me sirve de nada, y sigo perd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l Ingeniero se queda callado a su vez, y al final le pregunta al del glob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¿Y usted, es por casualidad, ger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i, soy gerente de una empresa. ¿Como lo ha averigua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¡Ah! muy fácil: Mire, usted no sabe ni donde esta, ni para donde 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Hizo una promesa que no sabe como cumplir, y espera que otro 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resuelva el problema. Esta tan perdido como antes de preguntarme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además, por algún extraño motivo, resulta que ahora la culpa es m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planificación empresa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Necesitan un plan las empres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videncia empírica muestra que existe una alta correlación entre el grado de formalización de la planificación, y los buenos resultados obte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ificación formal vs. Planificación emer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no se fijan objetivos, no se corre el riesgo de no cumplirlos, pero tampoco se alcanza el éx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un barco sin timón, cualquier viento es favor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3276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lan estraté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empresas están insertas en un mundo que cada vez más global, de cambios veloces y enfrentando una competencia cada vez más agres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ste contexto, la empresa debe trazar el rumbo que marcará su futuro. (“Diseña su futuro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ocumento que recoge este plan se denomina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lan Estraté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8T17:43:51Z</dcterms:created>
  <dc:creator>John M. Marshall</dc:creator>
  <dc:description/>
  <dc:language>en-US</dc:language>
  <cp:lastModifiedBy>IALVAREZ</cp:lastModifiedBy>
  <dcterms:modified xsi:type="dcterms:W3CDTF">2008-08-04T13:34:22Z</dcterms:modified>
  <cp:revision>26</cp:revision>
  <dc:subject/>
  <dc:title>No Slide Title</dc:title>
</cp:coreProperties>
</file>