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0DCAC-1BC4-49DB-94E2-AC0284E34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6055F-8BFC-4D24-9335-0891E3EE2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7E631-28F8-48B8-8E1E-E4324B8E7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B567B-46BD-4036-B527-B4E566E40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19BE7-16ED-48AC-9B46-70AF95DE1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E95D3-C86A-4A70-A73B-CA289060E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10492-1F8D-47F5-9D9E-36756177A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E3D68-95F1-421E-8CE2-25D49CED6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30440-6352-4E54-94BA-CBF745084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6942F-1106-4BCE-9745-C7E7B151F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CD88F-7F3F-4E4C-9D42-E2A074E04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9C90D-139E-49C2-B491-0C9294FF1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E14D5-332F-4D63-AC68-FD656B479CD4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Control de Gestión Estratégic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ván Álvarez V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rimavera 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l Plan Estratégico es el conjunto de análisis, decisiones y acciones que una organización lleva a cabo para crear y mantener ventajas competitivas sustentables a lo largo del tiempo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62120" y="457200"/>
            <a:ext cx="480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l Plan Estratégi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Fases de la gestión empresarial</a:t>
            </a:r>
            <a:br>
              <a:rPr sz="3200"/>
            </a:b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Visión Tradic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Planific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Organización y asignación de recursos (dota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Direc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971800" y="3809880"/>
            <a:ext cx="5257800" cy="762120"/>
          </a:xfrm>
          <a:prstGeom prst="wedgeRectCallout">
            <a:avLst>
              <a:gd name="adj1" fmla="val -49004"/>
              <a:gd name="adj2" fmla="val -11875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14600" y="3809880"/>
            <a:ext cx="5867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Comparar los resultados obtenidos </a:t>
            </a:r>
            <a:br>
              <a:rPr sz="2000"/>
            </a:b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con los objetivos plantead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Fases de la gestión empresarial</a:t>
            </a: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Visión de la Dirección Estratég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nceptualiz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Visión, Misión y Filosofía y Val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náli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acroentorno, Industria, Interno (FOD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lanific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tablecer objetivos y definir estrateg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mplement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tructura, cultura, actividades, Control de Gest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00"/>
                </a:solidFill>
                <a:latin typeface="Arial"/>
              </a:rPr>
              <a:t>El Control de la Gest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Un instrumento de realimentación para el </a:t>
            </a: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logro de los objetivos</a:t>
            </a: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 traz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istemas de control: un ejemp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348000" y="2924280"/>
            <a:ext cx="208764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Termosta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19640" y="4724280"/>
            <a:ext cx="20160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Senso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435640" y="3357720"/>
            <a:ext cx="18730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372360" y="3357720"/>
            <a:ext cx="0" cy="1800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5435640" y="5157720"/>
            <a:ext cx="9367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63640" y="3068640"/>
            <a:ext cx="609840" cy="60948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2050920" y="5157720"/>
            <a:ext cx="136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2050920" y="3716280"/>
            <a:ext cx="0" cy="14414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411280" y="3357720"/>
            <a:ext cx="9367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826920" y="3357720"/>
            <a:ext cx="9367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950880" y="3500280"/>
            <a:ext cx="14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Temperatu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r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53440" y="3500280"/>
            <a:ext cx="14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Temperatu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desea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60360" y="2205000"/>
            <a:ext cx="322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omparación de Temperatu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real con desea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2138400" y="1638360"/>
            <a:ext cx="4867200" cy="358128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1063080" y="380880"/>
            <a:ext cx="609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Regulador centrifugo de Wat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676520" y="533520"/>
            <a:ext cx="52578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611280" y="189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istema de Control: Esquema gene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701640" y="2424240"/>
            <a:ext cx="7128000" cy="3288600"/>
            <a:chOff x="701640" y="2424240"/>
            <a:chExt cx="7128000" cy="3288600"/>
          </a:xfrm>
        </p:grpSpPr>
        <p:sp>
          <p:nvSpPr>
            <p:cNvPr id="88" name=""/>
            <p:cNvSpPr/>
            <p:nvPr/>
          </p:nvSpPr>
          <p:spPr>
            <a:xfrm>
              <a:off x="6373080" y="2424240"/>
              <a:ext cx="1456560" cy="1408320"/>
            </a:xfrm>
            <a:prstGeom prst="rect">
              <a:avLst/>
            </a:prstGeom>
            <a:solidFill>
              <a:srgbClr val="99cc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000000"/>
                  </a:solidFill>
                  <a:latin typeface="Arial"/>
                </a:rPr>
                <a:t>Entidad Controlad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483640" y="2424240"/>
              <a:ext cx="1458720" cy="14083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808080"/>
                  </a:solidFill>
                  <a:latin typeface="Arial"/>
                </a:rPr>
                <a:t>Instrumento de Contro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01640" y="2424240"/>
              <a:ext cx="1457640" cy="14083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000000"/>
                  </a:solidFill>
                  <a:latin typeface="Arial"/>
                </a:rPr>
                <a:t>Evaluador: comparación con un estánda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27640" y="2424240"/>
              <a:ext cx="1458720" cy="14083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808080"/>
                  </a:solidFill>
                  <a:latin typeface="Arial"/>
                </a:rPr>
                <a:t>Ejecutor: alineación del comportamient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427640" y="4302720"/>
              <a:ext cx="1458720" cy="14101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808080"/>
                  </a:solidFill>
                  <a:latin typeface="Arial"/>
                </a:rPr>
                <a:t>Detector: información sobre lo que ocurr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159280" y="3129480"/>
              <a:ext cx="3240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942360" y="3129480"/>
              <a:ext cx="4849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86720" y="3129480"/>
              <a:ext cx="4863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020000" y="3832560"/>
              <a:ext cx="1080" cy="11750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>
              <a:off x="5886720" y="5007960"/>
              <a:ext cx="1133280" cy="10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 flipH="1">
              <a:off x="3132000" y="5007960"/>
              <a:ext cx="12952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flipV="1">
              <a:off x="3132000" y="3832560"/>
              <a:ext cx="0" cy="11750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ntrol de Gest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l proceso de control de gestión es el proceso por el cuál los directivos de todos los niveles aseguran de que las personas a las que supervisan implantan sus estrategias formulad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l proceso de control utilizado por los directivos contiene los mismos elementos que los sistemas de control más simp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Los </a:t>
            </a:r>
            <a:r>
              <a:rPr b="0" lang="es-MX" sz="2000" spc="-1" strike="noStrike">
                <a:solidFill>
                  <a:srgbClr val="333399"/>
                </a:solidFill>
                <a:latin typeface="Arial"/>
              </a:rPr>
              <a:t>detectores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informan de lo que ocurre en la organiza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Los </a:t>
            </a:r>
            <a:r>
              <a:rPr b="0" lang="es-MX" sz="2000" spc="-1" strike="noStrike">
                <a:solidFill>
                  <a:srgbClr val="333399"/>
                </a:solidFill>
                <a:latin typeface="Arial"/>
              </a:rPr>
              <a:t>evaluadores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comparan esta información con el estado desead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Los </a:t>
            </a:r>
            <a:r>
              <a:rPr b="0" lang="es-MX" sz="2000" spc="-1" strike="noStrike">
                <a:solidFill>
                  <a:srgbClr val="333399"/>
                </a:solidFill>
                <a:latin typeface="Arial"/>
              </a:rPr>
              <a:t>ejecutores</a:t>
            </a:r>
            <a:r>
              <a:rPr b="0" lang="es-MX" sz="20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toman acciones correctoras una vez que perciben diferencias significativas entre el estado actual y el desead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Los </a:t>
            </a:r>
            <a:r>
              <a:rPr b="0" lang="es-MX" sz="2000" spc="-1" strike="noStrike">
                <a:solidFill>
                  <a:srgbClr val="333399"/>
                </a:solidFill>
                <a:latin typeface="Arial"/>
              </a:rPr>
              <a:t>sistemas de comunicación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informan a los directivos sobre lo que está ocurriendo y de su comparación con el estado desead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ntrol de Gest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Sin embargo existen diferencias entre el proceso de control 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gestión y el proceso más simple descri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l estándar no esta predeterminado, es planific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l control de gestión no es automát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l control de gestión requiere coordinación entre individu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La relación entre la percepción de la necesidad de actuar y la decisión sobre las medidas a tomar para obtener el resultado deseado puede no ser cla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Una gran parte del control de gestión es autocontr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resent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éxito empresarial, exige desarrollar </a:t>
            </a:r>
            <a:r>
              <a:rPr b="0" lang="es-ES_tradnl" sz="2400" spc="-1" strike="noStrike">
                <a:solidFill>
                  <a:srgbClr val="00ff00"/>
                </a:solidFill>
                <a:latin typeface="Arial"/>
              </a:rPr>
              <a:t>ventajas competitiv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e requiere una </a:t>
            </a:r>
            <a:r>
              <a:rPr b="0" lang="es-ES_tradnl" sz="2400" spc="-1" strike="noStrike">
                <a:solidFill>
                  <a:srgbClr val="00ff00"/>
                </a:solidFill>
                <a:latin typeface="Arial"/>
              </a:rPr>
              <a:t>estrategia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que se debe implementar, ejecutar y monitorear adecuadamente a fin de conseguir los resultados propuesto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 implementación de un </a:t>
            </a:r>
            <a:r>
              <a:rPr b="0" lang="es-ES_tradnl" sz="2400" spc="-1" strike="noStrike">
                <a:solidFill>
                  <a:srgbClr val="00ff00"/>
                </a:solidFill>
                <a:latin typeface="Arial"/>
              </a:rPr>
              <a:t>Sistema de Control de Gestión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proporciona el apoyo necesario para tomar decisiones correctivas a nivel estratégico y operacional, con el fin de alcanzar los objetivos propuesto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800" spc="-1" strike="noStrike">
                <a:solidFill>
                  <a:srgbClr val="000000"/>
                </a:solidFill>
                <a:latin typeface="Arial"/>
              </a:rPr>
              <a:t>Sistema de Control de Gest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s una herramienta gerencial y estratégica de información que, apoyada 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indicad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stud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investiga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índic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uadr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roducidos en forma sistemática, periódica y objetiva, que permite que la organización sea eficaz, eficiente, efectiva y productiv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Un SCG es un instrumento de realimentación, para verificar que estamos cumpliendo lo que nos propusim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Para qué control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Todos hacemos gestión, aunque sea intuitiva, y controlamos el rumbo, aunque no usemos indicador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El control de gestión busca sistematizar estos datos para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Ordenar el aparente ca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Definir cursos de acción que potencien las fortalezas y neutralicen las debilida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Sin control, de nada vale planificar, programar y operar bien, porque nunca sabremos si fuimos efectiv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500"/>
                            </p:stCondLst>
                            <p:childTnLst>
                              <p:par>
                                <p:cTn id="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5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" dur="500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Objetiv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880" y="1676160"/>
            <a:ext cx="83822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l finalizar el curso el participant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onocerá los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nceptos fundamentales sobre Sistemas de Control de Gest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erá capaz de analizar, diseñar, implementar y mejorar Sistemas de Control de Gestión orientados a la implementación de la estrateg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plicará los enfoques e instrumentos específicos del Control de Gestión tales como, análisis de desviaciones, presupuestos flexibles, Balanced Scorecar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ontará con un marco conceptual actualizado para la toma de decisio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nteni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onceptos y definiciones fundament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Herramientas contables de Planificación y Con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Gestión basada en procesos y gestión estratégica de cos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Gestión Corporativa y de Unidades Estratégicas de Negoc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valuación del desempeño corporativo y de las unidades de negoc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istema de control de Gestión integral, el Balanced Scorec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28600" y="1523880"/>
            <a:ext cx="86425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Arial"/>
              </a:rPr>
              <a:t>Un hombre caminaba por la calle de un pequeño pueblo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Arial"/>
              </a:rPr>
              <a:t>cuando de pronto se da cuenta que encima de el ha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Arial"/>
              </a:rPr>
              <a:t>un globo aerostático flotando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Arial"/>
              </a:rPr>
              <a:t>De ese globo cuelga una canasta, y en la canasta hay un hombre, que le hace señas desesperado. Con curiosidad, se aproxima lo mas que puede y escucha con atención al piloto del globo, quien le grita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Arial"/>
              </a:rPr>
              <a:t>Disculpe ¿podría ayudarme?. Le prometí a un amigo que me encontraría con el a las 2 p.m., pero ya son las 2:30 p.m., y no se donde estoy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Arial"/>
              </a:rPr>
              <a:t>El transeúnte, con mucha cortesía le responde: claro que puedo ayudarle, usted se encuentra flotando a unos 20 metros encima de la Calle Principal. Esta a 40 grados de latitud Norte y 58 grados de longitud Oes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495360"/>
            <a:ext cx="827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Introducción: el ingeniero y el ger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093080" y="260280"/>
            <a:ext cx="1492200" cy="19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80880" y="685800"/>
            <a:ext cx="8229600" cy="5576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Arial"/>
              </a:rPr>
              <a:t>El aeronauta escucha con atención, y después le pregunta con una sonris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Arial"/>
              </a:rPr>
              <a:t>¿Amigo, es usted ingeniero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Arial"/>
              </a:rPr>
              <a:t>Si señor, para servirle, pero ¿como lo supo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Arial"/>
              </a:rPr>
              <a:t>Porque todo lo que usted me ha dicho es técnicamente correcto, pero esa información no me sirve de nada, y sigo perdid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Arial"/>
              </a:rPr>
              <a:t>El Ingeniero se queda callado a su vez, y al final le pregunta al del glob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Arial"/>
              </a:rPr>
              <a:t>¿Y usted, es por casualidad, gerent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Arial"/>
              </a:rPr>
              <a:t>Si, soy gerente de una empresa. ¿Como lo ha averiguado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Arial"/>
              </a:rPr>
              <a:t>¡Ah! muy fácil: Mire, usted no sabe ni donde esta, ni para donde v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Arial"/>
              </a:rPr>
              <a:t>Hizo una promesa que no sabe como cumplir, y espera que otro 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Arial"/>
              </a:rPr>
              <a:t>resuelva el problema. Esta tan perdido como antes de preguntarme 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Arial"/>
              </a:rPr>
              <a:t>además, por algún extraño motivo, resulta que ahora la culpa es mí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a planificación empresar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¿Necesitan un plan las empresa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 evidencia empírica muestra que existe una alta correlación entre el grado de formalización de la planificación, y los buenos resultados obteni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lanificación formal vs. Planificación emerg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i no se fijan objetivos, no se corre el riesgo de no cumplirlos, pero tampoco se alcanza el éxi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ara un barco sin timón, cualquier viento es favorabl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666880" y="2743200"/>
            <a:ext cx="327672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l plan estratég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s empresas están insertas en un mundo que cada vez más global, de cambios veloces y enfrentando una competencia cada vez más agresiv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 este contexto, la empresa debe trazar el rumbo que marcará su futuro. (“Diseña su futuro”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documento que recoge este plan se denomina </a:t>
            </a: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Plan Estratégic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5-18T17:43:51Z</dcterms:created>
  <dc:creator>John M. Marshall</dc:creator>
  <dc:description/>
  <dc:language>en-US</dc:language>
  <cp:lastModifiedBy>IALVAREZ</cp:lastModifiedBy>
  <dcterms:modified xsi:type="dcterms:W3CDTF">2008-08-04T13:34:22Z</dcterms:modified>
  <cp:revision>26</cp:revision>
  <dc:subject/>
  <dc:title>No Slide Title</dc:title>
</cp:coreProperties>
</file>