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18D-4693-4437-9571-4470AAE4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C90-AB6B-4062-A34D-468EC09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402-8BD9-49D0-9E57-2E2A9BB4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9BE-3F63-4704-9206-7000728A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285-3199-4C86-9849-0FB62726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2F9-B421-4AA9-8509-C631B4F8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C1C-A08B-473C-BBD9-BA33CF3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0F4-FA0D-40EB-9716-1B601A3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EA7-1013-4CF4-8878-81C3EE5C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019-AB3B-424D-BB4D-443D328E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147-48F7-4416-BD8D-FFC5E6B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F50-5302-4A23-834F-7A0A458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488-EAB2-4C91-B955-1588CC58B3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8400" y="1638360"/>
            <a:ext cx="48672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3080" y="38088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dor centrifugo de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88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8-08-04T13:34:22Z</dcterms:modified>
  <cp:revision>26</cp:revision>
  <dc:subject/>
  <dc:title>No Slide Title</dc:title>
</cp:coreProperties>
</file>