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9C8-D66E-4D69-8029-3A76D217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B3F-D018-404B-9B65-04426BC5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FC9-528E-41AB-8040-B1BB4745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A20-A8A6-4C21-810E-50B37F21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BD5-BB32-44F4-A6E4-AF2F9F61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A91-DFDF-4AF6-93F9-B78EB26D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FB0-2569-463B-A131-03D522A3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6AC-4440-4BE9-B8CA-CF477EE3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174-CD0D-4436-9974-6087F35C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DF2-43C9-4F43-91E6-A1297B4F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20A-1484-497D-8B03-8653752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997-22BB-4D86-87A1-AACC134B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7121-4040-40DA-A7F3-38FC092F19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8400" y="1638360"/>
            <a:ext cx="4867200" cy="358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3080" y="380880"/>
            <a:ext cx="60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dor centrifugo de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1640" y="2424240"/>
            <a:ext cx="7128000" cy="3288600"/>
            <a:chOff x="701640" y="2424240"/>
            <a:chExt cx="7128000" cy="3288600"/>
          </a:xfrm>
        </p:grpSpPr>
        <p:sp>
          <p:nvSpPr>
            <p:cNvPr id="88" name="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7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86720" y="3129480"/>
              <a:ext cx="48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proceso 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 embargo existen diferencias entre el proceso de contro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stión y el proceso más simple descr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estrategi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Sistema de Control de Gest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ara servirle, pero ¿como lo su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verigu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8-08-04T13:34:22Z</dcterms:modified>
  <cp:revision>26</cp:revision>
  <dc:subject/>
  <dc:title>No Slide Title</dc:title>
</cp:coreProperties>
</file>