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EFED-CADA-42ED-9283-55D8FF162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2720" y="5420160"/>
            <a:ext cx="6134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EC79-79AE-4B16-A001-47A7B590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72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48624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C4EB-124E-4CB1-8020-F53C3C743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16680" y="251460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491000" y="251460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2720" y="542016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416680" y="542016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491000" y="542016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20B8-EF47-4755-8831-6ADE2325F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4129-AA12-4E26-919E-369582BAF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6931-9E9F-4D88-A2F6-308985CD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CE865-6B9A-4637-A1A2-0F86EA54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69FA-641D-4064-BD93-60A2E162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59FC-2168-46B1-9F45-BE39670D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621036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BAB8-3089-4C57-BB98-FC5635D3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4272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45B7E-27CF-451C-93DC-E4DB4EA3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B1D5-9929-4845-B5DD-6BA48D10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48624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9F99C-B922-4E0C-ABC7-FF82451F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42720" y="5420160"/>
            <a:ext cx="6134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2425-EE84-4A03-A818-876FBE48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42720" y="5420160"/>
            <a:ext cx="6134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FEA9-4BB9-4694-A770-F48CC846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4272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48624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7CA6-E9BE-4C9D-9E75-80CBE7403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416680" y="251460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491000" y="251460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42720" y="542016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416680" y="542016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491000" y="542016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CC6F-9392-4801-BC59-6F273C3CA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3F1B-2592-4106-AA54-00F2C6E8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BDF4-A04F-4E88-9F5A-D40F4103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BF64-C171-4106-95B9-27F94322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621036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5AFF-100A-487B-B9FD-67648B1A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272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B8D8-D99E-4AD9-B64A-4204C7C6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8624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925D-3171-498B-ABB2-41271DD5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2720" y="5420160"/>
            <a:ext cx="6134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729E-3A6C-42B7-B192-DC21108A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4000" y="8305560"/>
            <a:ext cx="1428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05560"/>
            <a:ext cx="2171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47920" y="83055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9BC7-177D-44DA-8F22-3CD09786858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6172200" cy="51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3080" y="914040"/>
            <a:ext cx="6286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33160" y="8305560"/>
            <a:ext cx="1447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2362320" y="8305560"/>
            <a:ext cx="2133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4952880" y="830556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71DB-7C52-4250-A100-CD5995D1251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5800" y="2438280"/>
            <a:ext cx="6172200" cy="51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625320" y="372960"/>
          <a:ext cx="5583240" cy="832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372960"/>
                    <a:ext cx="5583240" cy="832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55480" y="-108000"/>
          <a:ext cx="5747040" cy="772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5480" y="-108000"/>
                    <a:ext cx="5747040" cy="772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Sistema Nacional de Innovació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junto de agentes (consumidores, empresas, trabajadores e instituciones) que involucrados en la introducción de una innovación, se interrelacionan mediante cuatro proces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ff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absorción de tecnología extranje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ff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transformación doméstica de tecnologí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ff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producción de recursos human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ff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difusión de tecnologí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La absorción tecnológic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ptura de tecnologí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trategia inicial: “seguidor tecnológico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res canales para absor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cc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versión extranjera direc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cc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tratos de licencia tecnológ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cc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mportaciones de bienes de capi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Transformación tecnológic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reación, adaptación y mejo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mponentes de la estructura productiv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amaño del mercado (costo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nsidad del tejido industrial (proveedor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tructura del mercad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Formación de capital human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a capacidad tecnológica está influida por el capital human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=&gt; Saber seleccionar, adquirir, usar, adaptar, mejorar y crear tecnología en forma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060640" y="3490920"/>
            <a:ext cx="2808360" cy="2376360"/>
          </a:xfrm>
          <a:prstGeom prst="flowChartExtra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89000" y="4067280"/>
            <a:ext cx="2952720" cy="1441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621036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La difusión tecnológic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1876320" y="2987640"/>
            <a:ext cx="33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BSORCIÓN TECNOLÓG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94800" y="614988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DUCA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15320" y="61498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RANS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19600" y="4140360"/>
            <a:ext cx="2866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4240" indent="-8424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4240" indent="-8424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4240" indent="-8424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O DE O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4240" indent="-8424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4240" indent="-8424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URSOS FINANCI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2T20:56:02Z</dcterms:created>
  <dc:creator>DESKPRO</dc:creator>
  <dc:description/>
  <dc:language>en-US</dc:language>
  <cp:lastModifiedBy>alumno</cp:lastModifiedBy>
  <dcterms:modified xsi:type="dcterms:W3CDTF">2003-07-21T13:07:11Z</dcterms:modified>
  <cp:revision>9</cp:revision>
  <dc:subject/>
  <dc:title>Sin título de diapositiva</dc:title>
</cp:coreProperties>
</file>