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3BE-8139-48C2-A20D-99066BA1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39B-3667-40B4-BDA4-A978BFFA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FE5-A03F-468E-BE45-B1B4B1B4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15F-A0FB-4143-9980-20B3DBC8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5427-05B2-42C7-9885-3771BC9F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488-64FD-4FFC-9C06-CA511DD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6400-406B-4AD6-B3FD-EE74816F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8D40-CFC6-4100-9F72-3A63FC8B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E35E-627D-4C0A-BF55-8688F9E6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DF2E-445E-4652-A243-833365DA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4E50-FB5E-4CF9-B0B3-55084476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2C9-8211-4068-BCF2-9A24EDD6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8CFD-B2A2-4CB0-9ABE-B429199F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A3E1-9276-4F4E-BDF4-0C5EA88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D65E-C7C9-485A-B409-733A059F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9099-C6AC-4D4F-A46A-73697DC9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C7F7-A113-46B2-9344-42F3850E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A82-5977-4076-8B3F-07A8D160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20D-B047-4E33-BCE6-4369F075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7CF-DD66-4EEF-B47F-4BA2A713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713-097E-4D12-85E4-CE122C40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D7F-93F8-4BEC-97D4-64361CDA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098-E7C1-4B20-94A7-B8972757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254-6585-41E7-B4DE-792A6D91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055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055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83055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A8E1-09AA-4645-B83B-1902FAD768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914040"/>
            <a:ext cx="6286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F676-BDE7-4E6B-98D7-11A10B2788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25320" y="372960"/>
          <a:ext cx="5583240" cy="832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72960"/>
                    <a:ext cx="558324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5480" y="-108000"/>
          <a:ext cx="5747040" cy="772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-108000"/>
                    <a:ext cx="5747040" cy="77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 Nacional de Innov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junto de agentes (consumidores, empresas, trabajadores e instituciones) que involucrados en la introducción de una innovación, se interrelacionan mediante cuatro proce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absorción de tecnología extranj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ransformación doméstica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roducción de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ifusión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La absor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tecno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egia inicial: “seguidor tecnológic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es canales para absor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ón extranjera dir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ratos de licencia tecn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ortaciones de bienes de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nsforma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ción, adaptación y mej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ntes de la estructura producti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l mercado (cos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sidad del tejido industrial (proveedo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uctura del merc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ormación de capital human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capacidad tecnológica está influida por el capital hum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Saber seleccionar, adquirir, usar, adaptar, mejorar y crear tecnología en forma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60640" y="3490920"/>
            <a:ext cx="2808360" cy="2376360"/>
          </a:xfrm>
          <a:prstGeom prst="flowChartExtra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000" y="4067280"/>
            <a:ext cx="2952720" cy="144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2103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La difusión tecnológic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876320" y="2987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BSORCIÓN TECN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00" y="61498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5320" y="61498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9600" y="4140360"/>
            <a:ext cx="2866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0:56:02Z</dcterms:created>
  <dc:creator>DESKPRO</dc:creator>
  <dc:description/>
  <dc:language>en-US</dc:language>
  <cp:lastModifiedBy>alumno</cp:lastModifiedBy>
  <dcterms:modified xsi:type="dcterms:W3CDTF">2003-07-21T13:07:11Z</dcterms:modified>
  <cp:revision>9</cp:revision>
  <dc:subject/>
  <dc:title>Sin título de diapositiva</dc:title>
</cp:coreProperties>
</file>