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8BC-A5F6-4C56-A5FA-DE085A31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D82-1521-4E21-B318-2A2F8B65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878-A772-4B93-B9F5-231E8986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1668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9100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1668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9100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0A73-4A94-4F5E-830D-5977FF74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D117-5777-485A-B59F-1A9448BB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7F1F-B4E2-443D-9AD8-E9527697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EF11-2017-45A0-B386-8E259A52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D6FD-3C42-433A-9068-EC0F3E24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3E4B-FCDE-402F-ADE0-84C32D35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62103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ACC5-2041-401F-AF4D-4ECD9F4A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43AE-B995-4126-8E49-4EAF427B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2C5-7BA9-4370-A679-C152DEE9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8174-6A9C-434B-8986-470EA164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DE53-527D-4E2D-9A1A-A6931F11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5EAE-A4AD-49D9-854B-54AD3F46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1177-7174-48EA-83B1-8087250B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1668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49100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4272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41668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49100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7C87-5626-4171-B61E-32AD858B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2A01-B076-4C5A-AA7D-97CAE94C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D5A-C324-4522-B62D-78E3DD93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3BD-6860-4896-A41F-F4DCFF6C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62103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132-6BC2-4065-829A-E295D6DF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028A-D94A-4496-BDE6-BE0515EE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978-6710-43AF-9BDE-92E6AF5A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35FF-4611-4A05-B9C3-FC86F686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830556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0556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47920" y="83055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EDDB-1B46-41A3-9858-98810847B4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6172200" cy="5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3080" y="914040"/>
            <a:ext cx="6286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8305560"/>
            <a:ext cx="1447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362320" y="830556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495288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70C6-7AFB-4DB8-8486-3322A42C25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6172200" cy="5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25320" y="372960"/>
          <a:ext cx="5583240" cy="832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372960"/>
                    <a:ext cx="5583240" cy="83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55480" y="-108000"/>
          <a:ext cx="5747040" cy="772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-108000"/>
                    <a:ext cx="5747040" cy="772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Sistema Nacional de Innovació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junto de agentes (consumidores, empresas, trabajadores e instituciones) que involucrados en la introducción de una innovación, se interrelacionan mediante cuatro proces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absorción de tecnología extranj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transformación doméstica de tecnolog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roducción de recursos huma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difusión de tecnolog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La absorción tecnológ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ptura de tecnologí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rategia inicial: “seguidor tecnológic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es canales para absor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sión extranjera direc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tratos de licencia tecnoló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ortaciones de bienes de cap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Transformación tecnológ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reación, adaptación y mejo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ponentes de la estructura productiv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maño del mercado (cost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nsidad del tejido industrial (proveedor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ructura del merca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Formación de capital human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capacidad tecnológica está influida por el capital hum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&gt; Saber seleccionar, adquirir, usar, adaptar, mejorar y crear tecnología en forma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60640" y="3490920"/>
            <a:ext cx="2808360" cy="2376360"/>
          </a:xfrm>
          <a:prstGeom prst="flowChartExtra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9000" y="4067280"/>
            <a:ext cx="2952720" cy="1441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621036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La difusión tecnológic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1876320" y="298764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BSORCIÓN TECNOL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4800" y="614988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UC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15320" y="61498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19600" y="4140360"/>
            <a:ext cx="2866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URSOS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20:56:02Z</dcterms:created>
  <dc:creator>DESKPRO</dc:creator>
  <dc:description/>
  <dc:language>en-US</dc:language>
  <cp:lastModifiedBy>alumno</cp:lastModifiedBy>
  <dcterms:modified xsi:type="dcterms:W3CDTF">2003-07-21T13:07:11Z</dcterms:modified>
  <cp:revision>9</cp:revision>
  <dc:subject/>
  <dc:title>Sin título de diapositiva</dc:title>
</cp:coreProperties>
</file>