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5F9-FC92-4661-8D6F-73545974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21D-3ABF-4D60-BC81-E0498150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A95-A3BC-40A7-BFC1-26672D3E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A07-F286-442C-9A06-92839C09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559A-2C15-44CB-90D3-1B7F481F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74D9-0DC1-4F46-8D19-FE2C2D1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1387-69E9-455F-880F-E5ECADA8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B7AB-7146-4E2B-8405-CCCA59EA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DBCF-A581-472B-84A4-29191DB1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D076-FADE-444D-ABC6-5AAF8080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B53E-A80A-4009-8B50-AA84341B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E5D-0341-4F9C-9AF7-07205DD3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72C4-A5AE-4840-9635-B49147A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F90F-590E-4626-98EF-4D44C11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2684-51D5-4F6D-8431-BD42480A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5B0F-2137-4567-B49D-2C49C742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60F7-87C8-4524-A879-43F027B7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D47-77FD-43E4-AFE9-6729998E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27F-A10F-4FE5-B994-81EFECB9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2B0-2EFC-4DC5-9669-DC58F97F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878-EDC1-4EC3-BEF2-ED7758A5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94C-83B3-4835-80A6-F906258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867-1A41-4603-A3AE-5414D7CC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48E-E919-4892-AAEC-1B74208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055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055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83055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BAD-D41E-4ECD-8B85-C98676B29E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914040"/>
            <a:ext cx="6286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6F47-B316-49F4-B726-FBE47D1E2B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25320" y="372960"/>
          <a:ext cx="5583240" cy="832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72960"/>
                    <a:ext cx="558324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5480" y="-108000"/>
          <a:ext cx="5747040" cy="772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-108000"/>
                    <a:ext cx="5747040" cy="77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 Nacional de Innov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junto de agentes (consumidores, empresas, trabajadores e instituciones) que involucrados en la introducción de una innovación, se interrelacionan mediante cuatro proce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absorción de tecnología extranj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ransformación doméstica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roducción de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ifusión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La absor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tecno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egia inicial: “seguidor tecnológic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es canales para absor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ón extranjera dir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ratos de licencia tecn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ortaciones de bienes de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nsforma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ción, adaptación y mej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ntes de la estructura producti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l mercado (cos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sidad del tejido industrial (proveedo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uctura del merc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ormación de capital human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capacidad tecnológica está influida por el capital hum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Saber seleccionar, adquirir, usar, adaptar, mejorar y crear tecnología en forma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60640" y="3490920"/>
            <a:ext cx="2808360" cy="2376360"/>
          </a:xfrm>
          <a:prstGeom prst="flowChartExtra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000" y="4067280"/>
            <a:ext cx="2952720" cy="144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2103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La difusión tecnológic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876320" y="2987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BSORCIÓN TECN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00" y="61498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5320" y="61498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9600" y="4140360"/>
            <a:ext cx="2866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0:56:02Z</dcterms:created>
  <dc:creator>DESKPRO</dc:creator>
  <dc:description/>
  <dc:language>en-US</dc:language>
  <cp:lastModifiedBy>alumno</cp:lastModifiedBy>
  <dcterms:modified xsi:type="dcterms:W3CDTF">2003-07-21T13:07:11Z</dcterms:modified>
  <cp:revision>9</cp:revision>
  <dc:subject/>
  <dc:title>Sin título de diapositiva</dc:title>
</cp:coreProperties>
</file>