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317340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31680" y="6486120"/>
            <a:ext cx="929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5A7D-5B58-4AC2-B38C-712AA63A0FFE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INCENTIVO A INVERTIR EN INVESTIGACION ES EL DESARROLLO DE NUEVOS PRODUCTOS QUE NO TENGAN COMPETENCIA EN EL MER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ldImg"/>
          </p:nvPr>
        </p:nvSpPr>
        <p:spPr>
          <a:xfrm>
            <a:off x="3173400" y="5158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Propiedad Industrial: PATENTES 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2360" y="4869000"/>
            <a:ext cx="141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f0e30"/>
                </a:solidFill>
                <a:latin typeface="Times New Roman"/>
              </a:rPr>
              <a:t>In 56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86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QUE ES 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4120" y="1771200"/>
            <a:ext cx="8508960" cy="47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servicio público centralizado, perteneciente al Ministerio de Economía, Fomento y Reconstru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ibuye a que el país adquiera conciencia, acerca de las protecciones y beneficios que le ofrece la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 un organismo que promueve y gestiona la política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8520" y="168120"/>
            <a:ext cx="8810640" cy="11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FUNCIONES DEL DEPARTAMENTO DE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760" y="1779480"/>
            <a:ext cx="8207280" cy="471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lver las solicitudes de derechos de propiedad industrial: Privilegios indust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der los títulos y certificaciones cuando correspon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ntener los registros de privilegios inscrito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recer servicios de información tecnológica de su base de datos a nivel mundial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CONVENIO DE PARI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36180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6bf69"/>
                </a:solidFill>
                <a:latin typeface="Arial"/>
              </a:rPr>
              <a:t>Principios Básicos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6280" y="1198440"/>
            <a:ext cx="8207280" cy="536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O NACIONA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RECHO DE PRIORIDA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DEPENDENCIA DE LAS PATENTES Y MARCAS COMERCI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52720" y="833400"/>
            <a:ext cx="534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8040" y="863640"/>
            <a:ext cx="5816520" cy="48240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2868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7000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2400" y="1519200"/>
            <a:ext cx="69552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0040" y="1384200"/>
            <a:ext cx="73656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8040" y="5130720"/>
            <a:ext cx="5816520" cy="482760"/>
          </a:xfrm>
          <a:prstGeom prst="rect">
            <a:avLst/>
          </a:prstGeom>
          <a:noFill/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0280" y="5160960"/>
            <a:ext cx="1786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Times New Roman"/>
              </a:rPr>
              <a:t>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99080" y="1376280"/>
            <a:ext cx="736920" cy="3708360"/>
          </a:xfrm>
          <a:prstGeom prst="rect">
            <a:avLst/>
          </a:pr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69200" y="1522440"/>
            <a:ext cx="69516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COMPETENCIA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98720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8080" y="4425480"/>
            <a:ext cx="65404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COMPITE LIBREMENTE POR EL 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ENTIVO A INVERTIR EN INVESTIGACION</a:t>
            </a:r>
            <a:br>
              <a:rPr sz="2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sarrollar nuevos productos y ganar con una patente en el merc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8080" y="4425840"/>
            <a:ext cx="6540480" cy="520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RC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91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30960" y="1987560"/>
            <a:ext cx="25020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MPRESA       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825640"/>
            <a:ext cx="0" cy="1587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8080" y="4959360"/>
            <a:ext cx="410184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61040" y="5130720"/>
            <a:ext cx="357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ON PAT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2880" y="4959360"/>
            <a:ext cx="2425680" cy="673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200" y="5130720"/>
            <a:ext cx="180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600" y="5923080"/>
            <a:ext cx="1787760" cy="454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/>
            <a:ahLst/>
            <a:rect l="l" t="t" r="r" b="b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2292480"/>
            <a:ext cx="0" cy="977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7400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3402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GANA EL ESTADO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TELECTUAL.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028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 trata de un tipo especial de propiedad, se refiere a las creaciones del ingenio humano,  del intelecto humano, de allí que se califica de "propiedad intelectual"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rende bienes intangib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APLICACION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CEPTO D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DUSTRI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DEBE ENTENDERSE EN EL MAS AMPLIO SENTIDO: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 SE DEBE CONFUNDIR L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FACTIBILIDAD TECNICA-ECONOMIC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20" y="2867040"/>
            <a:ext cx="299160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LICACION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1480" y="1824120"/>
            <a:ext cx="406404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LA INVENCION SEA APLICADA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 PUEDA SER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/>
            <a:ahLst/>
            <a:rect l="l" t="t" r="r" b="b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9160" y="3048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NDE TODOS LOS DOCUMENT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066680"/>
            <a:ext cx="77724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ANALIZA  SI LA SOLICITUD PLANTEADA AL PROBLEMA TECNICO DESCRITO EN LA SOLICITUD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4648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 NIVEL INVENT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: SOLUCION NO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DESCUBRIMIENTOS, LAS TEORIAS CIENTIFICAS Y LOS METODOS MATEMAT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S VARIEDADES VEGETALES Y LAS RAZAS ANIM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 METODOS DE TRATAMIENTO QUIRURGICO O TERAPEUTICO DEL CUERPO HUMANO O ANIMAL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NUEVO USO DE ARTICULOS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n-US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consideran como modelos de utilidad los instrumentos, aparatos, herramientas, dispositivos y objetos o partes de los mismos, en los que la forma sea reivindicable, tanto en su aspecto externo como en su funcionamiento, y siempre que esta produzca una utilidad, esto es, que aporte a la función a que son destinados un beneficio, ventaja o efecto que antes no te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9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n-US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n-US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nde toda forma tridimensional asociada o no con colores, y cualquier articulo industrial o artesanal que sirva de patrón para la fabricación de otras unidades y que se distinga de sus similares sea por su forma, configuración geométrica, ornamentación o una combinación de estas, siempre que dichas características le den una apariencia especial perceptible por medio de la vista, de tal manera que resulte una fisonomía original, nueva y difere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6840" y="476280"/>
            <a:ext cx="80913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 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3280" y="2406600"/>
            <a:ext cx="3328920" cy="16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IEDAD 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75000" y="3984480"/>
            <a:ext cx="301644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6bf6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RECHOS CONEX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01920" y="2430360"/>
            <a:ext cx="3902040" cy="113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7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e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9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371600"/>
            <a:ext cx="6707160" cy="915840"/>
          </a:xfrm>
          <a:custGeom>
            <a:avLst/>
            <a:gdLst/>
            <a:ahLst/>
            <a:rect l="l" t="t" r="r" b="b"/>
            <a:pathLst>
              <a:path w="4225" h="577">
                <a:moveTo>
                  <a:pt x="0" y="576"/>
                </a:moveTo>
                <a:lnTo>
                  <a:pt x="0" y="0"/>
                </a:lnTo>
                <a:lnTo>
                  <a:pt x="4224" y="0"/>
                </a:lnTo>
                <a:lnTo>
                  <a:pt x="4224" y="432"/>
                </a:lnTo>
                <a:lnTo>
                  <a:pt x="864" y="432"/>
                </a:lnTo>
                <a:lnTo>
                  <a:pt x="864" y="576"/>
                </a:lnTo>
                <a:lnTo>
                  <a:pt x="0" y="57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4280" y="1442880"/>
            <a:ext cx="221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XOR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09920" y="2128680"/>
            <a:ext cx="5038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9480" y="2521080"/>
            <a:ext cx="6692760" cy="113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4280" y="3957480"/>
            <a:ext cx="2067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3886200"/>
            <a:ext cx="6707160" cy="611280"/>
          </a:xfrm>
          <a:custGeom>
            <a:avLst/>
            <a:gdLst/>
            <a:ahLst/>
            <a:rect l="l" t="t" r="r" b="b"/>
            <a:pathLst>
              <a:path w="4225" h="385">
                <a:moveTo>
                  <a:pt x="0" y="384"/>
                </a:moveTo>
                <a:lnTo>
                  <a:pt x="0" y="0"/>
                </a:lnTo>
                <a:lnTo>
                  <a:pt x="4224" y="0"/>
                </a:lnTo>
                <a:lnTo>
                  <a:pt x="4224" y="192"/>
                </a:lnTo>
                <a:lnTo>
                  <a:pt x="2137" y="192"/>
                </a:lnTo>
                <a:lnTo>
                  <a:pt x="2137" y="384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7800" y="4186080"/>
            <a:ext cx="282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....según reivindicación nº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67320" y="4262400"/>
            <a:ext cx="3819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RACTERIZAD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por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49480" y="4654440"/>
            <a:ext cx="669276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520" y="1366920"/>
            <a:ext cx="46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8480" y="388152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480" y="5786280"/>
            <a:ext cx="46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38320" y="5786280"/>
            <a:ext cx="2066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89040" y="1968480"/>
          <a:ext cx="700704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68480"/>
                    <a:ext cx="700704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5938920" y="1747800"/>
            <a:ext cx="2676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5% EN DOCUMENTOS DE PAT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2286000"/>
            <a:ext cx="687240" cy="611280"/>
          </a:xfrm>
          <a:custGeom>
            <a:avLst/>
            <a:gdLst/>
            <a:ahLst/>
            <a:rect l="l" t="t" r="r" b="b"/>
            <a:pathLst>
              <a:path w="433" h="385">
                <a:moveTo>
                  <a:pt x="432" y="0"/>
                </a:moveTo>
                <a:lnTo>
                  <a:pt x="336" y="144"/>
                </a:lnTo>
                <a:lnTo>
                  <a:pt x="192" y="96"/>
                </a:lnTo>
                <a:lnTo>
                  <a:pt x="0" y="38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62600" y="4795920"/>
            <a:ext cx="2981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% EN PAPER, LIBROS, GACETAS Y OTRAS PUBLIC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5486400"/>
            <a:ext cx="915840" cy="45864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576" y="192"/>
                </a:moveTo>
                <a:lnTo>
                  <a:pt x="240" y="28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importancia de patentar un invento radica en que se obtiene un monopolio exclusivo para la comercializacion de la invenc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esto se suma el hecho de que la novedad debe ser de caracter mund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caso especifico de solicitudes chilenas se buscan en diferentes bases de datos de patentes de invencion y que contienen lo ultimo en tecn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Arial"/>
              </a:rPr>
              <a:t>INFORMACION TECNOLOGICA DE PUNT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este modo las solicitudes de los distintos tipos de privilegios son comparadas con documentos de todo el mun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1500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uno u otro modo se tiene un amplio grado de certeza que si de las busquedas no aparece nada similar es porque antes jamas se habia cre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7040" y="1101600"/>
            <a:ext cx="1324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71280" y="1863720"/>
            <a:ext cx="180144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EN PRELI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4804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3960" y="2814480"/>
            <a:ext cx="1217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133720" y="3048120"/>
            <a:ext cx="1753920" cy="534960"/>
          </a:xfrm>
          <a:custGeom>
            <a:avLst/>
            <a:gdLst/>
            <a:ahLst/>
            <a:rect l="l" t="t" r="r" b="b"/>
            <a:pathLst>
              <a:path w="1105" h="337">
                <a:moveTo>
                  <a:pt x="1104" y="0"/>
                </a:moveTo>
                <a:lnTo>
                  <a:pt x="0" y="0"/>
                </a:lnTo>
                <a:lnTo>
                  <a:pt x="0" y="33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57800" y="3124080"/>
            <a:ext cx="2058840" cy="459000"/>
          </a:xfrm>
          <a:custGeom>
            <a:avLst/>
            <a:gdLst/>
            <a:ahLst/>
            <a:rect l="l" t="t" r="r" b="b"/>
            <a:pathLst>
              <a:path w="1297" h="289">
                <a:moveTo>
                  <a:pt x="0" y="0"/>
                </a:moveTo>
                <a:lnTo>
                  <a:pt x="1296" y="0"/>
                </a:lnTo>
                <a:lnTo>
                  <a:pt x="1296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580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81120" y="28605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49080" y="3616200"/>
            <a:ext cx="1246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ACEPTA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66560" y="354024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4540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29200" y="4530600"/>
            <a:ext cx="14846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ACION 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RIO OFI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33720" y="41212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23440" y="5445000"/>
            <a:ext cx="14997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NCE PLAZ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 PRESEN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035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99480" y="41562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23160" y="5070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6178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23160" y="6213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9124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65840" y="4537080"/>
            <a:ext cx="1037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1600200"/>
            <a:ext cx="4192560" cy="3201840"/>
          </a:xfrm>
          <a:custGeom>
            <a:avLst/>
            <a:gdLst/>
            <a:ahLst/>
            <a:rect l="l" t="t" r="r" b="b"/>
            <a:pathLst>
              <a:path w="2641" h="2017">
                <a:moveTo>
                  <a:pt x="2112" y="2016"/>
                </a:moveTo>
                <a:lnTo>
                  <a:pt x="2640" y="2016"/>
                </a:lnTo>
                <a:lnTo>
                  <a:pt x="2640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4480" y="44607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90960" y="5749920"/>
            <a:ext cx="11721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 TIENE 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5200" y="389268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534024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76400" y="52992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76040" y="3927600"/>
            <a:ext cx="727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642480" y="1558800"/>
            <a:ext cx="912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TAJ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4880" y="28195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089160"/>
            <a:ext cx="993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OSI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30760" y="335268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9680" y="3083040"/>
            <a:ext cx="2178000" cy="5457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M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DAD JURID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07240" y="475920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3276720"/>
            <a:ext cx="2059200" cy="839520"/>
          </a:xfrm>
          <a:custGeom>
            <a:avLst/>
            <a:gdLst/>
            <a:ahLst/>
            <a:rect l="l" t="t" r="r" b="b"/>
            <a:pathLst>
              <a:path w="1297" h="529">
                <a:moveTo>
                  <a:pt x="1008" y="0"/>
                </a:moveTo>
                <a:lnTo>
                  <a:pt x="0" y="0"/>
                </a:lnTo>
                <a:lnTo>
                  <a:pt x="0" y="528"/>
                </a:lnTo>
                <a:lnTo>
                  <a:pt x="1296" y="52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657600"/>
            <a:ext cx="2439720" cy="458640"/>
          </a:xfrm>
          <a:custGeom>
            <a:avLst/>
            <a:gdLst/>
            <a:ahLst/>
            <a:rect l="l" t="t" r="r" b="b"/>
            <a:pathLst>
              <a:path w="1537" h="289">
                <a:moveTo>
                  <a:pt x="1536" y="0"/>
                </a:moveTo>
                <a:lnTo>
                  <a:pt x="1536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42735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206388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47200" y="293688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09520" y="30132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telectu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reaciones de los artí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bf69"/>
                </a:solidFill>
                <a:latin typeface="Arial"/>
              </a:rPr>
              <a:t>DIAGRAMA DE FLUJO DE TRAMITACION DE PATENTES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25800" y="1482840"/>
            <a:ext cx="147996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MBRAMIENT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41800" y="2701800"/>
            <a:ext cx="10486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PERI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56480" y="3921120"/>
            <a:ext cx="126360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80240" y="4911840"/>
            <a:ext cx="117036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UEST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2286000"/>
            <a:ext cx="1144800" cy="2744640"/>
          </a:xfrm>
          <a:custGeom>
            <a:avLst/>
            <a:gdLst/>
            <a:ahLst/>
            <a:rect l="l" t="t" r="r" b="b"/>
            <a:pathLst>
              <a:path w="721" h="1729">
                <a:moveTo>
                  <a:pt x="480" y="1728"/>
                </a:moveTo>
                <a:lnTo>
                  <a:pt x="0" y="1728"/>
                </a:lnTo>
                <a:lnTo>
                  <a:pt x="0" y="0"/>
                </a:lnTo>
                <a:lnTo>
                  <a:pt x="72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981080" y="20638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81080" y="328284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427356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29280" y="2590920"/>
            <a:ext cx="1449360" cy="106812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44840" y="2814480"/>
            <a:ext cx="12178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ACIO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2960" y="4267080"/>
            <a:ext cx="1449360" cy="1068480"/>
          </a:xfrm>
          <a:custGeom>
            <a:avLst/>
            <a:gdLst/>
            <a:ahLst/>
            <a:rect l="l" t="t" r="r" b="b"/>
            <a:pathLst>
              <a:path w="913" h="673">
                <a:moveTo>
                  <a:pt x="456" y="0"/>
                </a:moveTo>
                <a:lnTo>
                  <a:pt x="0" y="310"/>
                </a:lnTo>
                <a:lnTo>
                  <a:pt x="399" y="672"/>
                </a:lnTo>
                <a:lnTo>
                  <a:pt x="912" y="362"/>
                </a:lnTo>
                <a:lnTo>
                  <a:pt x="456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05680" y="4460760"/>
            <a:ext cx="9694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T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PON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27920" y="5826240"/>
            <a:ext cx="1051560" cy="2714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ANDO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664080"/>
            <a:ext cx="0" cy="596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00600" y="534024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3048120"/>
            <a:ext cx="1525680" cy="1068120"/>
          </a:xfrm>
          <a:custGeom>
            <a:avLst/>
            <a:gdLst/>
            <a:ahLst/>
            <a:rect l="l" t="t" r="r" b="b"/>
            <a:pathLst>
              <a:path w="961" h="673">
                <a:moveTo>
                  <a:pt x="0" y="672"/>
                </a:moveTo>
                <a:lnTo>
                  <a:pt x="576" y="672"/>
                </a:lnTo>
                <a:lnTo>
                  <a:pt x="576" y="0"/>
                </a:lnTo>
                <a:lnTo>
                  <a:pt x="96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4724280"/>
            <a:ext cx="1601640" cy="459000"/>
          </a:xfrm>
          <a:custGeom>
            <a:avLst/>
            <a:gdLst/>
            <a:ahLst/>
            <a:rect l="l" t="t" r="r" b="b"/>
            <a:pathLst>
              <a:path w="1009" h="289">
                <a:moveTo>
                  <a:pt x="1008" y="0"/>
                </a:moveTo>
                <a:lnTo>
                  <a:pt x="655" y="0"/>
                </a:lnTo>
                <a:lnTo>
                  <a:pt x="655" y="288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18800" y="438480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8120" y="3774960"/>
            <a:ext cx="317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1800" y="537516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400" y="316548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51760" y="377496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82640" y="1635120"/>
            <a:ext cx="89172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92560" y="2854440"/>
            <a:ext cx="142488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RMA DEL JEF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85600" y="4149720"/>
            <a:ext cx="986040" cy="4539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O D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RECH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008120" y="5445000"/>
            <a:ext cx="1188720" cy="636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RTIFIC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TUL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38680" y="1905120"/>
            <a:ext cx="1449360" cy="1220760"/>
          </a:xfrm>
          <a:custGeom>
            <a:avLst/>
            <a:gdLst/>
            <a:ahLst/>
            <a:rect l="l" t="t" r="r" b="b"/>
            <a:pathLst>
              <a:path w="913" h="769">
                <a:moveTo>
                  <a:pt x="0" y="768"/>
                </a:moveTo>
                <a:lnTo>
                  <a:pt x="384" y="768"/>
                </a:lnTo>
                <a:lnTo>
                  <a:pt x="384" y="0"/>
                </a:lnTo>
                <a:lnTo>
                  <a:pt x="91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00240" y="2784600"/>
            <a:ext cx="401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43800" y="2139840"/>
            <a:ext cx="0" cy="673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43800" y="3359160"/>
            <a:ext cx="0" cy="749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4654440"/>
            <a:ext cx="0" cy="74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0" y="209880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0 D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2600" y="1701360"/>
            <a:ext cx="7951680" cy="495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propiedad industrial tiene hoy en día una gran importancia, tanto en las relaciones comerciales internacionales, como en la economía interna de los países y se ha constituído en una herramienta eficaz para el desarrollo de los mercados y de la industria. Su fin se relaciona con el intercambio de bienes y servicios, la inversión, el desarrollo tecnológico y la competencia leal, beneficiándose con ello las empresas, instituciones de educación, centros de investigación y por tanto, Chil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480" y="1639440"/>
            <a:ext cx="892152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MPORALIDAD: La protección que otorgan las leyes de propiedad industrial, tienen una duración determinada en el tiempo, vencido ese periódo cesa el derecho exclu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ERRITORIALIDAD: Las leyes otorgan protección sólo dentro del territorio del estado respectivo, salvo, de que exista un tratado internacional, que permita la protección en varios países  ó que el derecho haya sido reconocido por varios estados a petición del propio titul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28680" y="144288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INISTERIO 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76600" y="28908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 ECONOMIA, FOMENTO Y RECONSTRUC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76600" y="42624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JURID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PATENTES DE INVEN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198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DEPARTAMENTO DE 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/>
            <a:ahLst/>
            <a:rect l="l" t="t" r="r" b="b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/>
            <a:ahLst/>
            <a:rect l="l" t="t" r="r" b="b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alumno</cp:lastModifiedBy>
  <dcterms:modified xsi:type="dcterms:W3CDTF">2003-07-21T13:07:46Z</dcterms:modified>
  <cp:revision>15</cp:revision>
  <dc:subject>sistema de patentes e informacion tecnologica</dc:subject>
  <dc:title>Seminario de Patentes</dc:title>
</cp:coreProperties>
</file>