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9466-7656-41EF-A0F3-3ECE316EC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7E03-D97A-4AB0-A125-100EA83B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2EC6-6AE1-450B-B676-072C08FD3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9985-3F52-4475-8E66-DC1E68B3A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A8A4-B372-4662-8EA5-50D68E43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DCD1-A666-4A28-8E7A-EE65C5D1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2A25-A4E4-4E77-A79A-842F7E84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A57A-D2A3-4166-9A07-41DD9D93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80BC-B446-478B-9B8C-03CAA49E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9CFF-B23D-4D48-A05F-563F6A62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CD04-A85D-4DB5-9BDE-0E74ABFF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1B17-24BE-4196-8916-C363535D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4487-9A16-48D4-B7E5-9D706225B6A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42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33cc"/>
                </a:solidFill>
                <a:latin typeface="Arial"/>
              </a:rPr>
              <a:t>LA NEGOCIACIÓN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Rafael Lorenzin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95280" y="1512720"/>
            <a:ext cx="86868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 negociación es un medio básico para lograr lo que se quiere de otros y se busca llegar a un acuerdo cuando las partes comparten algunos intereses en común, pero que también tienen algunos intereses opuestos”.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Roger Fisher, William Ury y Bruce Patton)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ñalan que las estrategias estandarizadas con frecuencia dejan a las personas insatisfechas, cansadas o alienadas y, a menudo, las tres cos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Evolución del M. Harvard: 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a negociación a base de </a:t>
            </a:r>
            <a:r>
              <a:rPr b="0" lang="es-MX" sz="4000" spc="-1" strike="noStrike" u="sng">
                <a:solidFill>
                  <a:srgbClr val="0033cc"/>
                </a:solidFill>
                <a:uFillTx/>
                <a:latin typeface="Arial"/>
              </a:rPr>
              <a:t>principi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 criteri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512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be conducir a un acuerdo sensato, si el acuerdo es posible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be ser eficiente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be mejorar, o por lo menos, no deteriorar la relación entre las parte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os 4 puntos básic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 “negociación según principios o negociación con base a méritos” se resume en 4 puntos básicos que definen un método directo de negociación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as persona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os interes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Opcione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Criterio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as personas: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deben estar separadas del problem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os intereses: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hay que concentrarse en ellos y no en las posiciones, las cuales con frecuencia oscurecen lo que realmente se quiere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Opciones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: generar variedad de posibilidades antes de decidirse a actuar. Favorecerán los intereses compartidos y se posibilita la conciliación creativa de los intereses diferentes. Sugiere crearlas antes de la negociación: supone dificultad de creación bajo presió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Criterios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: deben ser objetivos más que basarse en la disposición de hacer de las partes. Facilita acoger soluciones más justa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os 4 puntos básic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Penetr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820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strategia de cinco pasos para desarmar a los tozudos, poner fin a las evasivas, desviar los ataques y evadir los argumentos oscuros. Esta es la llamada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“Negociación de Penetración”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, cuya esencia es la acción indirecta y exige que se haga lo contrario de lo que naturalmente se desea hacer en situaciones difícile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s decir, cambiar el juego, y en vez de jugar el de los demás, hacer que ellos jueguen nuestro juego, esto es, practicando la solución conjunta de problem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Penetr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Mantener el equilibri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Vencer las emociones negativas de la otra part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replantea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, es decir,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aceptar lo que la otra parte diga y replantearl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Se debe ayudar a la otra parte a salvar las apariencias y a hacer que el resultado parezca un triunfo de ell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emplear el poder para educa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 y no para presiona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Estrategias de Negoci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Distributiva: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 mejorar posición a costa de otro (“juego suma cero”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Integrativa: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cooperativa entre las part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para crear valor en forma conjunta. exige obtener suficiente información sobre la situación, los intereses y ventajas del socio comercial, para poder cooperar en resaltar los beneficios de la otra parte, si se llega al acuerdo que se propone, ambas partes ganan.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Estrategias de Negociación: aspectos relevante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s negociaciones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distributiva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tienen menos potencial para generar valor y los negociadores son instados a utilizar la información del otro como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ventaja estratégic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s beneficios conjuntos se incrementan cuando, al menos un negociador conoce las preferencias de la otra parte. Ese negociador puede mover la negociación hacia una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integración efectiv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(compartir información incrementará los beneficios mutuos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consenso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686800" cy="57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0"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Ventaj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150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nflicto reducid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150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umplimiento acrecentad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345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Amplía la participación y otorga legitimida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Desventaj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Docilidad frente a materias importan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Imprecisió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mún denominador más baj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Mayor tiempo y recurso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Expectativas no realista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08000" y="-100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se Negocia?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779640" y="981000"/>
            <a:ext cx="5724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Preámbulo (qué los motiva)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Compromiso de cada participan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Productos o resultados comprometid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Plaz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Monitoreo y control de los resultad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Sanciones o mult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Solución de conflictos o controversias: procedimient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Garantí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2349360"/>
            <a:ext cx="3600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idera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finiciones de los conceptos a util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Historia de la empresa (credibilidad, imagen y reput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" dur="1" fill="hold"/>
                                  <p:tgtEl>
                                    <p:spTgt spid="7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Solución efectiva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Unicamente la negociación pone a las partes a resolver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en conjunto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un problema común, y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genera no sólo la solución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de éste,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sino también un patrón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para resolver los futuros conflictos que puedan presentarse entre ella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 negociación no debe ser el obtener una victoria rotunda de los propios intereses, sino el resolver problemas que afectan la relación entre estos grupos o person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1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proceso mediante el cual se presentan propuestas específicas en la búsqueda de un interés común allí donde los intereses conflictivos están presentes”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.  (</a:t>
            </a: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Fred Ikle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comunes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en conflict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a negociación es un proceso interdependiente, es decir, el resultado final no está exclusivamente sujeto a una de las partes, sino que refleja sus decisiones mutu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2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Es un </a:t>
            </a:r>
            <a:r>
              <a:rPr b="0" i="1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proceso dinámico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por el cual se llega a una decisión, </a:t>
            </a:r>
            <a:r>
              <a:rPr b="0" i="1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volucra varios actores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y no a un individuo tratando de decidi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. 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William Zartman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00"/>
                </a:solidFill>
                <a:latin typeface="Arial"/>
              </a:rPr>
              <a:t>¿qué se busca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Resultados satisfactorios de sus propios objetiv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eneficios mutu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3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interacción deliberada de dos o más personas que tratan de definir los términos de su relación”.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Walton y McKersier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nota relaciones permamentes previas a la negociación form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s una relación dinámica y continua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 -4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El objetivo de una negociación es el de construir una relación sólida y duradera entre los actores, que permitirá simultáneamente un acomodo de sus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tereses conflictual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y la conjugación de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tereses compatibl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”.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Roger Fisher y William Ury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) 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ON: aspectos fundamentale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comun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en conflict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mplica decisiones mutu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be resolver intereses individua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be encontrar beneficios mutu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Supone relaciones preexistent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Es dinámica y contínu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usca relaciones sólidas y durader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usca acomodar interese conflictuales y compartid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Cuidar los estilos y las formas: maximiza gananci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El Método Harvard </a:t>
            </a:r>
            <a:r>
              <a:rPr b="0" lang="es-MX" sz="3200" spc="-1" strike="noStrike">
                <a:solidFill>
                  <a:srgbClr val="0033cc"/>
                </a:solidFill>
                <a:latin typeface="Arial"/>
              </a:rPr>
              <a:t>(Fisher y Ury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639800"/>
            <a:ext cx="824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Reorienta visión de que uno gana y el otro pierde a otra visión de que ambos ganan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a creatividad permite encontrar soluciones nuevas a viejos problemas, así como oportunidades donde existían dificultad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Pone énfasis en el proceso comunicaciona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M. Harvard. los siete elementos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7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Alternativas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para retirars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Intereses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necesidades, inquietudes, deseos, esperanzas y temore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Opciones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para llegar a acuerdo: siempre “sobre la mesa”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egitimidad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 es justo en relación con situaciones externas a ambas parte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Compromisos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verbales o por escrito: claridad, duración, de carácter práctico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Comunicación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eficient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Relación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capacidad para resolver diferencia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9T14:05:19Z</dcterms:created>
  <dc:creator> Consejo Nacional de Producción Limpia</dc:creator>
  <dc:description/>
  <dc:language>en-US</dc:language>
  <cp:lastModifiedBy>spl.rlp</cp:lastModifiedBy>
  <dcterms:modified xsi:type="dcterms:W3CDTF">2006-10-25T18:43:52Z</dcterms:modified>
  <cp:revision>38</cp:revision>
  <dc:subject/>
  <dc:title>LA NEGOCIACIÓN</dc:title>
</cp:coreProperties>
</file>