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3DF-E534-441D-B1AD-2661A278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029-6CB2-4835-B59C-13B93578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3F8-804D-48E0-9492-F40080CF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405-7490-481F-BD30-3C71CC05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3DF-7235-40A1-A985-D8F4A78F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B47-6E41-44A8-BAFD-6781B1D2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3FD-E505-4487-8800-218DDFA1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FAD-3227-4971-93EA-284F5FDD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830-37E1-490F-98AB-23DF4156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B60-7E31-4384-B825-30728F13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F4C-3745-487E-904A-E759F5D5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452-898C-4BD1-9D49-DB4016D4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FCB5-8A69-4F4A-ACCF-0D5640DD9F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ooperativa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información sobre la situación, los intereses y ventajas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08000" y="-100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se Negocia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9640" y="981000"/>
            <a:ext cx="57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eámbulo (qué los motiva)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ompromiso de cada participa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oductos o resultados comprome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laz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Monitoreo y control de los resulta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anciones o mult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olución de conflictos o controversias: procedimient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Garantí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349360"/>
            <a:ext cx="36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ones de los conceptos a uti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storia de la empresa (credibilidad, imagen y repu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7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 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 Consejo Nacional de Producción Limpia</dc:creator>
  <dc:description/>
  <dc:language>en-US</dc:language>
  <cp:lastModifiedBy>spl.rlp</cp:lastModifiedBy>
  <dcterms:modified xsi:type="dcterms:W3CDTF">2006-10-25T18:43:52Z</dcterms:modified>
  <cp:revision>38</cp:revision>
  <dc:subject/>
  <dc:title>LA NEGOCIACIÓN</dc:title>
</cp:coreProperties>
</file>