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23B-D691-4BED-A55D-95FF2E98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26F-F7F1-427D-9B44-D0EFED01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259-3229-45FC-8219-96844F02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EEC4-3C80-4005-B84A-6C9BECF0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8C9-77F7-417D-A785-F82D1C2B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A16-DFC7-4E3D-837D-36504230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01C-EBB2-46E3-837D-DC0A6E6E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781E-E6A9-4CB7-AC26-D7E06290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803-E304-444A-8725-F775366E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EDB-45D3-4F52-9718-757CB901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2F31-50D2-4BB4-8135-286E0C6D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E11-B06E-4A09-9A37-16CFD9BF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DCE3-DF10-4905-B518-E177DD0300A0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231624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Entidades: roles, sustantivo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Atributos: características asociadas a las entidad y que las definen únicamen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Primary K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Foreign Ke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Llaves subrrogan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Relaciones: interacciones numéricas entre entidad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7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9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3"/>
          <a:srcRect l="4689" t="13124" r="40821" b="10001"/>
          <a:stretch/>
        </p:blipFill>
        <p:spPr>
          <a:xfrm>
            <a:off x="2000160" y="357120"/>
            <a:ext cx="6643800" cy="5857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Modelo Entidad Relación de los procesos en estudios que respondan a las necesidades del rediseño propuesto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8-09-24T05:44:41Z</dcterms:modified>
  <cp:revision>68</cp:revision>
  <dc:subject/>
  <dc:title>Diapositiva 1</dc:title>
</cp:coreProperties>
</file>