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572A-4E2C-4173-99B3-F647A5FA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F1AB-3215-4CFF-ACAE-BBB3D0F6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86B5-8595-41ED-AC20-4D49368B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B92D-6415-4C00-B8A5-BA692E71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48C4-DF40-4739-A932-7AD209F3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29FF-C4C5-4ABE-ABE0-810FFA6F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47A9-B74B-421B-956D-DF8245AE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3A9C-E438-4D96-9CF6-EC61AB3F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2687-67F4-4961-B64A-B3FAF099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EEB9-3628-4C83-A3AE-7D5996BC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CF53-08B2-4F51-B2E1-2D7CC5D3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1AAD-F5A7-4F8C-98C7-30096877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0A36-7913-4972-9C59-C9A170B4E9AD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Rectángulo" descr=""/>
          <p:cNvPicPr/>
          <p:nvPr/>
        </p:nvPicPr>
        <p:blipFill>
          <a:blip r:embed="rId1"/>
          <a:stretch/>
        </p:blipFill>
        <p:spPr>
          <a:xfrm>
            <a:off x="-6480" y="2414520"/>
            <a:ext cx="9156960" cy="2316240"/>
          </a:xfrm>
          <a:prstGeom prst="rect">
            <a:avLst/>
          </a:prstGeom>
          <a:ln w="0">
            <a:noFill/>
          </a:ln>
        </p:spPr>
      </p:pic>
      <p:sp>
        <p:nvSpPr>
          <p:cNvPr id="42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11 Imagen" descr="dii.jpg"/>
          <p:cNvPicPr/>
          <p:nvPr/>
        </p:nvPicPr>
        <p:blipFill>
          <a:blip r:embed="rId2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4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6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Entidades: roles, sustantivo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Atributos: características asociadas a las entidad y que las definen únicamen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Primary K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Foreign Ke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Llaves subrrogan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Relaciones: interacciones numéricas entre entidad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6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7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7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8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9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9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9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9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9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"/>
          <p:cNvPicPr/>
          <p:nvPr/>
        </p:nvPicPr>
        <p:blipFill>
          <a:blip r:embed="rId13"/>
          <a:srcRect l="4689" t="13124" r="40821" b="10001"/>
          <a:stretch/>
        </p:blipFill>
        <p:spPr>
          <a:xfrm>
            <a:off x="2000160" y="357120"/>
            <a:ext cx="6643800" cy="5857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10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0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1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1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1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1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2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Modelo Entidad Relación de los procesos en estudios que respondan a las necesidades del rediseño propuesto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odrigo</cp:lastModifiedBy>
  <dcterms:modified xsi:type="dcterms:W3CDTF">2008-09-24T05:44:41Z</dcterms:modified>
  <cp:revision>68</cp:revision>
  <dc:subject/>
  <dc:title>Diapositiva 1</dc:title>
</cp:coreProperties>
</file>