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99B-C8A2-4ADC-B377-F83FC970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9C0-F42D-46F2-B0C7-CAA0A04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8C2-90B5-4277-ACBD-EFE9C43A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671-DC61-4313-91FD-7826BBE5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AA0-5DA2-4E3D-83E8-A11DF4F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198-87D0-4148-98D3-C240BB86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3F6-0BF5-47FA-B5DA-6996028B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0DC-F749-4CDE-BD5B-06E1FCC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54C-2C5D-461F-80F5-9A68D7A9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404-E58E-4DFC-A215-8A94BCA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C8A-96E4-40DD-82E6-3D26812C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B7A-0D07-499A-B0B7-D096A46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15FF-7D1A-4A93-A0CE-EBC2E23B57C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s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Modelo Entidad Relación de los procesos en estudios que respondan a las necesidades del rediseño propuest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24T05:44:41Z</dcterms:modified>
  <cp:revision>68</cp:revision>
  <dc:subject/>
  <dc:title>Diapositiva 1</dc:title>
</cp:coreProperties>
</file>