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3D3-F189-41B0-99DA-82419457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52A-B6D3-4DC3-893C-B28ACDAE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04D-2A99-44DF-A726-B0DD2618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0F7-B8C1-468B-A982-93E52267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772-7CCF-446F-9CF6-DB069C54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22C-2DD3-421A-977D-41AF5A94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A07-7C6F-4F85-BB07-8A5F84EC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FDE-B164-4C39-B7A5-4795ABC0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29E-D4A6-4A9E-B992-2492B046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6D7-0F66-492F-B854-74B2726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CCB-0942-4A40-BCCA-499D9973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A73-66EB-490F-8A7B-22BF4D8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C96D-5016-4FA8-8556-72538E1248A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prácticas actuale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Precauciones con la cultura, las personas, los procesos, factibilidad y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etodología pro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on pros y contras de las prácticas encontradas y con las prácticas que pudiesen involucrarse o cambiar en y el proce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se realizan llenando un formulario en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tienen tareas duplic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unificando la información se agilicen los proce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si se modifica el orden de la etapas en el proceso se pueda obtener una mejor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medidas de ef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Obtener parámetros de estas medidas de efectividad y simular en arena para obtener las actuales métrica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 idea es simular el sistema actual para “jugar” con los parámetros y ver cosas que a simple vista no son evid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quito los tiempos muertos mejora la velocidad del proceso? ¿Encuentro cuellos de botella? ¿Puedo mejorarl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Existen procesos en serie que puedan realizarse en paralel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reasigno tareas puedo obtener mejores resultados? ¿Tengo factib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Identificar práct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practicas actu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nuevas práct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Simulación en Arena y Análisis Cuantita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Wingdings"/>
                <a:ea typeface="Wingdings"/>
              </a:rPr>
              <a:t></a:t>
            </a: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Estos son los resultados que hoy se tien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264312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28800" y="35719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09T23:43:07Z</dcterms:modified>
  <cp:revision>57</cp:revision>
  <dc:subject/>
  <dc:title>Diapositiva 1</dc:title>
</cp:coreProperties>
</file>