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3C1-8580-4673-AA38-35FA1E24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54D-A250-4510-979A-DD26D6B3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670-137C-4F48-9A5F-8A02CF41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1CF-A3D2-40CE-943F-AFA6676E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F0E-3673-4078-A6CE-C7BBEB3B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0F8-B7FF-4592-A4ED-4988D60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5C6-69ED-4508-BD42-17649882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378-F402-4B55-B9E6-46AB7EBC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9D7-2D9C-4D83-8B0B-6E6E996F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D47-E702-4366-8ED5-BD9A860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662-A86C-4CC5-A188-8A18E79A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401-1E71-4325-9FD9-EC5A9074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4EA8-2741-411C-9262-38F87156929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prácticas actuale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Precauciones con la cultura, las personas, los procesos, factibilidad y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etodología pro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on pros y contras de las prácticas encontradas y con las prácticas que pudiesen involucrarse o cambiar en y el proce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se realizan llenando un formulario en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tienen tareas duplic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unificando la información se agilicen los proce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si se modifica el orden de la etapas en el proceso se pueda obtener una mejor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medidas de ef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Obtener parámetros de estas medidas de efectividad y simular en arena para obtener las actuales métrica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 idea es simular el sistema actual para “jugar” con los parámetros y ver cosas que a simple vista no son evid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quito los tiempos muertos mejora la velocidad del proceso? ¿Encuentro cuellos de botella? ¿Puedo mejorarl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Existen procesos en serie que puedan realizarse en paralel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reasigno tareas puedo obtener mejores resultados? ¿Tengo factib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Identificar práct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practicas actu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nuevas práct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Simulación en Arena y Análisis Cuantita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Wingdings"/>
                <a:ea typeface="Wingdings"/>
              </a:rPr>
              <a:t></a:t>
            </a: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Estos son los resultados que hoy se tien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264312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28800" y="35719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09T23:43:07Z</dcterms:modified>
  <cp:revision>57</cp:revision>
  <dc:subject/>
  <dc:title>Diapositiva 1</dc:title>
</cp:coreProperties>
</file>