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E0F-FD93-4BB1-85B4-6ED466E8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A11-15E5-4C8E-8326-D2C5A215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80D-097F-49F3-96B5-B4107F48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35B-116E-4E89-A803-D7CD78D8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8D5-13C4-44E7-BA53-1C7728F8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A6E-9BAE-405F-9D94-5B85A7BA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BE9-ACB6-4782-BCF6-380DDEB0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9AB-3C49-40E0-81D5-11BA5987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3C0-B679-4AC1-B1D2-CF507021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CC1-2CE0-4DF6-BE0E-1E0C82D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E63-BF03-415A-AEBC-2EE837E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46C-84DF-4E9A-ADD8-5416AD84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83AF-BDEE-4926-9E64-1CE71CAF2A3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3730680"/>
            <a:ext cx="9156960" cy="157968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6076800" y="2298600"/>
            <a:ext cx="22082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11 Imagen" descr="dii.jpg"/>
          <p:cNvPicPr/>
          <p:nvPr/>
        </p:nvPicPr>
        <p:blipFill>
          <a:blip r:embed="rId3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1" name="2 Marcador de contenido"/>
          <p:cNvSpPr/>
          <p:nvPr/>
        </p:nvSpPr>
        <p:spPr>
          <a:xfrm>
            <a:off x="428760" y="1714680"/>
            <a:ext cx="41148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Diagrama de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63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8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13"/>
          <a:stretch/>
        </p:blipFill>
        <p:spPr>
          <a:xfrm>
            <a:off x="1357200" y="2000160"/>
            <a:ext cx="14860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14"/>
          <a:stretch/>
        </p:blipFill>
        <p:spPr>
          <a:xfrm>
            <a:off x="5357880" y="3714840"/>
            <a:ext cx="2419200" cy="223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15"/>
          <a:stretch/>
        </p:blipFill>
        <p:spPr>
          <a:xfrm>
            <a:off x="3929040" y="2786040"/>
            <a:ext cx="828720" cy="723960"/>
          </a:xfrm>
          <a:prstGeom prst="rect">
            <a:avLst/>
          </a:prstGeom>
          <a:ln w="0">
            <a:noFill/>
          </a:ln>
        </p:spPr>
      </p:pic>
      <p:cxnSp>
        <p:nvCxnSpPr>
          <p:cNvPr id="79" name="22 Conector recto de flecha"/>
          <p:cNvCxnSpPr/>
          <p:nvPr/>
        </p:nvCxnSpPr>
        <p:spPr>
          <a:xfrm>
            <a:off x="4643280" y="3142800"/>
            <a:ext cx="929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23 Conector recto de flecha"/>
          <p:cNvCxnSpPr/>
          <p:nvPr/>
        </p:nvCxnSpPr>
        <p:spPr>
          <a:xfrm flipH="1">
            <a:off x="4285440" y="3429000"/>
            <a:ext cx="10440" cy="7768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25 CuadroTexto"/>
          <p:cNvSpPr/>
          <p:nvPr/>
        </p:nvSpPr>
        <p:spPr>
          <a:xfrm>
            <a:off x="4643280" y="2786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35780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8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13"/>
          <a:stretch/>
        </p:blipFill>
        <p:spPr>
          <a:xfrm>
            <a:off x="671400" y="2295360"/>
            <a:ext cx="78012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Título" descr=""/>
          <p:cNvPicPr/>
          <p:nvPr/>
        </p:nvPicPr>
        <p:blipFill>
          <a:blip r:embed="rId1"/>
          <a:stretch/>
        </p:blipFill>
        <p:spPr>
          <a:xfrm>
            <a:off x="176040" y="396720"/>
            <a:ext cx="4402440" cy="1382760"/>
          </a:xfrm>
          <a:prstGeom prst="rect">
            <a:avLst/>
          </a:prstGeom>
          <a:ln w="0">
            <a:noFill/>
          </a:ln>
        </p:spPr>
      </p:pic>
      <p:pic>
        <p:nvPicPr>
          <p:cNvPr id="99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0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03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04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05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13"/>
          <a:srcRect l="6446" t="18751" r="53713" b="14688"/>
          <a:stretch/>
        </p:blipFill>
        <p:spPr>
          <a:xfrm>
            <a:off x="4000680" y="357120"/>
            <a:ext cx="4714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11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1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2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Diagrama de Roles de la situación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EZR</cp:lastModifiedBy>
  <dcterms:modified xsi:type="dcterms:W3CDTF">2008-08-21T18:22:12Z</dcterms:modified>
  <cp:revision>48</cp:revision>
  <dc:subject/>
  <dc:title>Diapositiva 1</dc:title>
</cp:coreProperties>
</file>