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BE0-0EC9-489D-A0AC-F858CEB8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62D-1A15-48B0-9EB7-F7CF25B0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354-925D-4942-8413-8F30620F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4C6-167D-49E0-9192-33D0AAF5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60617-910D-4C90-9BB7-9A0D401C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83E7E-9F4B-4D53-A062-20BAAA03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6809B-31AF-451B-8BA3-31348B36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8F49D-DC71-41A0-88F5-10CA75A0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26D4C-745D-4A90-8502-ADF9CD8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F3863-6FCD-408E-9800-CC12F03D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7CAB8-6F4E-4A22-95CC-0C042EBE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822-DF7D-4000-9F5B-8FD02147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AF539-6569-4910-9D74-1E16C14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18DE5-4432-44BC-96C8-A30328D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5DF5D-9B96-448E-96F4-DD6AA070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C63EE-CE35-4987-9AA5-58C30687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DE2CF-032A-4BB7-AD64-8BE48996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60F-5B5A-4D8F-82D2-5E661F3B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060-765F-4FE4-8C19-0CC0F0EC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355-3DBF-4207-837A-2CB56C2B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995-BE64-4B32-A228-EC32CABA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B41-31BB-4C88-A0C5-EEC202C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06A-58FD-4C80-9A25-96D906F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219-B51E-47EE-AAAE-83CA7B85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901A-E3D2-48F1-BF8B-E6C6E85F7F6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508D-AABF-4B05-A290-37CE25CF70A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46A-EDC6-410E-A7C8-86C8490EB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47Z</dcterms:modified>
  <cp:revision>964</cp:revision>
  <dc:subject/>
  <dc:title>PRINCIPALES ASPECTOS DE ACUERDO CON UE</dc:title>
</cp:coreProperties>
</file>