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57DCEAC-876B-4A1F-AFD3-B4D18F1A8E1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79482-1C3B-4924-A941-DD2B770B8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C2254-DDDF-47DB-BA7B-B1AAEA0FD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CDA48-78B4-4562-AAFC-A19A5505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3B306-BD48-4FA9-9381-723C04B33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21C7C-577D-4AF2-A85E-76192A59A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54545-5D4E-44EE-BC56-562B1672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71C1-41C2-4D91-A43C-F1AE780AB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6169-F217-4B87-8F82-11BAA5EE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E15C-9F59-4A55-AD05-FD7251BAA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8FAB1-0B25-4437-BFEA-F82D86876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5803F-612F-4B9B-B008-52033CFBC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CD4EF-5FED-4B61-8202-D7ADAF03B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B0222-5C90-41CE-A25B-BFF125D1B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D863B-3679-46DB-8E19-15731B802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7FC2F-2D0B-4D9D-999A-184F80D36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0C447-6719-4E9E-A865-E6B62AD73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E0BCE-C2D7-402D-A5E3-A7A41148B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11517-B14B-4AC2-AD4C-39D9C527E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1F645-EAF7-4096-BE92-68F38AD4C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5CF97-2D11-4ED7-8A29-AF5B3E5BD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16585-8E1F-4C4A-B884-F8BDBBF9A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35E6D-F73B-4A45-84DA-2BC9F089E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137A9-CCF1-4077-91ED-F5DF60F78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EBD86-5452-45CA-B30C-6285A5551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DDA2-38BF-4E1F-BF2F-39B52465531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7C51-1E19-4C10-9261-7B77741D2F8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2008</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Clases 2007</cp:lastModifiedBy>
  <dcterms:modified xsi:type="dcterms:W3CDTF">2008-04-01T21:50:11Z</dcterms:modified>
  <cp:revision>838</cp:revision>
  <dc:subject/>
  <dc:title>Elizabeth Lagos</dc:title>
</cp:coreProperties>
</file>