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638-B157-48CB-A22D-050E88CE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B19-1B88-4A5A-851F-3205817B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E24-1259-443E-B643-510E6EA7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71A-9F72-486B-96EA-6A776222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3E05E-1B85-4CDE-B0CE-544138A4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64DD0-AD84-4ED1-9641-F94F45F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CA8FE-FAC3-40C9-9C6E-9FB50A89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EB3E1-C996-4E23-A3E3-7D57ED8E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C740A-BC45-4778-9050-E521B86D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A31A8-668A-4684-9E1B-68867D7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A5DB9-E053-4C1A-9EC5-479776E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266-DC73-4F05-9EA0-69BE62B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05C6B-EB81-42A8-8AFD-D70FEC9F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D68C6-9178-43DC-8CE2-DE3BC4F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0C485-7666-4DEC-9F17-A50A2FDF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62FC9-9508-419D-99EA-23095A02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C9161-301A-4726-85B0-D8AFCBC4A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442-E71A-4D4F-AD1F-BFB0747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028-388A-43D0-8B21-126E13B1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EF5-1063-4F61-80B6-3D729D0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F2C-E32F-479C-8719-12FF30DD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5E3-CC45-4D04-A068-647DD278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CB6-CDB7-49F4-A7D1-8AA9C28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62D-7F52-41D2-B643-D5A1937F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FBB6-D8C6-45B4-B571-D18B24EA2AC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CC95-C5FB-423B-8A1D-1D185D89B86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7F0-E191-4B07-A481-DB8E8DC8CD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47Z</dcterms:modified>
  <cp:revision>964</cp:revision>
  <dc:subject/>
  <dc:title>PRINCIPALES ASPECTOS DE ACUERDO CON UE</dc:title>
</cp:coreProperties>
</file>