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F09-1666-4978-BBB4-E39DB4C0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AAC-DB75-4D0D-90FC-4FA21F80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5FB-7585-440B-8FDE-4038A632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6C7-C96B-404D-AA17-BA0EB779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9C778-1F47-4F03-9A3C-D1A4E29D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23374-0AC2-49A9-9E58-949949CA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1361D-6E0F-444B-8FFB-A0239859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4439B-174D-4FDD-9731-9E686D73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EF887-9F29-4177-AD6F-D924F8D6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018A1-6684-4BAA-8840-08081D46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47E0D-FEEA-4B2C-A2C0-CD6502D9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05C-4210-41B2-ABBB-6C7DCDDA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2074A-2CAC-4986-8077-2E01F93F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73E2C-3C2A-4E34-AAD3-77A322EF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D51D7-D4A7-4D2F-9B1E-A316E3C0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530FD-7EFF-4F87-AF15-ACA197E0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34F78-B76B-4B4B-A90B-5B38039B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F69-EEF1-49DB-B5CF-0B015D01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101-8DCD-40DD-BFF9-006FB53F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E12-B4B1-4831-8725-46B20478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575-2045-465C-8E27-BB51F558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409B-E31A-457B-A62A-9CDE7418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36E6-2294-450D-A13F-6928215E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5D6-6FAE-4596-AEE6-094B0B80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23CD-5004-4CFF-9738-24D8FBADACC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C211-3E61-4F51-9843-53BE2133E25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Chile, Asia Pacífic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y Chin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r>
              <a:rPr b="1" lang="es-ES_tradnl" sz="4800" spc="-1" strike="noStrike">
                <a:solidFill>
                  <a:srgbClr val="e3e3ff"/>
                </a:solidFill>
                <a:latin typeface="Abadi MT Condensed Light"/>
              </a:rPr>
              <a:t>¿Qué nos falta para aprovechar la oportunida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2670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4. Renji Hexie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armonía interpersonal)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Un hombre sin sonrisa no debería abrir un negoci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rácter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ulce y amabilidad producen diner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stos proverbios chinos dicen mucho sobre la importancia de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relaciones armónicas entre los socios de negoc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el respeto y la responsabilidad son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egamento que une las relaciones jerárquicas, la amistad y los sentimientos positivos (Renji Hex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tan las relaciones entre igu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5. Zhengti Guannian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ensamiento holísti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piensan en términos de un todo, mientras 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nosotros pensamos de forma secuencial e individual, dividiendo negociaciones complejas en una serie de asuntos más pequeños: precio, cantidad, garantía, entrega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negociadores chinos tienden a hablar sobre todos esos asuntos al mismo tiempo, saltando entre uno a otro, con lo qu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sde el punto de vista nuestro, parece que nunca se llega a un acuer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Además, suelen usar el silencio como táctica de negociación; esto deja a los otros en la incómoda posición de negociar haciendo preguntas, directamente o a través 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ntermedi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6. Mianz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restigio o capital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n la cultura de negocios chino, la reputación y el estatus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 una persona reposan en el prestigi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un occidental hace que los chinos se sientan avergonzados o pierdan la compostura, aunque sea de forma no intencionada, puede resultar desastroso para las negociaci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a noción china de prestigio se parece mucho a nuestro concepto de dignid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l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 Mianz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fine el puesto de una persona en su red social; es la medida más importante de valor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Fuentes de prestigio pueden ser la riqueza, la inteligencia, el atractivo, las habilidades, la posición y, por supuesto, un buen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Guanx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7. Chiku Nailao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(resistencia, severidad o trago amargo y trabajo constan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son famosos por su ética de trabajo, pero llevan la diligencia un paso mas allá: a la resistenc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nosotros valoramos el talento como una clave del éxito, los chinos consideran el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Chiku Nailao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mucho m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mportante y honor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Por ello los niños chinos van al colegio 251 días al año. El trabajo duro, incluso en las peores condiciones, es el id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Book Antiqua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425880"/>
            <a:ext cx="91440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e3e3ff"/>
                </a:solidFill>
                <a:latin typeface="Book Antiqua"/>
              </a:rPr>
              <a:t>¿Asia Pacífico es importante para nosotros?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Book Antiqua"/>
              </a:rPr>
              <a:t>(</a:t>
            </a:r>
            <a:r>
              <a:rPr b="0" lang="en-US" sz="2400" spc="-1" strike="noStrike">
                <a:solidFill>
                  <a:srgbClr val="e3e3ff"/>
                </a:solidFill>
                <a:latin typeface="Book Antiqua"/>
              </a:rPr>
              <a:t>Exportaciones Chilenas por Región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240" y="6350040"/>
            <a:ext cx="23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8675640" cy="597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Larraí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4E92-D35A-4908-B09E-1EF84CB8A6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DESAFÍOS COMO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ESFUERZO ESPECIAL PARA REVERTIR DESVENTAJ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lejanía/transporte/mercado pequeñ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INVERTIR MAS EN EXTERIOR Y A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PÚBLICO-PRIVADO, AMPLIO, SÓLIDO Y LARGO PLAZO PARA APROVECHAR ASIA PACÍF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DE COOPERACIÓN PÚBLICO-PRIVADO EN AMBITO VECINAL PARA VINCULACIÓN CON 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PASOS QUE AL MENOS NOS SINGULARI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TLC/búsqueda de múltiples asociaciones internacionales/manejo económico y político responsable/importancia como vínculo a mercado latinoamericano de 700 millones/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necesidad de integración física y energética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CONSTRUIR SÓLIDA “IMAGEN PAÍ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FORMACIÓN DE CAPITAL HUM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0" y="-171720"/>
            <a:ext cx="91440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DESARROLLO DE LAS 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MEJORAR ESTRATEGIAS Y PROGRAMAS DE PROMOCIÓN DEL EMPRENDIMIE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Ampliar base de futuros emprendedores (difusión modelos ejemplares,  innovaciones en sistema educativo e instituciones de formación de adultos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= PROMOVER VOCACIÓN Y COMPETENCIAS EMPRENDEDOR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2. Desarrollo de redes y equipos emprend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3. Reducción periodo gestación de los nuevos nego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CONOCER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-18108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sos de Acercamiento </a:t>
            </a: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ra los Nego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conocer e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ir a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  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promocionar </a:t>
            </a: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o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s product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tener persever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B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uscar puntos comunes y evitar los confli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6.     E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egir un buen representante para sus negoci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 </a:t>
            </a:r>
            <a:r>
              <a:rPr b="1" lang="es-ES" sz="14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0" y="692280"/>
            <a:ext cx="9144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ementos al momento de Negoci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Guanx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conexiones person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osotr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valoriz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l networking, la información y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nstituciones, los chinos valoran el capital social de un individuo dentro de su grupo de amig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amiliares y compañeros cerc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2. Zhongjian Ren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l intermedi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occidente se tiende a confiar en los demás hasta que haya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tivo para no hacerlo. En china, todos los encuentros con extraños están marcados por la sospecha y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desconfianza; en los negocios se puede ganar confianza, porque sin ella ni siquiera se llega 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btener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una relación comerc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confianza se debe transmitir vía Guanxi, es decir, un contacto de s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fianza debe presentarlo a un contacto de la confianza de o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iense en una típica sesión de negociación sino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-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ccidenta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 vez de decir directamente que no, la gente de negocios de china es más dada a cambiar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tema, a callarse, a hacer otra pregunta o a responder usando de forma ambigua y vaga expresiones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ositivas con sutiles connotaciones negativas, tales como hai bu cuo (“me parece equivocado”), hai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hao (“parece bastante acertado”) y hai xing o hai ke yi (“parece bastante aceptable”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Tenga presente que en China es el intermediario, y no el negociador, el primero en mencionar e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sunto a negoci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Shehui Dengj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status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ara los occidentales a menudo es difícil entender la formalidad de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os ejecutivos chinos.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unque 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 estilo formal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los chilen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ncaja bien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un país donde siguen imperando los valores confucianos de obediencia y respeto a los superio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ormalidad, no obstante, va mucho más allá, hasta puntos insondables para muchos occidentales. 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jemplo, evite enviar a un delegado suyo con menor rango, a reunirse con uno de más alto rango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nt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traparte china. Puede que la reunión ni siquiera se lleve a cabo, incluso para su propio bi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1:46Z</dcterms:created>
  <dc:creator>CANCILLERÍA (Equipo)</dc:creator>
  <dc:description/>
  <dc:language>en-US</dc:language>
  <cp:lastModifiedBy>Profesor</cp:lastModifiedBy>
  <cp:lastPrinted>2006-05-03T05:31:36Z</cp:lastPrinted>
  <dcterms:modified xsi:type="dcterms:W3CDTF">2007-08-23T15:49:47Z</dcterms:modified>
  <cp:revision>964</cp:revision>
  <dc:subject/>
  <dc:title>PRINCIPALES ASPECTOS DE ACUERDO CON UE</dc:title>
</cp:coreProperties>
</file>