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6136-8771-4EB4-B7FE-6E1EA0419F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DD6-C847-4705-9349-599F95DF96F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9D73-FDB3-482B-BD0F-EE3C61CE3C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011-6DB6-40E9-B3FF-D698DBA3D81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EA6A-2510-49BB-82A3-44A816EB21A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7DF0-2F4C-4468-9ACA-140E6D9657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23A9-85BF-4195-8618-A3742240F31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5C9D-4CB8-4FD9-889E-019DB35DA8B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3DCE-1E7D-45A9-A3AC-0BF6F0B755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6E02-7553-4747-A6AF-C40B13989AD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2C28-EC2D-48C4-99D3-6E31AC7A9A2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780-D347-4DC5-B958-368DFACA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5D4-ED83-41A9-91CC-7BFE5C0D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882-DA16-4F71-B2FC-4B81C451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27B-1956-401A-BEBE-FD054071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EA29-4EB7-4AEF-B4B7-84920777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E674-F615-490B-B402-21BA1272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A6D9-65E5-42F3-9FE0-2BC2812E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2796-0BEC-4209-8265-133170F2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967C-A60E-4152-82A2-0013DBFB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05BD-0680-40D2-BD91-48CE1A9B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38CE-9F45-4CCB-9D0C-AD8AF416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A33-838E-4D7F-9952-3D4B80BF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8DEF-E252-437C-B8EE-7B2510F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A6F-58BA-4A88-88C3-0945765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C3F1-77A0-4245-9163-783547D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56A7-6958-453C-BBBC-30ABC7DE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99E-110D-4E67-8BC1-EB5CB756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995F1-74AC-4F18-BFAE-72FE3383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6469B-FC8E-45E1-8A4C-537F82A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4D0A1-443A-4F4B-BF44-1D143FEA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46297-633F-476C-9EEA-C1B1E632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86DBC-B025-47F6-B5C9-00471662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2CF-BBB2-4873-92D2-32BB45E8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D7FA8-FA20-4CDC-BC87-71CFA460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C9347-B390-46D0-A40B-6B23F86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F7724-EC81-485C-8C89-B408EFDD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A0911-64E8-4535-A33C-CE29A76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94858-2112-4B35-9C14-811C4F49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02AC8-622D-474D-9B26-53883ADD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F05D8-4958-4351-9552-1F887321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1D4DA-A3B4-4307-996D-0B664F52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C6F1-F4BC-4440-8D17-46F5A74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C3D8-33EE-4427-A860-BFF6E36E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960-8BE8-44E8-92CB-13B1181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6B32-932A-4AD8-8EFE-6E8E4555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48E9-A262-4475-8CD4-5EBC23F8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9E40-E45D-4B8B-A5F9-86535160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12DD-AD53-4201-8883-B9C41504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EF90-84E0-410E-B06E-9BB6214D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F254-443E-4206-BE92-6D99DF1A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DDFB-5BAD-4536-ADFB-0301DC3A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7B5B-62CC-4D98-BE5B-7D574698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C749-8E0D-4FBA-A4B8-FDACCFD1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BDF02-937E-487F-B094-B86FC787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702-7C1F-46AE-853F-48B0BCF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377FB-42F2-4894-818A-CFADD86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C42C3-5C22-463B-B662-0220D9F4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F5837-A2DC-4016-8302-80D06D25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534B4-29BF-4538-AD71-242767EE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0BCCB-EC6F-4496-A1C6-4CF865A5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1681E-4EA7-4947-9996-1563937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ED8EC-7245-4408-B251-E51031E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88129-6CE9-4412-B65B-CF51F3B5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42ECB-ACB3-4566-9E66-12B06F81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70624-5DBB-456A-A6A8-8B8FEDD8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BB9-D375-48BD-B6F7-060D31D6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D61C8-54C0-4534-9874-2F00C940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9BCD4-8993-4ADA-866C-89746E20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AE9AB-DF8F-48AA-9460-C4F1495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53931-08BF-4868-BC8A-D4F3F421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BC135-7A35-4860-9D1E-99CABEBB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F29C6-7BA7-4D06-AD8B-EAD92F0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EAB29-B914-44D3-A25D-7D42050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E964A-8052-4A2E-BE1E-1E684D6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72611-BD89-4848-B291-AAB49B1A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F32E6-068B-4EE8-81E5-95B2B58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6AB-0DE9-4ED7-967E-47166CB1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B1EE6-FDBC-40B9-AAF9-EE0596BB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631DB-CCD5-48B7-B8C8-872193E0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2ABC6-F601-47A5-97C1-62E12BE2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9CD66-C515-409D-94CE-8B01A227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B3794-AFEE-4426-AC86-9CCC38A4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86B30-658B-4562-91AD-AFBF2D14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7064E-5141-4C63-A47F-5D00AF34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6C1BC-ABCB-4DA0-8104-1991624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C0629-E01D-4067-B9AD-C58ECF34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DCBFD-0B62-4A4C-BFA2-B2DC5322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FE7-231F-495F-8998-D354B98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ABB13A-034A-4698-AC0C-278D3C6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45738-A1FC-4FEF-B93C-E8F06EF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98273-6635-4B44-B2B6-09B884F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17C24-9782-4798-A218-9E0521D3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59E96-9431-42F3-9803-10666C26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431-10F2-4B9E-A978-FABC709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04EE-F787-44F1-BD89-69061B8D695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252F-0DCE-4406-BE71-00FEB172F84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39B3-AA91-4AE7-A6F1-1643F984527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C42D-077B-474F-AC4E-2E8F4525663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5504-57A0-4EC9-A0EE-8FBC9C40A04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B77F-B122-4142-844C-67EEA9FC725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3DE-7D7D-4379-92E9-DF5B68C484E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56920" y="8568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CLASE </a:t>
            </a:r>
            <a:br>
              <a:rPr sz="2700"/>
            </a:br>
            <a:r>
              <a:rPr b="1" lang="es-ES_tradnl" sz="2800" spc="-1" strike="noStrike">
                <a:solidFill>
                  <a:srgbClr val="575f6d"/>
                </a:solidFill>
                <a:latin typeface="Mufferaw"/>
                <a:ea typeface="Aharoni"/>
              </a:rPr>
              <a:t>IN 556  MARKETING INTERNACIONAL AGROINDUSTRIAL</a:t>
            </a:r>
            <a:br>
              <a:rPr sz="2700"/>
            </a:br>
            <a:br>
              <a:rPr sz="2700"/>
            </a:b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TEMA: MARKETING MIX DE NEGOCIOS INTERNACIONAL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Mufferaw"/>
              </a:rPr>
              <a:t>Auxiliar: Evelyn San Martín Zabalag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F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GRACIAS POR SU ATENCIÓN!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TENCIAL TOTAL DE MERC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999720"/>
            <a:ext cx="5472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Principales indi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oblación del momen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ecimient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por las que falla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bsolescencia y salto de produc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o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lasticidad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ustitu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Desigualdad de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Factores culturales y gu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340160" y="1407960"/>
            <a:ext cx="37242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ANÁLISIS DE BRECH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uso: Corresponde a la diferencia entre las ventas reales y las ventas potenciales de todas las empres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diferencia entre las ventas de una empresa y las ventas reales de todas las empresas de la industria constituye 3 brechas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distrib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línea de produc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competi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LÍTICA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Orientación haci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s ven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os cl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estraté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RAZONES PARA LA ADAPTACIÓN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2099880"/>
            <a:ext cx="7467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leg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oductos  farmacéu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tiquetad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eguridad en automóviles,  EEUU y europ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cultur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oyota en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yson foods, Carne de cerdo en países del isl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económ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Whirl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Automóviles estadounidenses en jap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 más complicado establecerlo a nivel internacional debido a los siguientes factor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tes grados de intervención guberna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s máximos y mínim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 respecto al país de origen (Om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aso nestle en r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Mayor diversidad de merc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jos de atun en japo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Monopolio por ciclo de vi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strategias de descremado, penetración y marg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édito en japó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…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umento de precios por export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Valores cambiantes de las mone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cias en las prácticas fijas y variables del establecimiento del pre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ortaleza de los minoristas con los proveedores en las ventas de empresa a empre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600" y="313164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MAR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1320" y="4071960"/>
            <a:ext cx="74674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actores relacionados con el idi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dquisiciones de mar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magen del país de ori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Nombres genéricos y casi genér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1 Título"/>
          <p:cNvSpPr/>
          <p:nvPr/>
        </p:nvSpPr>
        <p:spPr>
          <a:xfrm>
            <a:off x="609480" y="426960"/>
            <a:ext cx="74678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OMOC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2 Marcador de contenido"/>
          <p:cNvSpPr/>
          <p:nvPr/>
        </p:nvSpPr>
        <p:spPr>
          <a:xfrm>
            <a:off x="609480" y="1752480"/>
            <a:ext cx="74678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mpuje- Atracción (push-pul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tandarización de los programas publicitar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DISTRIBUCIÓN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icultad de la estandar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ección de distribuidores y can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Manejo inter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Características de los distribuido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fracciones y repara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Ganar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Costos ocultos de la distribución en el extranje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Niveles en el sistema de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Deficiencias en las ventas al menude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stricci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Agotamiento de inven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nternet y el comercio electrón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1:03:15Z</dcterms:created>
  <dc:creator>Eve</dc:creator>
  <dc:description/>
  <dc:language>en-US</dc:language>
  <cp:lastModifiedBy>Eve</cp:lastModifiedBy>
  <dcterms:modified xsi:type="dcterms:W3CDTF">2008-11-04T19:16:27Z</dcterms:modified>
  <cp:revision>27</cp:revision>
  <dc:subject/>
  <dc:title>CLASE  IN 556  MARKETING INTERNACIONAL AGROINDUSTRIAL  TEMA: Marketing Mix de Negocios Internacionales</dc:title>
</cp:coreProperties>
</file>