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3D1F-4C7D-40F0-BE09-6B334DA6DA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6FE-95BC-4A1C-B4EC-0D266807A1B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AE7-C631-492B-B046-C25377F37C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9B6-32A0-4AAE-AEA8-9DD2C9DAB94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1DDB-918A-460D-A7DE-4EA35F6A3F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1F4-865B-4B5C-9BE9-15EE824A031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A29-65B2-4A0E-A6C6-FC94F154DD9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7697-D826-4752-9177-C60527B23E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AA0B-2D71-4ACD-82A8-B7F3F11631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763-6CF6-4102-82D6-0A7D5BB544C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11D-16C8-411A-AC5A-CB2EC541E3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64A-68F3-4DF5-9034-B9B5DCFF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B9E-A952-4423-8B52-ADF922C6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DF6-FF32-4FAC-96BE-B7F6624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B17-AEA1-4598-AD81-B67F7741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2167-BCB4-42C8-9F5B-20C34ABB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41C7-5828-4CD2-B7AC-68C0AA6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1F20-9632-4B14-A2A6-C3A1FCA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A23D-6FAA-492F-BF83-22AACAE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0329-45E7-4270-BAC6-2DC80514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DD1-88F2-40B1-8BF5-B91AFD2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3A04-D111-4553-AD57-CCD6FD1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EB7-077E-4E7D-B247-30B610B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2073-3AAA-4CC2-8C36-104EA75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697B-79D3-4F69-A5A2-7C760B2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B4CD-08D3-4F16-92D5-A3B6FE3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C8E-EF95-486B-B8D5-E4DC63D6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1DFE-5A4E-45E4-87F6-351A4EB9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21EB-850E-43AA-B5EC-AF6C3F6B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8D98C-7BF8-427C-96B9-054E1CA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4A9DF-7792-4441-A64F-56ADBD82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52C39-5BC5-4C75-A5C4-CF94E87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4D47D-7D88-499E-BCBB-D331006B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0D6-F9D0-4A13-81EC-C6AB496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7ACFF-130D-4655-AD01-EED87E4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A193C-2BFC-48C3-B5A1-A22CEB0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1982E-764A-4549-8082-C02F582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29F14-4C5C-4D6B-BCEC-162E9E1C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1D282-1BDA-4A78-9323-A4291B3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9B141-5C72-4F9D-B34D-1D46388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4D0D8-4ABC-4490-94F0-42AE0D2F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5BF2-220D-4091-8C48-07D72BD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4405-F7C5-4D1F-8136-50BD98F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A307-27E1-4C02-9AAF-F222A24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906-6207-4749-B5A5-C4A7A27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A734-121B-4766-AE36-5B0A984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7D15-2862-4765-B9C8-DCCD1D4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E53C5-A7E2-490E-8773-BEE469CC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3A467-6504-42EE-BC2D-AA39398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14BB-C293-45B2-80F1-5B7C71C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E07B-FCAA-4A26-B954-3C526B6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D0C6-314D-4677-AB59-98CAFD42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E6F4-2E7D-488F-9980-79D2752D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9A70-0E95-44C9-931F-BCEBD94D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515E3-EE5B-429D-9407-FBB523E7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1CC-9960-423A-BABA-5BE80905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CC823-D20A-4C9A-A633-7D40881E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7FA8A-1544-44F0-878E-FE1085EB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04FBF-FACA-4620-AF2E-4AC1090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FC60C-6C71-4289-A5F3-8711D90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EF044-90FE-470E-A824-4152273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F7C41-5C77-4B80-BD9D-470BD9F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9D770-4E91-4EC6-B066-A1B3B4E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AA6CE-9E96-48A1-881C-E392EF1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32EB0-D539-4874-9EA0-AEEC998A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F1243-C783-4693-8222-656CDA20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D0E-9AEE-4D34-8F4C-40FA3239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DEF74-B588-4D5A-B8BA-E2AF4EF4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A15C1-AB37-48BE-80F5-345332E8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8ED31-0247-4F28-87C4-00C07B87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E0937-AF74-482F-9E47-21E4C834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CBD38-A68B-4DB6-82C5-D7ACF21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5F521-0858-48AB-B4DA-2F8354C4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7559F-BE1F-4250-A2D1-FBA5010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0BBF3-2B1E-442F-89F2-AB7FFD2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AF64B-4E8F-4085-9259-322178E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011F4-2E02-453E-BB8C-A3E68C7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E6C-B0FF-456E-B107-8F11B31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CA6A6-423E-4F07-96B3-9B67E02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A0FC5-3CEF-4443-BF96-1D430644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05E88-7E52-45DD-94C2-BBACD901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224CD-BAA1-44BE-B2A8-71281251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8119B-A9B4-4E71-B0A1-1522980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20206-2DD5-4565-B3AA-15BC1F8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496D7-F8EA-4A74-A619-5EA308C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B505D-33B5-4E6C-87B6-7B7DA59D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4108C-E62B-4AED-A6FA-721AB87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88A27-589D-4639-94D7-CE56A69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7DF-B4C2-4FAB-B770-206B206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C3173-5CAB-49EA-AC8C-808EA9B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5FA8D-8D56-4CB8-BAD5-17979A6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0D783-7E56-4B5E-9DED-7B4E193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184D4-7354-4372-8D4B-1D05B655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41D2A-8D0A-4E8B-BADE-5B30E48D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B6B-2622-43DA-8AC9-B94CD04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793-3D75-4663-891C-B2A5987E1AE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1D01-02AE-4636-8E0C-7A0106CFD7B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52E-C1C0-4CA4-B256-E4469EF2874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A9C-CFCF-4DE5-BA56-2AD5DE7A05C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3A7-53B8-4ABA-BB12-37873083524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1AD-EA84-44A8-B97A-C3AFB589A16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9D0-58B2-4A07-BC7B-608742D42D2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8568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CLASE </a:t>
            </a:r>
            <a:br>
              <a:rPr sz="2700"/>
            </a:br>
            <a:r>
              <a:rPr b="1" lang="es-ES_tradnl" sz="2800" spc="-1" strike="noStrike">
                <a:solidFill>
                  <a:srgbClr val="575f6d"/>
                </a:solidFill>
                <a:latin typeface="Mufferaw"/>
                <a:ea typeface="Aharoni"/>
              </a:rPr>
              <a:t>IN 556  MARKETING INTERNACIONAL AGROINDUSTRIAL</a:t>
            </a:r>
            <a:br>
              <a:rPr sz="2700"/>
            </a:br>
            <a:br>
              <a:rPr sz="2700"/>
            </a:b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TEMA: MARKETING MIX DE NEGOCIOS INTERNACIONAL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Mufferaw"/>
              </a:rPr>
              <a:t>Auxiliar: Evelyn San Martín Zabalag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F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GRACIAS POR SU ATENCIÓN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TENCIAL TOTAL DE MERC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999720"/>
            <a:ext cx="5472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Principales indi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oblación del momen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ecimient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por las que falla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bsolescencia y salto de produc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o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lasticidad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ustitu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Desigualdad de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Factores culturales y gu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340160" y="1407960"/>
            <a:ext cx="37242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ANÁLISIS DE BRECH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uso: Corresponde a la diferencia entre las ventas reales y las ventas potenciales de todas las empres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diferencia entre las ventas de una empresa y las ventas reales de todas las empresas de la industria constituye 3 brechas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línea de produ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competi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LÍTICA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Orientación haci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s 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os cl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estraté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RAZONES PARA LA ADAPTACIÓN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2099880"/>
            <a:ext cx="7467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oductos  farmacéu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tiqueta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eguridad en automóviles,  EEUU y eur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oyota en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yson foods, Carne de cerdo en países del isl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económ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Whirl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Automóviles estadounidenses en jap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 más complicado establecerlo a nivel internacional debido a los siguientes facto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tes grados de intervención guberna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s máximos y mínim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 respecto al país de origen (Om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aso nestle en r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Mayor diversidad de mer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jos de atun en japo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Monopolio por ciclo de vi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strategias de descremado, penetración y marg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édito en japó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…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umento de precios por export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Valores cambiantes de las mone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cias en las prácticas fijas y variables del establecimiento del pre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ortaleza de los minoristas con los proveedores en las ventas de empresa 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600" y="313164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MAR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1320" y="4071960"/>
            <a:ext cx="74674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actores relacionados con el idi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dquisiciones de mar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magen del país de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Nombres genéricos y casi genér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1 Título"/>
          <p:cNvSpPr/>
          <p:nvPr/>
        </p:nvSpPr>
        <p:spPr>
          <a:xfrm>
            <a:off x="609480" y="426960"/>
            <a:ext cx="7467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OMOC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2 Marcador de contenido"/>
          <p:cNvSpPr/>
          <p:nvPr/>
        </p:nvSpPr>
        <p:spPr>
          <a:xfrm>
            <a:off x="609480" y="1752480"/>
            <a:ext cx="74678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mpuje- Atracción (push-pul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tandarización de los programas publicita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DISTRIBUCIÓN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icultad de la estandar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ección de distribuidores y can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Manejo inter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Características de los distribuido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fracciones y repar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Ganar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Costos ocultos de la distribución en el extranje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Niveles en el sistema de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Deficiencias en las ventas al menude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Agotamiento de inven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nternet y el comercio electrón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03:15Z</dcterms:created>
  <dc:creator>Eve</dc:creator>
  <dc:description/>
  <dc:language>en-US</dc:language>
  <cp:lastModifiedBy>Eve</cp:lastModifiedBy>
  <dcterms:modified xsi:type="dcterms:W3CDTF">2008-11-04T19:16:27Z</dcterms:modified>
  <cp:revision>27</cp:revision>
  <dc:subject/>
  <dc:title>CLASE  IN 556  MARKETING INTERNACIONAL AGROINDUSTRIAL  TEMA: Marketing Mix de Negocios Internacionales</dc:title>
</cp:coreProperties>
</file>