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BDF6-B115-4093-9657-56967F5AC5D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8D02-2D62-4F3D-893A-46A31334F3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3F8-404B-4AFE-BC00-6D6D1092604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08A0-70E3-4414-B18E-D54959B21FC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6FC-7CA9-4675-A4AF-2D43B43D502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902-8E2C-499D-A72E-CF082D58A46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CBA9-7F54-41FB-8E0F-E1C21E509CC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4B85-124C-4ACC-BF2D-6252298FC32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106C-E1D4-4036-9FAD-87E25C59B3E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01F6-0ED3-45F8-8637-D6B7DB75EDE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EE6E-1792-495E-9A80-97DD80864DB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78E-6676-4D2F-ADB3-1E2130A2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937-12AF-49F1-876B-B9E285F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E3A-5232-41F0-8315-AE960FA9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2A8-01BC-42C8-964D-B42A07DE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FE40-5CC0-462A-8CA3-94E53602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CB9A-FCE0-4CD5-AB2A-6B2BD19D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CA7B-76D5-4FA1-983E-3359FA9B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FFA0-560F-4191-8D89-DF541A01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E822-9D0F-4352-8128-967EC7DF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4201-2768-4DB0-B5AC-D16FDA9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62C7-2331-4376-BB5A-7D98B17C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6B3-5FBD-4160-AFAF-7E5C547D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3A73-9AB5-4DF1-962D-5318DE2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B2B7-FA0C-4649-88B2-0D94785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5631-3B7D-4D4C-9680-0A17FD9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0F5E-FD39-4C84-A0D4-9B17A2DF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EBF2-A63D-4E13-B3A0-1E1334BB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E0646-0C25-4D06-8976-DEB41A0F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89713-FF40-4E2D-9D47-D428BD92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5245F-35EA-433B-858B-FEAD6E1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3263F-D40B-4377-9B56-E2DC3F5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6195E-99D0-4D8F-8399-D8FC245C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F50-7133-46D4-B33A-D56485A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D282E-2BBE-482B-9BA6-B788282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A5177-80BD-48C5-9C34-9D021FB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3ABEC-D5BB-4ED2-B317-D4549248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2B84C-3DCD-4BE4-A4D3-6893A54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CF8EB-B577-4DB8-9357-C0F517B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CE4AF-D512-4B52-80D5-C3FFCFFC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C6C05-EDDC-457F-BB62-B5FE5612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3AE4-EC91-4F66-9E0A-16A99E36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79FC-2ACD-48CA-83DC-20B3F845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BEF8-D476-44F5-8111-08483DD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15B-DE76-49BB-9417-BBDB923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EE1E-B328-42D4-AE4C-7F3F14EC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F992-BDCD-4FC9-97F9-86E62D05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AB27-6CFD-4306-9E39-FF141C07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BB12-0E58-4E41-A1FE-38AC92E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9135-15BF-43E0-9EB3-53A877D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7873-8727-44EB-B3F1-E19BBE21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300F-060F-419F-95A8-D3DCB9E1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5876-D1FB-4346-9AAA-00EFFBA5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8FFE-7D1C-4581-89E2-97DBDA52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AC203-0A9A-4B2E-ADDD-5602FED3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00C-8D3C-4CB2-ADAA-9B136DD7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EA4ED-C80D-4E08-9D83-CE7A3234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E93A5-FF63-4076-8EFD-17D5ADF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0C5B7-68C4-49E6-8866-EC29B699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0E745-10E4-4ED2-9F3C-7F6C795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DEBE7-944E-460C-B93B-5E016E28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F3EEC-2276-4D1A-A213-377837C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ECB32-7AE9-4E80-9ECA-00787854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B9171-EE67-4813-B173-F8B7DEE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B666B-34E8-4192-91C8-C1EBD00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53952-8D2C-4F03-A6AD-8086241C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5CE-7E13-482E-958F-411FEC8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3C7DF-0611-4CA5-90BC-37540650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53ED5-7230-4F1B-8FCE-9A9415D3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BA255-69A4-49D2-A2C6-1C81CB73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453DA-53FD-4C36-A12B-FCF4FE8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518B6-49D5-4549-8EAA-F34D02B3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3ED6D-18D9-41B1-9EF6-1B3F1956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64732-7AFA-41F0-B592-1E194A6E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FF74C-1B5E-4B00-9225-5D2897C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882FD-B85D-4940-9C5E-4386E55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60E30-B8F5-48F4-A056-175DDF3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077-CD17-46F3-B98D-8D59C759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88A09-DA31-4D7A-A621-7D27D992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F8841-4E9F-4518-BE65-F35E0B3F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B26BA-E5BB-4FB5-819A-3E43244B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C9AC71-B6E4-47C0-A2AE-E3B0E708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0931C-021D-4FF2-8DA3-E5CA22A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6AED3-8120-42F7-8074-7CB02E37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A2492-D2B4-409B-A7EF-1DF9E72B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E1DE5-662E-4E88-B803-2C59941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F0C03-4781-477A-B394-A71600D5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8E75F-A58F-456F-BF1E-24B936B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E9A-3990-4FCA-894C-376A29FF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1B63E-A75E-4808-84B1-362255A1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A2686-AD9F-4CE3-BC7A-AE91836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9A383-EBA4-4CC3-8BF5-9ECB86E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CC135-7F9B-4112-8666-BB94CE0A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BE607-247A-4D77-81D4-6379270B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C6C-1A87-4EC0-9EA7-C9AD411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7DF8-3CDB-4D1A-AE17-7762D1AA24C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5F08-6F57-413A-B89F-D06DEEB1145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145C-2889-4B71-976B-F48FC27AAAF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53F-C596-4AE5-BEB9-43D9CA805B1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7C0C-0E48-4919-B4A5-41C7D0691BF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26C9-2C14-4276-BF65-0A70E912B80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4DC0-9EFF-4CD4-9955-6BC04AE6945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6920" y="8568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CLASE </a:t>
            </a:r>
            <a:br>
              <a:rPr sz="2700"/>
            </a:br>
            <a:r>
              <a:rPr b="1" lang="es-ES_tradnl" sz="2800" spc="-1" strike="noStrike">
                <a:solidFill>
                  <a:srgbClr val="575f6d"/>
                </a:solidFill>
                <a:latin typeface="Mufferaw"/>
                <a:ea typeface="Aharoni"/>
              </a:rPr>
              <a:t>IN 556  MARKETING INTERNACIONAL AGROINDUSTRIAL</a:t>
            </a:r>
            <a:br>
              <a:rPr sz="2700"/>
            </a:br>
            <a:br>
              <a:rPr sz="2700"/>
            </a:b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TEMA: MARKETING MIX DE NEGOCIOS INTERNACIONAL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Mufferaw"/>
              </a:rPr>
              <a:t>Auxiliar: Evelyn San Martín Zabalag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F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GRACIAS POR SU ATENCIÓN!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TENCIAL TOTAL DE MERC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999720"/>
            <a:ext cx="5472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Principales indi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oblación del momen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ecimient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por las que falla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bsolescencia y salto de produc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o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lasticidad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ustitu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Desigualdad de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Factores culturales y gu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340160" y="1407960"/>
            <a:ext cx="37242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ANÁLISIS DE BRECH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uso: Corresponde a la diferencia entre las ventas reales y las ventas potenciales de todas las empres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diferencia entre las ventas de una empresa y las ventas reales de todas las empresas de la industria constituye 3 brechas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línea de produc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competi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LÍTICA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Orientación haci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s 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os cl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estraté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RAZONES PARA LA ADAPTACIÓN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2099880"/>
            <a:ext cx="7467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oductos  farmacéu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tiquetad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eguridad en automóviles,  EEUU y europ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cultu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oyota en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yson foods, Carne de cerdo en países del isl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económ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Whirl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Automóviles estadounidenses en jap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 más complicado establecerlo a nivel internacional debido a los siguientes facto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tes grados de intervención guberna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s máximos y mínim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 respecto al país de origen (Om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aso nestle en r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Mayor diversidad de mer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jos de atun en japo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Monopolio por ciclo de vi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strategias de descremado, penetración y marg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édito en japó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…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umento de precios por export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Valores cambiantes de las mone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cias en las prácticas fijas y variables del establecimiento del pre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ortaleza de los minoristas con los proveedores en las ventas de empresa a empre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600" y="313164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MAR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1320" y="4071960"/>
            <a:ext cx="74674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actores relacionados con el idi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dquisiciones de mar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magen del país de ori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Nombres genéricos y casi genér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1 Título"/>
          <p:cNvSpPr/>
          <p:nvPr/>
        </p:nvSpPr>
        <p:spPr>
          <a:xfrm>
            <a:off x="609480" y="426960"/>
            <a:ext cx="7467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OMOC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2 Marcador de contenido"/>
          <p:cNvSpPr/>
          <p:nvPr/>
        </p:nvSpPr>
        <p:spPr>
          <a:xfrm>
            <a:off x="609480" y="1752480"/>
            <a:ext cx="74678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mpuje- Atracción (push-pul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tandarización de los programas publicitar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DISTRIBUCIÓN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icultad de la estandar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ección de distribuidores y can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Manejo inter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Características de los distribuido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fracciones y repar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Ganar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Costos ocultos de la distribución en el extranje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Niveles en el sistema de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Deficiencias en las ventas al menude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Agotamiento de inven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nternet y el comercio electrón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1:03:15Z</dcterms:created>
  <dc:creator>Eve</dc:creator>
  <dc:description/>
  <dc:language>en-US</dc:language>
  <cp:lastModifiedBy>Eve</cp:lastModifiedBy>
  <dcterms:modified xsi:type="dcterms:W3CDTF">2008-11-04T19:16:27Z</dcterms:modified>
  <cp:revision>27</cp:revision>
  <dc:subject/>
  <dc:title>CLASE  IN 556  MARKETING INTERNACIONAL AGROINDUSTRIAL  TEMA: Marketing Mix de Negocios Internacionales</dc:title>
</cp:coreProperties>
</file>