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838A-29C5-45B3-BFD6-7004FCC1E8A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3ADB-D121-4E27-8318-D41BB525FB4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EDBA-B36C-42B2-8E37-0ABD2091DF1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DB82-1E75-4C97-8D6E-1061A3BE7DB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80B5-2A8F-4099-A9D3-4A05A86E530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981B-9918-422B-8998-FBA3F2137F6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CD4F-97A6-415C-832E-E2D23FBBC91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6969-9BD4-467E-8879-693CDD6B910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1E0B-9EC1-4095-9818-5849201A3D1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BB4D-B85D-4F98-B752-7B08795916D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B923-1525-453A-8F31-0CE6B93AE59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E6B-D8D6-48C0-BB22-88315511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E5D-51EC-4B3F-AE2B-DE043CAF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302-9104-4381-95C9-EDE4FBD0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520-75C3-4D44-BBE4-A6D9B76E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0DC0-40A2-4ECF-9C8F-897AA0D8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9228-1A3E-4502-9380-EA053B2F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D942-4C30-46D1-80AB-9D48792E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7014-B5D1-40BD-B160-2D139326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C5F9-A1BD-4FAE-A6CE-E04E7F91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FD00-71C5-4536-A07C-AAE63744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9E90-0E26-4F53-8EC3-221CDF72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9C1-BE75-483B-94FB-47FAF422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55C4-73C6-47BF-A762-0800CDBA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C94B-2E73-4661-81AF-96344F6A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48D2-C500-4341-99C5-B925DDF0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4E67-F45B-40B8-A1B1-6837D82F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9773-144C-4D2D-B513-4F2BC4EE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335C3-35E3-4FAF-83AB-5452CD37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C9DB5-4006-45E6-8E24-6BF93910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A4629-B8DC-454C-8A62-50108BD0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47F8B-37C8-4D4E-81D6-AE9E7181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E1E4D-383E-455A-98CE-2CB78351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11A-B95A-4526-8BD7-F366035A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FDD0A-1F4A-4C5C-B1FA-8959B4DB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A6EC3-7963-4FB5-ADDF-86FA09D1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B3E54-E8DB-475F-B3AA-866DBA2C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772C2-8E8F-4CED-A47F-C0A07B8D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26C76-1CA9-4E13-8884-D117B655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7F490-A55E-4CBD-9CA8-CAD51D0D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B8D79-90B9-4062-B7AA-18BC6DA1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57340-5650-4AF9-B636-5EEBDCEE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C9073-E6FA-4CA2-9F55-ACE02E42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ACF43-7E16-44E5-AD51-E3F21D9D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FA1-76A3-42A0-B0F8-802AFC51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4DC3-9554-430F-BBFE-8C42D645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9E9BC-19A1-4EEE-90AC-8A687318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1E108-1EF2-45A1-9770-44CB3CCD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AC42C-FBAB-428A-8C86-F58B7375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C329-B8EC-4E71-88AC-F2B4387A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99460-22CA-4E7F-B7BC-16832182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D860-04BF-4934-839B-21ECCAAA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923CD-43ED-44BF-95E8-0775C5EB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FB4BE-EFF7-443A-9A86-237C328A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50F88-B1A6-4B80-8DD4-1912EF4E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2E4-3C85-4884-888C-3B2FE5EC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84261-8B32-4414-A8AB-32E755F1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43DB1-1783-4031-8102-38BEB302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8919F-7C05-4FC9-A847-975CC07D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49767-519C-43CF-95E3-C25C33AE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8FDA7-B156-4299-9185-A1FCA360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77E5D-CB40-4302-872F-35BB1C29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891E0-C3A3-40CF-AE4D-ADE245F8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1C392-89CB-463D-B27B-AC1A20E6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C9DA0-3C1D-42A5-A89E-7D0BD2E3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7155B-48C7-43F7-BE30-A7D26507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74A-605A-4067-93B9-1CFE38A9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2754C4-E2BD-455B-AB2E-54386A21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A6CF8-7393-4708-BDD0-396964F0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6292B-E4D4-4A6F-A02C-17F20093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CA7726-FC95-4BC3-93B8-0A02F001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4097E-FB6D-4752-9F61-84AD1E2A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1625F-E410-4CF5-AEF5-F92AB1AB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AEEC7-C13C-43FD-82B8-9893FEDB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75A76-179D-482A-B72E-98496013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9C187C-EEB2-451D-B08A-F65D534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3A326B-2E29-47F2-A98A-D3ABD6B2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71A-0C0B-4203-B17A-1CA0E175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1D25E-7DB5-4167-9223-1895AB63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48917-9578-44EE-8C81-018139AF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7ADE01-92E7-4BAE-ADCB-95C7F1AD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29DF3-937B-4A66-B6BA-60CB6F38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A379C-8EB4-44F6-84D5-FB2135E8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3D06B9-4349-435B-907F-089A4748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C6EF17-BF8A-4F2C-8874-23916301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9BAE2-941B-4449-9A84-34111581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1896ED-B0D1-4DFB-B6FC-CDE69685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3D68C8-F56D-4085-8076-993EF2F3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926-808E-4992-AE61-36FF55F1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54686-0E42-4B46-A5EB-3B9ACDC5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4EEF80-6DFC-40E5-A2A1-63AD452C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0B3C89-E82A-4BD8-84F6-43F060D0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00875F-F6AC-4CE0-9E06-0F670C44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89D516-B5B8-45B2-9064-CFB7E6CC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CD6-02D0-4B69-B4B8-36BA6707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819B-21F1-4FAC-9AE7-FC4697B9FD2F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AB08-9B84-4DE5-AC8D-3EEE79F7655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4A6D-101F-4AF9-B06D-3400E4FF16D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7C84-33DF-4F0B-9E0D-CDF09DD36F2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2B62-DBB6-4029-84CD-997E7801454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F0F4-6253-46E4-82DB-75180F322A7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158F-D912-4E02-A62A-30FF56D4382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356920" y="8568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575f6d"/>
                </a:solidFill>
                <a:latin typeface="Mufferaw"/>
                <a:ea typeface="Aharoni"/>
              </a:rPr>
              <a:t>CLASE </a:t>
            </a:r>
            <a:br>
              <a:rPr sz="2700"/>
            </a:br>
            <a:r>
              <a:rPr b="1" lang="es-ES_tradnl" sz="2800" spc="-1" strike="noStrike">
                <a:solidFill>
                  <a:srgbClr val="575f6d"/>
                </a:solidFill>
                <a:latin typeface="Mufferaw"/>
                <a:ea typeface="Aharoni"/>
              </a:rPr>
              <a:t>IN 556  MARKETING INTERNACIONAL AGROINDUSTRIAL</a:t>
            </a:r>
            <a:br>
              <a:rPr sz="2700"/>
            </a:br>
            <a:br>
              <a:rPr sz="2700"/>
            </a:br>
            <a:r>
              <a:rPr b="1" lang="es-ES_tradnl" sz="2700" spc="-1" strike="noStrike">
                <a:solidFill>
                  <a:srgbClr val="575f6d"/>
                </a:solidFill>
                <a:latin typeface="Mufferaw"/>
                <a:ea typeface="Aharoni"/>
              </a:rPr>
              <a:t>TEMA: MARKETING MIX DE NEGOCIOS INTERNACIONAL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Mufferaw"/>
              </a:rPr>
              <a:t>Auxiliar: Evelyn San Martín Zabalag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54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FI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GRACIAS POR SU ATENCIÓN!!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OTENCIAL TOTAL DE MERC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999720"/>
            <a:ext cx="5472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Principales indicad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Ingres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Población del moment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Crecimiento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Razones por las que falla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Obsolescencia y salto de produc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Cos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Elasticidad ingres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Sustituci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Desigualdad de ingres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Factores culturales y gus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4340160" y="1407960"/>
            <a:ext cx="37242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ANÁLISIS DE BRECH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Brecha de uso: Corresponde a la diferencia entre las ventas reales y las ventas potenciales de todas las empresa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La diferencia entre las ventas de una empresa y las ventas reales de todas las empresas de la industria constituye 3 brechas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Brecha de distribu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Brecha de línea de produc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Brecha competi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OLÍTICA DE PRODUCT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Orientación haci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la produc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las vent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los cl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l marketing estraté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l marketing so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RAZONES PARA LA ADAPTACIÓN DE PRODUCT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2099880"/>
            <a:ext cx="74674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Razones leg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Productos  farmacéu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Etiquetad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Seguridad en automóviles,  EEUU y europ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Razones cultur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Toyota en EEU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Tyson foods, Carne de cerdo en países del isla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Razones económi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Whirlpool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Automóviles estadounidenses en japó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RECI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s más complicado establecerlo a nivel internacional debido a los siguientes factor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Diferentes grados de intervención guberna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Precios máximos y mínim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Precio respecto al país de origen (Omc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Caso nestle en r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Mayor diversidad de merca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Ojos de atun en japon v/s EEU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Monopolio por ciclo de vid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Estrategias de descremado, penetración y marg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Mufferaw"/>
                <a:ea typeface="SimSun"/>
              </a:rPr>
              <a:t>Crédito en japón v/s EEU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…</a:t>
            </a: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RECI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07172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Aumento de precios por export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Valores cambiantes de las moned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Diferencias en las prácticas fijas y variables del establecimiento del prec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Fortaleza de los minoristas con los proveedores en las ventas de empresa a empre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600" y="3131640"/>
            <a:ext cx="746748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MAR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71320" y="4071960"/>
            <a:ext cx="74674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Factores relacionados con el idio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Adquisiciones de marc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Imagen del país de ori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Nombres genéricos y casi genér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1 Título"/>
          <p:cNvSpPr/>
          <p:nvPr/>
        </p:nvSpPr>
        <p:spPr>
          <a:xfrm>
            <a:off x="609480" y="426960"/>
            <a:ext cx="74678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PROMOC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2 Marcador de contenido"/>
          <p:cNvSpPr/>
          <p:nvPr/>
        </p:nvSpPr>
        <p:spPr>
          <a:xfrm>
            <a:off x="609480" y="1752480"/>
            <a:ext cx="746784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mpuje- Atracción (push-pul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standarización de los programas publicitari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DISTRIBUCIÓN</a:t>
            </a:r>
            <a:r>
              <a:rPr b="1" lang="es-ES_tradnl" sz="3000" spc="-1" strike="noStrike">
                <a:solidFill>
                  <a:srgbClr val="575f6d"/>
                </a:solidFill>
                <a:latin typeface="Mufferaw"/>
                <a:ea typeface="바탕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Dificultad de la estandariz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Elección de distribuidores y can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Manejo inter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Características de los distribuidor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Refracciones y repara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Ganar distribu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Costos ocultos de la distribución en el extranjer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Infraestructur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Niveles en el sistema de distribu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Deficiencias en las ventas al menude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Restriccion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547560" indent="-182520">
              <a:lnSpc>
                <a:spcPct val="100000"/>
              </a:lnSpc>
              <a:spcBef>
                <a:spcPts val="601"/>
              </a:spcBef>
              <a:buClr>
                <a:srgbClr val="e0752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ufferaw"/>
                <a:ea typeface="SimSun"/>
              </a:rPr>
              <a:t>Agotamiento de inven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ufferaw"/>
                <a:ea typeface="SimSun"/>
              </a:rPr>
              <a:t>Internet y el comercio electrón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1:03:15Z</dcterms:created>
  <dc:creator>Eve</dc:creator>
  <dc:description/>
  <dc:language>en-US</dc:language>
  <cp:lastModifiedBy>Eve</cp:lastModifiedBy>
  <dcterms:modified xsi:type="dcterms:W3CDTF">2008-11-04T19:16:27Z</dcterms:modified>
  <cp:revision>27</cp:revision>
  <dc:subject/>
  <dc:title>CLASE  IN 556  MARKETING INTERNACIONAL AGROINDUSTRIAL  TEMA: Marketing Mix de Negocios Internacionales</dc:title>
</cp:coreProperties>
</file>