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22C6-68DF-4876-BDEB-00A6322CAA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728E-6154-4A7D-B83E-97E4B526F52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4D5-F7AB-42C4-9A22-655121B1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040-F4D0-41E8-9F50-2A44679E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980-F970-40F1-BD6D-DC06A894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B38-598D-49B8-A6ED-F02ADF70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64EB9-5092-4DFA-A9CD-1C9E0079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93529-7229-4477-95E3-51C2456D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E592C-31CD-46EF-B86A-632ABA77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12C9D-D89A-4EEB-B9FC-BE0FD006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89D85-8468-4CCE-8745-54E72F0F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EAAD7-AE27-4022-9F55-10066065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847E5-6DAB-4F3C-9E22-A2A4C9D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2B0-D0D0-495A-865C-37267FA6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29372-B972-4DDB-B8AD-A2CBCC5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9B486-865A-4A7F-B0FB-198CA3E3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73CAF-6D97-4DB8-8911-CB2767FB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96E69-AC0C-4A6E-A49B-551ECA8F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3FA6A-AE8F-4E52-8F7D-C1E07C56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BBE-0816-4633-A387-4ED99CEB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91F-62EC-450D-841B-721AFCE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1C7-1A5B-4F05-B5E6-6EC0AB27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461-E3E3-478D-BCD9-CEEFE593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E37-0B46-446F-9306-DF4694FE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D55-0E7E-4A56-952D-1C5AFE01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84C-A3CA-4C21-A2F2-3B2A9C28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rlos Vignolo - Programa de Innovación y Tecnologías de Construcción de Capital So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1CA-7A91-41D2-ACD8-B1BE3034A1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rlos Vignolo - Programa de Innovación y Tecnologías de Construcción de Capital So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54C-3387-45E1-BB6E-4E286497DE8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4"/>
          <p:cNvGrpSpPr/>
          <p:nvPr/>
        </p:nvGrpSpPr>
        <p:grpSpPr>
          <a:xfrm>
            <a:off x="304920" y="330120"/>
            <a:ext cx="3276360" cy="812880"/>
            <a:chOff x="304920" y="330120"/>
            <a:chExt cx="3276360" cy="812880"/>
          </a:xfrm>
        </p:grpSpPr>
        <p:sp>
          <p:nvSpPr>
            <p:cNvPr id="91" name="Rounded Rectangle 9"/>
            <p:cNvSpPr/>
            <p:nvPr/>
          </p:nvSpPr>
          <p:spPr>
            <a:xfrm>
              <a:off x="304920" y="330120"/>
              <a:ext cx="3276360" cy="752760"/>
            </a:xfrm>
            <a:prstGeom prst="roundRect">
              <a:avLst>
                <a:gd name="adj" fmla="val 4477"/>
              </a:avLst>
            </a:prstGeom>
            <a:noFill/>
            <a:ln w="2541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69000" y="375480"/>
              <a:ext cx="3148200" cy="76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7"/>
          <p:cNvSpPr/>
          <p:nvPr/>
        </p:nvSpPr>
        <p:spPr>
          <a:xfrm>
            <a:off x="0" y="160020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s-ES" sz="3600" spc="-1" strike="noStrike">
                <a:solidFill>
                  <a:srgbClr val="363636"/>
                </a:solidFill>
                <a:latin typeface="Arial"/>
                <a:ea typeface="Century"/>
              </a:rPr>
              <a:t>EMPRENDIENDO POR AMOR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Pan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Revolucionando la Educación para el Emprendimient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4920" y="3809880"/>
            <a:ext cx="8229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Carlos Vignolo 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Dir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Programa de Innovación y Sociotecnolog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828800" y="556272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Century"/>
              </a:rPr>
              <a:t>RRELA 2008, Barranquillas, 5 de Noviembre d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ángulo 7"/>
          <p:cNvSpPr/>
          <p:nvPr/>
        </p:nvSpPr>
        <p:spPr>
          <a:xfrm>
            <a:off x="3331080" y="324468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vignolo@dii.uchile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2057400"/>
          <a:ext cx="3949560" cy="24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3949560" cy="247500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0" y="2057400"/>
          <a:ext cx="4267080" cy="241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057400"/>
                    <a:ext cx="4267080" cy="241920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05320" y="5257800"/>
            <a:ext cx="5105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Hetz, Rodrig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“</a:t>
            </a: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La vinculación de los ex alumnos de la carrera de Ingeniería Civil Industrial de la Universidad de Chil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Memoria de Título, 19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907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"/>
              </a:rPr>
              <a:t>Escala 1 a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04920" y="380880"/>
            <a:ext cx="861048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single human life ought to be understood and treated as a unique “start up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ole of society is to guarantee all human beings a context in which he/she can design and manage his/her life as a personal endeav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o Start starting by learning”(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o Start starting by Be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ity as crucial factor of E and E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04920" y="380880"/>
            <a:ext cx="8610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does not need to be taught but just “liberated” from paradigms, myths, social practices and moods that block natural entrepreneurship cap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Let's admit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If we want to have an entrepreneurial culture we must place LOVE  in the center of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That's why rehumanization of adults – parents and  teachers mainly and in the long run … even politicians!- is a crucial requirement  to foster entrepreneurship in our socie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80880" y="733320"/>
            <a:ext cx="86108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re is nothing more practical than a good theor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We need a completely new, revolutionary theory, about humans, about knowing, about reality, about everyth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80880" y="733320"/>
            <a:ext cx="861084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is a completely different matter if we adopt a radical radical constructivist approach RR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In a RRCA entrepreneurs literally create reality that them – and every other else- live 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at's then the crucial challen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ither we create our own reality 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thers will create reality for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You choos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33520" y="380880"/>
            <a:ext cx="8610480" cy="10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Let's abandon the idea of teac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There is only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Let's put teacher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Generate and facilitate contexts for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Act as provocateurs, mentors, coaches, companions, etc. of people trying to be better peo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04920" y="380880"/>
            <a:ext cx="8610480" cy="11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ake kids and young people out of T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And out of closed spaces: classrooms  and ho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acilitate them to get in contact with other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Specially different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And to get in contact with n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o recover the capacity to get in contact with one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at requi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We adults – parents and teachers- lead with the exam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533520"/>
            <a:ext cx="7620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place learning games in the center of education, specially of entrepreneurship edu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expand playground to the entire education process, including  Univer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04920" y="380880"/>
            <a:ext cx="861048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tru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recover Socr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st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predict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Use “What the Bleep do we Know”, hundred times, to help students to learn how to live in the mystery and the unknow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04920" y="380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ángulo 2"/>
          <p:cNvSpPr/>
          <p:nvPr/>
        </p:nvSpPr>
        <p:spPr>
          <a:xfrm>
            <a:off x="838080" y="1674720"/>
            <a:ext cx="74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Y GOALS, HERE AND NO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OCK YO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E YOU OUT OF YOUR COMFORT Z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PEN YOUR MIND, HEART AND SPIRIT TO URGENT NEEDS FOR CHANGE IN OUR LIVE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380880"/>
            <a:ext cx="861048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llow kids and youngsters to be fr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reedom is the basic emotion and condition for entrepreneurship to flouris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liberate them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verprotective famil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Repressive  soc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ppressive organization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04920" y="380880"/>
            <a:ext cx="8610480" cy="11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generate contexts in which learners (students, teachers and every one around us) can discover and practice the 10 P´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rom 4 P´s in 200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10 P´s in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143000" y="1219320"/>
            <a:ext cx="6477120" cy="4876560"/>
          </a:xfrm>
          <a:prstGeom prst="pie">
            <a:avLst/>
          </a:prstGeom>
          <a:solidFill>
            <a:srgbClr val="ff0000">
              <a:alpha val="19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2341440" y="1371600"/>
            <a:ext cx="4440240" cy="422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921120" y="3048120"/>
            <a:ext cx="1260360" cy="11826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1565280" y="3510000"/>
            <a:ext cx="2016000" cy="36036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487240" y="4419720"/>
            <a:ext cx="865080" cy="21744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9"/>
          <p:cNvSpPr/>
          <p:nvPr/>
        </p:nvSpPr>
        <p:spPr>
          <a:xfrm flipV="1">
            <a:off x="2743200" y="4813200"/>
            <a:ext cx="1008000" cy="151128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4343400" y="4702320"/>
            <a:ext cx="287280" cy="93636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1"/>
          <p:cNvSpPr/>
          <p:nvPr/>
        </p:nvSpPr>
        <p:spPr>
          <a:xfrm flipH="1" flipV="1">
            <a:off x="5471640" y="4647960"/>
            <a:ext cx="1081080" cy="165564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5270400" y="4368960"/>
            <a:ext cx="1511280" cy="43164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5410080" y="2743200"/>
            <a:ext cx="1224000" cy="64944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572000" y="1980720"/>
            <a:ext cx="576360" cy="79236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5"/>
          <p:cNvSpPr/>
          <p:nvPr/>
        </p:nvSpPr>
        <p:spPr>
          <a:xfrm flipH="1" flipV="1">
            <a:off x="2742840" y="2209680"/>
            <a:ext cx="863640" cy="72072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1066680" y="6324480"/>
            <a:ext cx="6934320" cy="0"/>
          </a:xfrm>
          <a:prstGeom prst="line">
            <a:avLst/>
          </a:prstGeom>
          <a:ln w="41400">
            <a:solidFill>
              <a:srgbClr val="2a292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66680" y="6324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P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733920" y="6324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64008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2438280" y="6553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5181480" y="6553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3276720" y="22860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oplas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411480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4191120" y="1295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3636"/>
                </a:solidFill>
                <a:latin typeface="Arial"/>
              </a:rPr>
              <a:t>Membr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5"/>
          <p:cNvSpPr/>
          <p:nvPr/>
        </p:nvSpPr>
        <p:spPr>
          <a:xfrm flipH="1">
            <a:off x="4495320" y="16002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335920" y="490212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871440" y="44100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228600" y="-270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Times New Roman"/>
              </a:rPr>
              <a:t>¡We are descendants of entrepreneurial amebas…and entrepreneurial molecules!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5038200" y="38098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Expa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5116680" y="27432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477800" y="3276720"/>
            <a:ext cx="6868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1. PASIÓN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ASSION 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33520" y="2514600"/>
            <a:ext cx="83055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2. PROPÓSITO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URPOSE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 Misión, Ideología Central, Sentido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Oval 5"/>
          <p:cNvSpPr/>
          <p:nvPr/>
        </p:nvSpPr>
        <p:spPr>
          <a:xfrm rot="900000">
            <a:off x="1904760" y="1350720"/>
            <a:ext cx="5529240" cy="52783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a6a6a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3657600" y="1371600"/>
            <a:ext cx="1523880" cy="5257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752480" y="4495680"/>
            <a:ext cx="3810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4. PACIE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</a:rPr>
              <a:t>PATIENCE</a:t>
            </a:r>
            <a:r>
              <a:rPr b="1" lang="en-US" sz="4000" spc="-1" strike="noStrike">
                <a:solidFill>
                  <a:srgbClr val="3636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038480" y="2514600"/>
            <a:ext cx="5105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3.PERSEVERA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</a:rPr>
              <a:t>PERSEV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343400" y="64771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 rot="10800000">
            <a:off x="4190760" y="121932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648320" y="838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4952880" y="6400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877320" y="2971800"/>
            <a:ext cx="74671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5. PRUDENCIA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ud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5"/>
          <p:cNvSpPr/>
          <p:nvPr/>
        </p:nvSpPr>
        <p:spPr>
          <a:xfrm rot="900000">
            <a:off x="1904760" y="1350720"/>
            <a:ext cx="5529240" cy="52783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7f7f7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Freeform 6"/>
          <p:cNvSpPr/>
          <p:nvPr/>
        </p:nvSpPr>
        <p:spPr>
          <a:xfrm>
            <a:off x="3657600" y="1371600"/>
            <a:ext cx="1523880" cy="5257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752480" y="4495680"/>
            <a:ext cx="4187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7.PLASTICIDA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63636"/>
                </a:solidFill>
                <a:latin typeface="Times New Roman"/>
              </a:rPr>
              <a:t>P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495680" y="251460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6.PLA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63636"/>
                </a:solidFill>
                <a:latin typeface="Times New Roman"/>
              </a:rPr>
              <a:t>Plans</a:t>
            </a: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343400" y="64771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10"/>
          <p:cNvSpPr/>
          <p:nvPr/>
        </p:nvSpPr>
        <p:spPr>
          <a:xfrm rot="10800000">
            <a:off x="4190760" y="121932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648320" y="838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4952880" y="6400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304920" y="2133720"/>
            <a:ext cx="88390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8. PRÁCTICAS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actic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 Pedir, Preguntar, Prometer, Protestar, Pinchar, Pujar, Patear, Pelear, “Parar el Dedo” !!!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152280" y="2819520"/>
            <a:ext cx="89154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9. PRIORIZAR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iority 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ángulo 2"/>
          <p:cNvSpPr/>
          <p:nvPr/>
        </p:nvSpPr>
        <p:spPr>
          <a:xfrm>
            <a:off x="990720" y="1536840"/>
            <a:ext cx="72388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is not an option but a condition for survival. In the human domain it is a condition for prevalence of the Homo Sapiens Am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olution is Human Innovation in periods of deep and rapid changes like the ones that we live to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is nothing but  Evolution in the Human Space of Self Consc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ángulo 3"/>
          <p:cNvSpPr/>
          <p:nvPr/>
        </p:nvSpPr>
        <p:spPr>
          <a:xfrm>
            <a:off x="3331080" y="324468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vignolo@dii.uchile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228600" y="1371600"/>
            <a:ext cx="8915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10. PODER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ower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Redes  y Equipos, Identidad, Capacidad de Articular, Competencias Conversacionales, Capital Socia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04920" y="380880"/>
            <a:ext cx="8610480" cy="10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in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is, giving the crazy times we live, not enough to survive and prevai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 world, factually  and ontologically speaking, is changing so quickly and systematically that  makes E3E need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th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colog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04920" y="380880"/>
            <a:ext cx="8610480" cy="9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in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3E is, giving the crazy times we live, not enough to survive and prevai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 world, factually  and ontologically speaking, is changing so quickly and systematically that  makes Innovation need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Innovation= Entrepreneur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+ “Obslistening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+ “In-motion” of Conser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ángulo 2"/>
          <p:cNvSpPr/>
          <p:nvPr/>
        </p:nvSpPr>
        <p:spPr>
          <a:xfrm>
            <a:off x="838080" y="1674720"/>
            <a:ext cx="74678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“Hard Facts of Reality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ization, Digitalization, Biologization, Easternization and other profound changes make Western Traditional Paradigms obsole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living a Paradigm Revolution: A Scientific Revolution, A Philosophical Revolution, The Third (and, to my view, final !) Great Crisis of Western Civiliz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04920" y="380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ángulo 2"/>
          <p:cNvSpPr/>
          <p:nvPr/>
        </p:nvSpPr>
        <p:spPr>
          <a:xfrm>
            <a:off x="838080" y="16747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 THE BLEEP DO WE KNOW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ángulo 2"/>
          <p:cNvSpPr/>
          <p:nvPr/>
        </p:nvSpPr>
        <p:spPr>
          <a:xfrm>
            <a:off x="990720" y="1523880"/>
            <a:ext cx="7315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Philosophical Paradigm Revolution occu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volution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urgently neede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¡ Specially if we are talking about Entrepreneurship Education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nks for including this crucial Panel in REELA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for inviting me to particip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ntrepreneurship Education (EE) is education for: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PRODUCTIV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&amp;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ntrepreneurship Education (EE) is education f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E is about allowing and helping human PASSION to flourish and foc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380880"/>
            <a:ext cx="86104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all about taking action in relation to something you care ab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LOVE in A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ON for a SOCIAL 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not about money but about mean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Entrepreneurship Education ought to be –if we really wish to have a better world- the corners stone of all the educational system, at all lev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(K to 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rganiz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7:49Z</dcterms:created>
  <dc:creator>Anita Moyano</dc:creator>
  <dc:description/>
  <dc:language>en-US</dc:language>
  <cp:lastModifiedBy>Carlos Vignolo</cp:lastModifiedBy>
  <dcterms:modified xsi:type="dcterms:W3CDTF">2008-11-05T18:52:01Z</dcterms:modified>
  <cp:revision>102</cp:revision>
  <dc:subject/>
  <dc:title>Diapositiva 1</dc:title>
</cp:coreProperties>
</file>