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7E50-F5EA-40D6-B816-371EA92757E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7209-9E40-454F-AAA5-1830F5EB56B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778-5AE8-47C9-A4ED-F606031B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3A9-5119-4A50-AD3F-3FD8BBC2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4E4-0632-442B-8335-6610845D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9B7-3C0E-4F33-B295-82AF5430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B6511-21D1-4EF7-8C9E-49AB361F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944CF-BF6F-424B-A7C4-9A5FC253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4716D-9070-4D41-AE75-F75DA7F7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11056-6C2B-4CC1-ADE8-0BA1DB7A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D2F7A-8241-4B81-B4BD-4B0BB569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9FB89-C61D-4CC5-ABCD-93BA1AA0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F480C-2A3C-4E52-BAB5-627B2F86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BEE-FF51-4ACB-9736-D168A501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71DAD-D066-4976-B41F-062372FA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64B42-86CD-4F63-BE7C-1FA32FD9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323D1-D01C-4101-A0C1-05C9AFEA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3CD01-235B-4AAB-AC1D-FD7765EB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380E3-4F5A-495E-B968-40160576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50F-6D73-4D68-980E-F5EC1F99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D5BE-89A4-4873-8EB8-5E696E7A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CFF-03AC-4A0C-8C13-084AC779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E2B-7E22-4CBD-8F94-A290592F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268-1AA5-41EA-9ED0-085B6AF0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078-C0A2-47C5-A3E0-F745B6BA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D44-0EB3-48EA-B5B1-4FA736FB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rlos Vignolo - Programa de Innovación y Tecnologías de Construcción de Capital Soci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6AF7-D375-417D-B5A9-4ACA436A79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rlos Vignolo - Programa de Innovación y Tecnologías de Construcción de Capital Soci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F5FE-F7B9-4B45-9C06-F10D84C6EA4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4"/>
          <p:cNvGrpSpPr/>
          <p:nvPr/>
        </p:nvGrpSpPr>
        <p:grpSpPr>
          <a:xfrm>
            <a:off x="304920" y="330120"/>
            <a:ext cx="3276360" cy="812880"/>
            <a:chOff x="304920" y="330120"/>
            <a:chExt cx="3276360" cy="812880"/>
          </a:xfrm>
        </p:grpSpPr>
        <p:sp>
          <p:nvSpPr>
            <p:cNvPr id="91" name="Rounded Rectangle 9"/>
            <p:cNvSpPr/>
            <p:nvPr/>
          </p:nvSpPr>
          <p:spPr>
            <a:xfrm>
              <a:off x="304920" y="330120"/>
              <a:ext cx="3276360" cy="752760"/>
            </a:xfrm>
            <a:prstGeom prst="roundRect">
              <a:avLst>
                <a:gd name="adj" fmla="val 4477"/>
              </a:avLst>
            </a:prstGeom>
            <a:noFill/>
            <a:ln w="2541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69000" y="375480"/>
              <a:ext cx="3148200" cy="76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7"/>
          <p:cNvSpPr/>
          <p:nvPr/>
        </p:nvSpPr>
        <p:spPr>
          <a:xfrm>
            <a:off x="0" y="160020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63636"/>
                </a:solidFill>
                <a:latin typeface="Arial"/>
                <a:ea typeface="Century"/>
              </a:rPr>
              <a:t>“</a:t>
            </a:r>
            <a:r>
              <a:rPr b="1" lang="es-ES" sz="3600" spc="-1" strike="noStrike">
                <a:solidFill>
                  <a:srgbClr val="363636"/>
                </a:solidFill>
                <a:latin typeface="Arial"/>
                <a:ea typeface="Century"/>
              </a:rPr>
              <a:t>EMPRENDIENDO POR AMOR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Pan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“</a:t>
            </a: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Revolucionando la Educación para el Emprendimient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4920" y="3809880"/>
            <a:ext cx="82296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63636"/>
                </a:solidFill>
                <a:latin typeface="Arial"/>
                <a:ea typeface="Times New Roman"/>
              </a:rPr>
              <a:t>Carlos Vignolo 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63636"/>
                </a:solidFill>
                <a:latin typeface="Arial"/>
                <a:ea typeface="Times New Roman"/>
              </a:rPr>
              <a:t>Dire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63636"/>
                </a:solidFill>
                <a:latin typeface="Arial"/>
                <a:ea typeface="Times New Roman"/>
              </a:rPr>
              <a:t>Programa de Innovación y Sociotecnolog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828800" y="556272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63636"/>
                </a:solidFill>
                <a:latin typeface="Arial"/>
                <a:ea typeface="Century"/>
              </a:rPr>
              <a:t>RRELA 2008, Barranquillas, 5 de Noviembre de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ángulo 7"/>
          <p:cNvSpPr/>
          <p:nvPr/>
        </p:nvSpPr>
        <p:spPr>
          <a:xfrm>
            <a:off x="3331080" y="3244680"/>
            <a:ext cx="24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vignolo@dii.uchile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2057400"/>
          <a:ext cx="3949560" cy="247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3949560" cy="2475000"/>
                  </a:xfrm>
                  <a:prstGeom prst="rect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0" y="2057400"/>
          <a:ext cx="4267080" cy="2419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057400"/>
                    <a:ext cx="4267080" cy="2419200"/>
                  </a:xfrm>
                  <a:prstGeom prst="rect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5" name="Text Box 5"/>
          <p:cNvSpPr/>
          <p:nvPr/>
        </p:nvSpPr>
        <p:spPr>
          <a:xfrm>
            <a:off x="3505320" y="5257800"/>
            <a:ext cx="5105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63636"/>
                </a:solidFill>
                <a:latin typeface="Arial Narrow"/>
              </a:rPr>
              <a:t>Hetz, Rodrig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63636"/>
                </a:solidFill>
                <a:latin typeface="Arial Narrow"/>
              </a:rPr>
              <a:t>“</a:t>
            </a:r>
            <a:r>
              <a:rPr b="1" lang="es-ES_tradnl" sz="1800" spc="-1" strike="noStrike">
                <a:solidFill>
                  <a:srgbClr val="363636"/>
                </a:solidFill>
                <a:latin typeface="Arial Narrow"/>
              </a:rPr>
              <a:t>La vinculación de los ex alumnos de la carrera de Ingeniería Civil Industrial de la Universidad de Chil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63636"/>
                </a:solidFill>
                <a:latin typeface="Arial Narrow"/>
              </a:rPr>
              <a:t>Memoria de Título, 199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99072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63636"/>
                </a:solidFill>
                <a:latin typeface="Arial"/>
              </a:rPr>
              <a:t>Escala 1 a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304920" y="380880"/>
            <a:ext cx="861048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single human life ought to be understood and treated as a unique “start up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ole of society is to guarantee all human beings a context in which he/she can design and manage his/her life as a personal endeav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to Start starting by learning”(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to Start starting by Being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ity as crucial factor of E and E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04920" y="380880"/>
            <a:ext cx="8610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epreneurship does not need to be taught but just “liberated” from paradigms, myths, social practices and moods that block natural entrepreneurship capab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04920" y="380880"/>
            <a:ext cx="86104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Let's admit i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If we want to have an entrepreneurial culture we must place LOVE  in the center of l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That's why rehumanization of adults – parents and  teachers mainly and in the long run … even politicians!- is a crucial requirement  to foster entrepreneurship in our socie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80880" y="733320"/>
            <a:ext cx="86108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“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ere is nothing more practical than a good theor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We need a completely new, revolutionary theory, about humans, about knowing, about reality, about everyth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380880" y="733320"/>
            <a:ext cx="861084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ntrepreneurship is a completely different matter if we adopt a radical radical constructivist approach RR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In a RRCA entrepreneurs literally create reality that them – and every other else- live 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at's then the crucial challeng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ither we create our own reality 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Others will create reality for 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You choos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533520" y="380880"/>
            <a:ext cx="8610480" cy="10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Let's abandon the idea of teac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There is only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Let's put teacher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Generate and facilitate contexts for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Act as provocateurs, mentors, coaches, companions, etc. of people trying to be better peop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04920" y="380880"/>
            <a:ext cx="8610480" cy="11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ake kids and young people out of T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And out of closed spaces: classrooms  and ho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acilitate them to get in contact with other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Specially different o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And to get in contact with n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o recover the capacity to get in contact with one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at requi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We adults – parents and teachers- lead with the exam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85800" y="533520"/>
            <a:ext cx="762012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place learning games in the center of education, specially of entrepreneurship educ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expand playground to the entire education process, including  Univer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04920" y="380880"/>
            <a:ext cx="861048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abandon the idea of tru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recover Socr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abandon the idea of stabi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abandon the idea of predictabi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Use “What the Bleep do we Know”, hundred times, to help students to learn how to live in the mystery and the unknow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04920" y="3808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ángulo 2"/>
          <p:cNvSpPr/>
          <p:nvPr/>
        </p:nvSpPr>
        <p:spPr>
          <a:xfrm>
            <a:off x="838080" y="1674720"/>
            <a:ext cx="74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Y GOALS, HERE AND NO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HOCK YO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AKE YOU OUT OF YOUR COMFORT ZO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PEN YOUR MIND, HEART AND SPIRIT TO URGENT NEEDS FOR CHANGE IN OUR LIVE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04920" y="380880"/>
            <a:ext cx="861048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allow kids and youngsters to be fr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reedom is the basic emotion and condition for entrepreneurship to flouris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liberate them fro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Overprotective famil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Repressive  socie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Oppressive organization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04920" y="380880"/>
            <a:ext cx="8610480" cy="116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generate contexts in which learners (students, teachers and every one around us) can discover and practice the 10 P´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rom 4 P´s in 200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10 P´s in 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1143000" y="1219320"/>
            <a:ext cx="6477120" cy="4876560"/>
          </a:xfrm>
          <a:prstGeom prst="pie">
            <a:avLst/>
          </a:prstGeom>
          <a:solidFill>
            <a:srgbClr val="ff0000">
              <a:alpha val="19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Freeform 4"/>
          <p:cNvSpPr/>
          <p:nvPr/>
        </p:nvSpPr>
        <p:spPr>
          <a:xfrm>
            <a:off x="2341440" y="1371600"/>
            <a:ext cx="4440240" cy="4226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3921120" y="3048120"/>
            <a:ext cx="1260360" cy="11826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1565280" y="3510000"/>
            <a:ext cx="2016000" cy="360360"/>
          </a:xfrm>
          <a:prstGeom prst="line">
            <a:avLst/>
          </a:prstGeom>
          <a:ln w="936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487240" y="4419720"/>
            <a:ext cx="865080" cy="21744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9"/>
          <p:cNvSpPr/>
          <p:nvPr/>
        </p:nvSpPr>
        <p:spPr>
          <a:xfrm flipV="1">
            <a:off x="2743200" y="4813200"/>
            <a:ext cx="1008000" cy="1511280"/>
          </a:xfrm>
          <a:prstGeom prst="line">
            <a:avLst/>
          </a:prstGeom>
          <a:ln w="936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4343400" y="4702320"/>
            <a:ext cx="287280" cy="93636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1"/>
          <p:cNvSpPr/>
          <p:nvPr/>
        </p:nvSpPr>
        <p:spPr>
          <a:xfrm flipH="1" flipV="1">
            <a:off x="5471640" y="4647960"/>
            <a:ext cx="1081080" cy="1655640"/>
          </a:xfrm>
          <a:prstGeom prst="line">
            <a:avLst/>
          </a:prstGeom>
          <a:ln w="936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5270400" y="4368960"/>
            <a:ext cx="1511280" cy="43164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5410080" y="2743200"/>
            <a:ext cx="1224000" cy="649440"/>
          </a:xfrm>
          <a:prstGeom prst="line">
            <a:avLst/>
          </a:prstGeom>
          <a:ln w="936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4572000" y="1980720"/>
            <a:ext cx="576360" cy="79236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15"/>
          <p:cNvSpPr/>
          <p:nvPr/>
        </p:nvSpPr>
        <p:spPr>
          <a:xfrm flipH="1" flipV="1">
            <a:off x="2742840" y="2209680"/>
            <a:ext cx="863640" cy="72072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1066680" y="6324480"/>
            <a:ext cx="6934320" cy="0"/>
          </a:xfrm>
          <a:prstGeom prst="line">
            <a:avLst/>
          </a:prstGeom>
          <a:ln w="41400">
            <a:solidFill>
              <a:srgbClr val="2a292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066680" y="6324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63636"/>
                </a:solidFill>
                <a:latin typeface="Arial"/>
              </a:rPr>
              <a:t>P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3733920" y="6324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63636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6400800" y="6324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63636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2438280" y="6553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21"/>
          <p:cNvSpPr/>
          <p:nvPr/>
        </p:nvSpPr>
        <p:spPr>
          <a:xfrm>
            <a:off x="5181480" y="6553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3276720" y="22860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toplas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411480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úc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4191120" y="1295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63636"/>
                </a:solidFill>
                <a:latin typeface="Arial"/>
              </a:rPr>
              <a:t>Membra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25"/>
          <p:cNvSpPr/>
          <p:nvPr/>
        </p:nvSpPr>
        <p:spPr>
          <a:xfrm flipH="1">
            <a:off x="4495320" y="16002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5335920" y="490212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3871440" y="44100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Ten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228600" y="-270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Times New Roman"/>
              </a:rPr>
              <a:t>¡We are descendants of entrepreneurial amebas…and entrepreneurial molecules!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5038200" y="38098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Expan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5116680" y="274320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Contra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477800" y="3276720"/>
            <a:ext cx="6868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 </a:t>
            </a: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1. PASIÓN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ASSION  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533520" y="2514600"/>
            <a:ext cx="83055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2. PROPÓSITO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URPOSE</a:t>
            </a: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 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( Misión, Ideología Central, Sentido)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Oval 5"/>
          <p:cNvSpPr/>
          <p:nvPr/>
        </p:nvSpPr>
        <p:spPr>
          <a:xfrm rot="900000">
            <a:off x="1904760" y="1350720"/>
            <a:ext cx="5529240" cy="527832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a6a6a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3657600" y="1371600"/>
            <a:ext cx="1523880" cy="52578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752480" y="4495680"/>
            <a:ext cx="3810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4. PACIENC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</a:rPr>
              <a:t>PATIENCE</a:t>
            </a:r>
            <a:r>
              <a:rPr b="1" lang="en-US" sz="4000" spc="-1" strike="noStrike">
                <a:solidFill>
                  <a:srgbClr val="36363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038480" y="2514600"/>
            <a:ext cx="5105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3.PERSEVERANC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</a:rPr>
              <a:t>PERSEVE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4343400" y="64771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10"/>
          <p:cNvSpPr/>
          <p:nvPr/>
        </p:nvSpPr>
        <p:spPr>
          <a:xfrm rot="10800000">
            <a:off x="4190760" y="1219320"/>
            <a:ext cx="533160" cy="30456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4648320" y="838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4952880" y="6400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877320" y="2971800"/>
            <a:ext cx="74671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5. PRUDENCIA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rudenc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Oval 5"/>
          <p:cNvSpPr/>
          <p:nvPr/>
        </p:nvSpPr>
        <p:spPr>
          <a:xfrm rot="900000">
            <a:off x="1904760" y="1350720"/>
            <a:ext cx="5529240" cy="527832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7f7f7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Freeform 6"/>
          <p:cNvSpPr/>
          <p:nvPr/>
        </p:nvSpPr>
        <p:spPr>
          <a:xfrm>
            <a:off x="3657600" y="1371600"/>
            <a:ext cx="1523880" cy="52578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752480" y="4495680"/>
            <a:ext cx="41878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7.PLASTICIDA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63636"/>
                </a:solidFill>
                <a:latin typeface="Times New Roman"/>
              </a:rPr>
              <a:t>Plast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495680" y="2514600"/>
            <a:ext cx="3124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6.PLA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63636"/>
                </a:solidFill>
                <a:latin typeface="Times New Roman"/>
              </a:rPr>
              <a:t>Plans</a:t>
            </a: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4343400" y="64771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10"/>
          <p:cNvSpPr/>
          <p:nvPr/>
        </p:nvSpPr>
        <p:spPr>
          <a:xfrm rot="10800000">
            <a:off x="4190760" y="1219320"/>
            <a:ext cx="533160" cy="30456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4648320" y="838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4952880" y="6400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304920" y="2133720"/>
            <a:ext cx="883908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8. PRÁCTICAS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ractic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( Pedir, Preguntar, Prometer, Protestar, Pinchar, Pujar, Patear, Pelear, “Parar el Dedo” !!!)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152280" y="2819520"/>
            <a:ext cx="89154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9. PRIORIZAR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riority  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04920" y="38088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(From REELA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ángulo 2"/>
          <p:cNvSpPr/>
          <p:nvPr/>
        </p:nvSpPr>
        <p:spPr>
          <a:xfrm>
            <a:off x="990720" y="1536840"/>
            <a:ext cx="72388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is not an option but a condition for survival. In the human domain it is a condition for prevalence of the Homo Sapiens Am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olution is Human Innovation in periods of deep and rapid changes like the ones that we live tod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is nothing but  Evolution in the Human Space of Self Consci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ángulo 3"/>
          <p:cNvSpPr/>
          <p:nvPr/>
        </p:nvSpPr>
        <p:spPr>
          <a:xfrm>
            <a:off x="3331080" y="3244680"/>
            <a:ext cx="24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vignolo@dii.uchile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7"/>
          <p:cNvSpPr/>
          <p:nvPr/>
        </p:nvSpPr>
        <p:spPr>
          <a:xfrm>
            <a:off x="228600" y="1371600"/>
            <a:ext cx="8915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10. PODER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ower</a:t>
            </a: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 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(Redes  y Equipos, Identidad, Capacidad de Articular, Competencias Conversacionales, Capital Socia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04920" y="380880"/>
            <a:ext cx="8610480" cy="10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in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ntrepreneurship is, giving the crazy times we live, not enough to survive and prevai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e world, factually  and ontologically speaking, is changing so quickly and systematically that  makes E3E need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th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colog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ffici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ntrepreneurshi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04920" y="380880"/>
            <a:ext cx="8610480" cy="9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in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3E is, giving the crazy times we live, not enough to survive and prevail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e world, factually  and ontologically speaking, is changing so quickly and systematically that  makes Innovation need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Innovation= Entrepreneurshi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+ “Obslistening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+ “In-motion” of Conser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04920" y="38088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2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(From REELA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ángulo 2"/>
          <p:cNvSpPr/>
          <p:nvPr/>
        </p:nvSpPr>
        <p:spPr>
          <a:xfrm>
            <a:off x="838080" y="1674720"/>
            <a:ext cx="74678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“Hard Facts of Reality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ization, Digitalization, Biologization, Easternization and other profound changes make Western Traditional Paradigms obsole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living a Paradigm Revolution: A Scientific Revolution, A Philosophical Revolution, The Third (and, to my view, final !) Great Crisis of Western Civiliz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04920" y="3808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ángulo 2"/>
          <p:cNvSpPr/>
          <p:nvPr/>
        </p:nvSpPr>
        <p:spPr>
          <a:xfrm>
            <a:off x="838080" y="16747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AT THE BLEEP DO WE KNOW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04920" y="38088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(From REELA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ángulo 2"/>
          <p:cNvSpPr/>
          <p:nvPr/>
        </p:nvSpPr>
        <p:spPr>
          <a:xfrm>
            <a:off x="990720" y="1523880"/>
            <a:ext cx="73152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a Philosophical Paradigm Revolution occu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evolution in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urgently neede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¡ Specially if we are talking about Entrepreneurship Education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nks for including this crucial Panel in REELA 200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for inviting me to participa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04920" y="380880"/>
            <a:ext cx="86104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“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Entrepreneurship Education (EE) is education for: FREE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PRODUCTIV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&amp;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“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Entrepreneurship Education (EE) is education fo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EE is about allowing and helping human PASSION to flourish and foc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380880"/>
            <a:ext cx="86104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epreneurship is all about taking action in relation to something you care ab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epreneurship is LOVE in ACTIO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ION for a SOCIAL 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epreneurship is not about money but about meaning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04920" y="380880"/>
            <a:ext cx="86104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Entrepreneurship Education ought to be –if we really wish to have a better world- the corners stone of all the educational system, at all lev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(K to 1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rganiz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47:49Z</dcterms:created>
  <dc:creator>Anita Moyano</dc:creator>
  <dc:description/>
  <dc:language>en-US</dc:language>
  <cp:lastModifiedBy>Carlos Vignolo</cp:lastModifiedBy>
  <dcterms:modified xsi:type="dcterms:W3CDTF">2008-11-05T18:52:01Z</dcterms:modified>
  <cp:revision>102</cp:revision>
  <dc:subject/>
  <dc:title>Diapositiva 1</dc:title>
</cp:coreProperties>
</file>