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E9B7-CE88-4BF4-ABE9-EE81132ADE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91B0-0062-47CB-A732-8F37CEE399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1160" y="74772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8A96-638A-47E4-86F9-F08A5CCE83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B381-3AD9-4432-BDE6-F74E05D8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BB32-B6E8-449D-9016-BCC224A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FA609-7AA7-4500-99D3-C7306FF39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43D2-2977-4416-AEB8-1C3AE58E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08D3-907D-494B-AF89-61C7DF56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FEAD-A813-40C2-B045-33E37068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1CCE-EE09-41F6-8134-C4555BD7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4FEE-67BA-419E-8F21-225239DA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A6E8-1F79-45BC-831F-6C74C009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F4F3-A6A0-48AA-8F53-E000D269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E7A3-5C32-4222-B708-18B7AFB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890D-07EA-471F-9F63-89CC25557CC8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57000"/>
            <a:ext cx="81342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ELEMENTOS DE LA ESTRATEGI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Agosto 2008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 entorno evoluciona en su complejidad en forma veloz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debe contemplar la evolución del entorno para desarrollarse en forma sustentab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genera bienes y/o servicios para satisfacer las expectativas de usuarios que pertenecen a dicho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os usuarios son el nexo entre la organización y la comunid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No olvide que el entorno le genera mandatos a su institución y que en él están las organizaciones que ejecutan funciones similares a las de su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1483920"/>
            <a:ext cx="7696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Proyección de escenarios futuro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Polít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Responsabilid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conóm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Tecn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Camp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duc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Man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Dem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Geográfico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pidemi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Misió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 un planteamiento general acerca del tipo de institución, su propósito principal y sus valor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es el propósito más importante por el que trabajan y se esfuerzan los miembros de una Organización, es la razón de ser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se inspira en los PRINCIPIOS y VALORES que sustentan el conjunto de convicciones profundas y las grandes políticas que movilizan a todos los actores que forman parte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79880" y="46008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debe expresar lo que se pretende alcanzar con los principios establecidos y lo que debemos hacer para lograr el éxito al terminar el camino traz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y sin duda lo más importante, todos los participantes (directivos y prestadores directos) deben identificarse con la Misión, para lo cual será necesario acoger todos los aportes que hagan los implicad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PORTUNIDA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emento o característica existente en el entorno que puede servir para lograr mayor desarrollo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MENAZ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spectos del entorno que pueden significar peligros para el desarrollo de la Institución, el cumplimiento de su MISIÓN y la mantención de su sustentabilidad en el tiemp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specto del entorno sólo podemos estar alertas.  Respecto de nosotros, podemos incrementar nuestras fortalezas y capacidades y podemos superar nuestras debilidades y las brechas, para alcanzar el éxi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onocer las fortalezas y debilidades “es una forma de dejar de preocuparse por el futuro y comenzar a trabajar por crearlo” (Hubert Humphrey).  El principal recurso para alcanzar el éxito somos nosotros mism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os objetiv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en los logros que se esperan obtener en el período de tiempo establecido en términos cualitativ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cuerde que los OBJETIVOS DE MAYOR VIABILIDAD son aquellos para los cuales tenemos la confluencia de FORTALEZAS y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quellos de menor probabilidad de ocurrencia son los objetivos para los cuales tenemos la confluencia de DEBILIDADES y AMENAZA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es más fácil superar debilidades institucionales o personales que transformar las amenazas del entorno en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zzle4"/>
          <p:cNvSpPr/>
          <p:nvPr/>
        </p:nvSpPr>
        <p:spPr>
          <a:xfrm>
            <a:off x="5580000" y="5086440"/>
            <a:ext cx="1224000" cy="165564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341360"/>
            <a:ext cx="10429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10429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341360"/>
            <a:ext cx="973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341360"/>
            <a:ext cx="97308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1341360"/>
            <a:ext cx="15811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341360"/>
            <a:ext cx="15811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Procesos sicológ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y sico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1341360"/>
            <a:ext cx="2448000" cy="2890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630440"/>
            <a:ext cx="122580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atr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T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1630440"/>
            <a:ext cx="122580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1630440"/>
            <a:ext cx="129708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UnitOT-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630440"/>
            <a:ext cx="129708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1341360"/>
            <a:ext cx="1657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rganiz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1341360"/>
            <a:ext cx="1657080" cy="25236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611360"/>
            <a:ext cx="7934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9440" y="1611360"/>
            <a:ext cx="8636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720" y="549360"/>
            <a:ext cx="5975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UnitOT-Regular"/>
              </a:rPr>
              <a:t>Modelo Organizacional</a:t>
            </a:r>
            <a:endParaRPr b="1" lang="en-US" sz="1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989000"/>
            <a:ext cx="315720" cy="30243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58136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1440" y="4581360"/>
            <a:ext cx="935280" cy="505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373720"/>
            <a:ext cx="1582920" cy="1081080"/>
          </a:xfrm>
          <a:prstGeom prst="wedgeRectCallout">
            <a:avLst>
              <a:gd name="adj1" fmla="val -43782"/>
              <a:gd name="adj2" fmla="val 674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zzle1"/>
          <p:cNvSpPr/>
          <p:nvPr/>
        </p:nvSpPr>
        <p:spPr>
          <a:xfrm>
            <a:off x="3060720" y="5373720"/>
            <a:ext cx="1727280" cy="129528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58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7560" y="8935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meta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resultados y beneficios cuantificables esperados, los cuales deben ser congruentes con los objetiv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actores estratégico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aspectos que inciden directamente en el éxito o fracaso de la organización y hacia los cuales debe orientarse la acción institucional para garantizar el cumplimiento de la mis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341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estrategi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scribe cómo se lograrán los objetivos generales, esto es, la dirección futura de los productos y mercados de la organización incluyendo los métodos de intervención que ayudarán a la organización a cumplir su misión y a lograr sus objetivos generales de manera factible y eficaz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628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estrategia es “una herramienta multidimensional que abarca la totalidad de las actividades críticas de una organización y le da un sentido de unidad, dirección y propósito” (Hax, A. y Majluf, N. 1996: 20), y, a la vez, facilita los cambios necesarios que su medio ambiente (entorno) induc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91628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BJETIVOS Y METAS:   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QUÉ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ACTORES ESTRATEGICOS: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ÓM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terminar los FACTORES ESTRATEGICOS DE ÉXITO, permitirá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umplir con objetivos y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Transformar debilidades en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udir amenazas y 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canzar el éxito de las unidades y de la Institución en su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umentar el posicionamient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mplementación de los factores estratégic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equip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En qué plaz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resistencias visualiza?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Cómo las super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dentifique los indicadores (trazadores) que permitirán evaluar el cumplimiento de la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899080" y="171360"/>
            <a:ext cx="618912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É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a metodología que permite tomar decisiones para un período definido respecto de la relación que debe tener la organización con el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 mismo tiempo, es un tipo particular de comunicación que en definitiva es el principal componente de una organización. (Cultura Postulada) </a:t>
            </a:r>
            <a:r>
              <a:rPr b="0" i="1" lang="es-ES_tradnl" sz="2400" spc="-1" strike="noStrike">
                <a:solidFill>
                  <a:srgbClr val="333399"/>
                </a:solidFill>
                <a:latin typeface="Trebuchet MS"/>
              </a:rPr>
              <a:t>“el cuento que la organización se cuenta de si misma y le cuenta a otros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79880" y="39672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 poderoso instrumento de gestión institucional si es acogido por los directivos en su trabajo diari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 lo contrario, pierde todo su valor y es visto como un gasto de tiempo y de recursos que podrían haberse destinado a otros fines. ¿Por qué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44960" y="46980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197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onsiste en un patrón de decisiones coherente, unificador e integrado, que determina y revela el propósito de la organización en términos de objetivos a largo plazo, programas de acción y prioridades para la asignación de recurs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FASES DE LA 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14018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y escenari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interno de la organización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ición de objetivos y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dentificación e implementación de factore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12589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la imagen del futuro de la institu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el sueño generado por sus líderes o por un proceso participativ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Es el “gran sueño” que responde a la pregunta ¿Qué deseamos ser?  En una perspectiva de largo plazo. La visión tiene un sentido de dirección y debe generar compromis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realidad la construimos desde las expectativas del futuro deseado y soñ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organizaciones se desarrollan y construyen desde la VISIÓN DE FUTUR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Una visión potente es una que además pueda iluminar a otros, que les dé también valor a ellos. Una visión actúa de imán, atrae, desafía y une a personas.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3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28800" y="2421000"/>
          <a:ext cx="5535720" cy="33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21000"/>
                    <a:ext cx="55357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28T17:57:47Z</dcterms:modified>
  <cp:revision>211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74213227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PT y otros</vt:lpwstr>
  </property>
  <property fmtid="{D5CDD505-2E9C-101B-9397-08002B2CF9AE}" pid="6" name="_PreviousAdHocReviewCycleID">
    <vt:r8>-1584043124</vt:r8>
  </property>
</Properties>
</file>