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D13A3C-BC49-4255-9772-E96E3977D0D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6FA813-47D9-45DE-95E1-65533A70104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84320" y="8589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2480" y="5452560"/>
            <a:ext cx="520884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8C9A-E16A-4A3F-96B9-BE4371B7C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CCB4-BD81-4407-832F-4B93060E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B017-52A3-4DA9-9DA0-1112210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417E-943D-41B6-A40F-F11CB312F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1253-B60E-4595-8FBC-66D424C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392B-28FA-4343-A7BF-B1F138E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31EC-8CBA-4159-8721-F932990A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B1FA-53BC-4FC6-9A6A-97D19551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7CF9-6536-44E7-AE49-AD273ABB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5DEF-9BA2-4D8E-8477-B8B6D6D5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F603-8CD3-4A99-9E7C-38F6D46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2071-5D24-4580-9B73-8B1C650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A97-B58C-4938-81EA-E9E74571CD14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gos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 y 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Gest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est Psicológicos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ivel Intelectual: Test Multifactorial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lógicamente estructurados.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proyectivos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1885-BDD0-4356-9D45-77A01E3DC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A486-A81B-4572-A142-B8A879C2C164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9640" y="171360"/>
            <a:ext cx="4897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58880" y="15573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68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1297080"/>
            <a:ext cx="8569080" cy="5445000"/>
            <a:chOff x="324000" y="1297080"/>
            <a:chExt cx="8569080" cy="5445000"/>
          </a:xfrm>
        </p:grpSpPr>
        <p:sp>
          <p:nvSpPr>
            <p:cNvPr id="58" name="Puzzle4"/>
            <p:cNvSpPr/>
            <p:nvPr/>
          </p:nvSpPr>
          <p:spPr>
            <a:xfrm>
              <a:off x="5292720" y="4681440"/>
              <a:ext cx="1700280" cy="206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S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24000" y="1297080"/>
              <a:ext cx="1042920" cy="3671640"/>
              <a:chOff x="324000" y="1297080"/>
              <a:chExt cx="1042920" cy="367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4000" y="1297080"/>
                <a:ext cx="10429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1297080"/>
                <a:ext cx="10429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619280" y="1297080"/>
              <a:ext cx="973080" cy="3671640"/>
              <a:chOff x="1619280" y="1297080"/>
              <a:chExt cx="973080" cy="3671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19280" y="1297080"/>
                <a:ext cx="973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bjetivos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9280" y="1297080"/>
                <a:ext cx="97308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35640" y="1297080"/>
              <a:ext cx="1581120" cy="3671640"/>
              <a:chOff x="5435640" y="1297080"/>
              <a:chExt cx="1581120" cy="3671640"/>
            </a:xfrm>
          </p:grpSpPr>
          <p:sp>
            <p:nvSpPr>
              <p:cNvPr id="66" name=""/>
              <p:cNvSpPr/>
              <p:nvPr/>
            </p:nvSpPr>
            <p:spPr>
              <a:xfrm>
                <a:off x="5435640" y="1297080"/>
                <a:ext cx="15811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rabajo en equi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nfli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l. Interperson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l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iderazg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5640" y="1297080"/>
                <a:ext cx="15811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Procesos sicológico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y sicosoci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771640" y="1297080"/>
              <a:ext cx="2448000" cy="288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771640" y="1585800"/>
              <a:ext cx="1225440" cy="3382920"/>
              <a:chOff x="2771640" y="1585800"/>
              <a:chExt cx="1225440" cy="338292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1585800"/>
                <a:ext cx="122544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iramid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atri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Tare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1585800"/>
                <a:ext cx="122544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924360" y="1585800"/>
              <a:ext cx="1296720" cy="3382920"/>
              <a:chOff x="3924360" y="1585800"/>
              <a:chExt cx="1296720" cy="33829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360" y="1585800"/>
                <a:ext cx="129672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Selección</a:t>
                </a:r>
                <a:r>
                  <a:rPr b="0" lang="es-CL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apaci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Desem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munera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centiv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 Carre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Pot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Desvinc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24360" y="1585800"/>
                <a:ext cx="129672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Siste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36000" y="1297080"/>
              <a:ext cx="1657080" cy="3671640"/>
              <a:chOff x="7236000" y="1297080"/>
              <a:chExt cx="1657080" cy="36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7236000" y="1297080"/>
                <a:ext cx="1657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rganiz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rup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divid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6000" y="1297080"/>
                <a:ext cx="1657080" cy="252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esult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6000" y="1541520"/>
                <a:ext cx="7934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R.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9440" y="1541520"/>
                <a:ext cx="8636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fect. Or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780000" y="1944720"/>
              <a:ext cx="315720" cy="3024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453708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1440" y="4537080"/>
              <a:ext cx="935280" cy="504720"/>
            </a:xfrm>
            <a:custGeom>
              <a:avLst/>
              <a:gdLst>
                <a:gd name="textAreaLeft" fmla="*/ 146160 w 935280"/>
                <a:gd name="textAreaRight" fmla="*/ 818640 w 9352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0544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72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8360" y="5329080"/>
              <a:ext cx="1582920" cy="1081080"/>
            </a:xfrm>
            <a:prstGeom prst="wedgeRectCallout">
              <a:avLst>
                <a:gd name="adj1" fmla="val -43518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1"/>
            <p:cNvSpPr/>
            <p:nvPr/>
          </p:nvSpPr>
          <p:spPr>
            <a:xfrm>
              <a:off x="2700360" y="5041800"/>
              <a:ext cx="2158920" cy="165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02CC-2503-462D-A8AE-DF20FA49FF46}" type="slidenum">
              <a:t>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istema de Provisión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elección de Personal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6FEB-7FFD-46B4-BE19-92E8E61B20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guntas de discusión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Deberían las empresas realizar tests psicológicos o deberían centrarse sólo en habilidades específicas (conocimiento técnico) respecto al cargo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Para qué tipo de trabajo es justificado aplicarlos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F423-BE17-47A0-B73B-7974358A09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27520" y="404640"/>
            <a:ext cx="4740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elección Eficaz es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buClr>
                <a:srgbClr val="333399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764B-84D7-427D-A47F-0B0CAF47EAE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338120"/>
            <a:ext cx="396216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24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9884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8176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88000" y="2262240"/>
            <a:ext cx="2098800" cy="3971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76372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.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0734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9920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62240"/>
            <a:ext cx="8229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62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2576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5680" y="162576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240192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64176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08176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145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398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AB4A-7A41-4D33-9CC8-F95166598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lasificación de Test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7835-459F-4A25-A250-143BE0B6E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11T15:46:27Z</dcterms:modified>
  <cp:revision>262</cp:revision>
  <dc:subject/>
  <dc:title>Título </dc:title>
</cp:coreProperties>
</file>