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image2.png" ContentType="image/png"/>
  <Override PartName="/ppt/media/DRUMROLL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media/TYPE.WAV" ContentType="audio/x-wav"/>
  <Override PartName="/ppt/media/GUNSHOT.WAV" ContentType="audio/x-wav"/>
  <Override PartName="/ppt/media/WHOOSH.WAV" ContentType="audio/x-wav"/>
  <Override PartName="/ppt/media/DRIVEB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6D0-290C-4110-AABD-30006058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63F-7CC7-4BCD-9855-1A3A57C6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595-2A47-4ADE-B1BD-200AEE39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171-AC0D-449D-954A-37F585EC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F0F-F268-4B8C-BE36-91BCB8B3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3F9-8E7B-4963-8B0E-77459EA7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11B-63B5-42BA-9168-156D0DA7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DB7-403F-46B8-A0EF-AE44EB06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4B0-49A2-4EEB-9FE9-FB6027A8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FF3-D9B6-492F-B9D0-C198A3DB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BDD-EE4D-4AF8-98F6-B2676C1B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A07-0D55-4690-89F2-1286E320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Unit-Medium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D7C4-0499-4FD3-A922-5C0AC62F6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311560"/>
            <a:ext cx="7772400" cy="1404720"/>
          </a:xfrm>
          <a:prstGeom prst="rect">
            <a:avLst/>
          </a:prstGeom>
          <a:blipFill rotWithShape="0">
            <a:blip r:embed="rId1">
              <a:alphaModFix amt="8000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IDERAZGO SITUACIONAL</a:t>
            </a:r>
            <a:endParaRPr b="0" lang="en-US" sz="32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Octubre 2008</a:t>
            </a: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Diagnosti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4130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Nivel 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para la tarea o meta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transferibles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Motivación 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nfianz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55640" y="1341360"/>
          <a:ext cx="7543800" cy="4611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 rot="19528200">
            <a:off x="3632400" y="45806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643400">
            <a:off x="2794320" y="322380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5480" y="2567160"/>
            <a:ext cx="7458120" cy="259704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1080" y="228456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Niveles de Madurez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Colaboradores y Tareas / Meta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8544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os cuatro niveles </a:t>
            </a:r>
            <a:br>
              <a:rPr sz="3400"/>
            </a:b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1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ntusiasta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2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 desilusionad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3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oderada a alta competencia y compromiso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variabl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insegur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4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lta competencia y alto compromiso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utónom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1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Normas que definan qué es un trabajo bien hech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sobre la tarea y la organización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2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0240" y="13716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spectiv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troalimentación frecuente sobre los resulta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ogio ante el progreso manifiest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ntir que los errores son comprendi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3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consejero o asesor accesibl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Oportunidades para expresar las preocupac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4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9440" y="1557000"/>
            <a:ext cx="80629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versidad y desafí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líder que sea un consejero y colega más que un jef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 sus contribuciones. 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utonomía y autor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fianz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440" y="485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3399"/>
                </a:solidFill>
                <a:latin typeface="Trebuchet MS"/>
              </a:rPr>
              <a:t>Liderazgo para el cambi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Las organizaciones no pueden esperar ser diferentes mientras continúen haciendo lo mismo una y otra vez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es una oportunidad de crecimiento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Para iniciar el cambio los líderes deben definir la visión y los valor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crea la necesidad de desarrollar nuevas habilidad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52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99"/>
                </a:solidFill>
                <a:latin typeface="Trebuchet MS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5744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irectiv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e dice al colaborador qué hacer, cuándo y cómo hacer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los papeles del líder y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upervisa de cerca e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1080" y="33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 apoy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8120" y="1700280"/>
            <a:ext cx="807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 compromete más en la comunicación bilateral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proporciona apoyo y estímu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toma de decis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y facilita la autonomía en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32080" y="414360"/>
            <a:ext cx="738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Los Cuatro Est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98080" y="1219320"/>
            <a:ext cx="5542200" cy="5081040"/>
            <a:chOff x="2098080" y="1219320"/>
            <a:chExt cx="5542200" cy="5081040"/>
          </a:xfrm>
        </p:grpSpPr>
        <p:sp>
          <p:nvSpPr>
            <p:cNvPr id="140" name=""/>
            <p:cNvSpPr/>
            <p:nvPr/>
          </p:nvSpPr>
          <p:spPr>
            <a:xfrm flipV="1">
              <a:off x="2486160" y="1620720"/>
              <a:ext cx="0" cy="429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440" y="3720960"/>
              <a:ext cx="2179440" cy="21765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5800" y="1584360"/>
              <a:ext cx="2170080" cy="2122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720" y="1584360"/>
              <a:ext cx="2222640" cy="21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1720" y="3733920"/>
              <a:ext cx="2210040" cy="2176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0560" y="6165720"/>
              <a:ext cx="402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55800" y="1590840"/>
              <a:ext cx="4397400" cy="432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8080" y="5983200"/>
              <a:ext cx="722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Baj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60600" y="598320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5943600"/>
              <a:ext cx="25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 DIREC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0040" y="121932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1600200"/>
              <a:ext cx="0" cy="434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86040" y="3708360"/>
              <a:ext cx="4376880" cy="2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8880" y="5038560"/>
              <a:ext cx="16156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0840" y="1609560"/>
              <a:ext cx="16236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1619280"/>
              <a:ext cx="17164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760" y="5038560"/>
              <a:ext cx="17668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1916280"/>
              <a:ext cx="219060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0" y="120"/>
                  </a:moveTo>
                  <a:lnTo>
                    <a:pt x="25" y="121"/>
                  </a:lnTo>
                  <a:lnTo>
                    <a:pt x="41" y="124"/>
                  </a:lnTo>
                  <a:lnTo>
                    <a:pt x="52" y="125"/>
                  </a:lnTo>
                  <a:lnTo>
                    <a:pt x="63" y="128"/>
                  </a:lnTo>
                  <a:lnTo>
                    <a:pt x="71" y="131"/>
                  </a:lnTo>
                  <a:lnTo>
                    <a:pt x="82" y="135"/>
                  </a:lnTo>
                  <a:lnTo>
                    <a:pt x="92" y="140"/>
                  </a:lnTo>
                  <a:lnTo>
                    <a:pt x="103" y="146"/>
                  </a:lnTo>
                  <a:lnTo>
                    <a:pt x="122" y="154"/>
                  </a:lnTo>
                  <a:lnTo>
                    <a:pt x="141" y="166"/>
                  </a:lnTo>
                  <a:lnTo>
                    <a:pt x="159" y="177"/>
                  </a:lnTo>
                  <a:lnTo>
                    <a:pt x="180" y="191"/>
                  </a:lnTo>
                  <a:lnTo>
                    <a:pt x="197" y="202"/>
                  </a:lnTo>
                  <a:lnTo>
                    <a:pt x="231" y="230"/>
                  </a:lnTo>
                  <a:lnTo>
                    <a:pt x="265" y="264"/>
                  </a:lnTo>
                  <a:lnTo>
                    <a:pt x="295" y="298"/>
                  </a:lnTo>
                  <a:lnTo>
                    <a:pt x="333" y="350"/>
                  </a:lnTo>
                  <a:lnTo>
                    <a:pt x="361" y="397"/>
                  </a:lnTo>
                  <a:lnTo>
                    <a:pt x="391" y="446"/>
                  </a:lnTo>
                  <a:lnTo>
                    <a:pt x="409" y="493"/>
                  </a:lnTo>
                  <a:lnTo>
                    <a:pt x="425" y="538"/>
                  </a:lnTo>
                  <a:lnTo>
                    <a:pt x="447" y="590"/>
                  </a:lnTo>
                  <a:lnTo>
                    <a:pt x="463" y="640"/>
                  </a:lnTo>
                  <a:lnTo>
                    <a:pt x="483" y="718"/>
                  </a:lnTo>
                  <a:lnTo>
                    <a:pt x="500" y="790"/>
                  </a:lnTo>
                  <a:lnTo>
                    <a:pt x="511" y="860"/>
                  </a:lnTo>
                  <a:lnTo>
                    <a:pt x="524" y="946"/>
                  </a:lnTo>
                  <a:lnTo>
                    <a:pt x="532" y="1004"/>
                  </a:lnTo>
                  <a:lnTo>
                    <a:pt x="542" y="1072"/>
                  </a:lnTo>
                  <a:lnTo>
                    <a:pt x="551" y="1117"/>
                  </a:lnTo>
                  <a:lnTo>
                    <a:pt x="556" y="1158"/>
                  </a:lnTo>
                  <a:lnTo>
                    <a:pt x="567" y="1210"/>
                  </a:lnTo>
                  <a:lnTo>
                    <a:pt x="581" y="1262"/>
                  </a:lnTo>
                  <a:lnTo>
                    <a:pt x="591" y="1304"/>
                  </a:lnTo>
                  <a:lnTo>
                    <a:pt x="604" y="1354"/>
                  </a:lnTo>
                  <a:lnTo>
                    <a:pt x="618" y="1402"/>
                  </a:lnTo>
                  <a:lnTo>
                    <a:pt x="630" y="1443"/>
                  </a:lnTo>
                  <a:lnTo>
                    <a:pt x="648" y="1480"/>
                  </a:lnTo>
                  <a:lnTo>
                    <a:pt x="661" y="1510"/>
                  </a:lnTo>
                  <a:lnTo>
                    <a:pt x="675" y="1541"/>
                  </a:lnTo>
                  <a:lnTo>
                    <a:pt x="696" y="1574"/>
                  </a:lnTo>
                  <a:lnTo>
                    <a:pt x="718" y="1612"/>
                  </a:lnTo>
                  <a:lnTo>
                    <a:pt x="743" y="1647"/>
                  </a:lnTo>
                  <a:lnTo>
                    <a:pt x="776" y="1691"/>
                  </a:lnTo>
                  <a:lnTo>
                    <a:pt x="809" y="1728"/>
                  </a:lnTo>
                  <a:lnTo>
                    <a:pt x="844" y="1763"/>
                  </a:lnTo>
                  <a:lnTo>
                    <a:pt x="883" y="1793"/>
                  </a:lnTo>
                  <a:lnTo>
                    <a:pt x="912" y="1812"/>
                  </a:lnTo>
                  <a:lnTo>
                    <a:pt x="935" y="1826"/>
                  </a:lnTo>
                  <a:lnTo>
                    <a:pt x="959" y="1838"/>
                  </a:lnTo>
                  <a:lnTo>
                    <a:pt x="988" y="1853"/>
                  </a:lnTo>
                  <a:lnTo>
                    <a:pt x="1021" y="1868"/>
                  </a:lnTo>
                  <a:lnTo>
                    <a:pt x="1056" y="1882"/>
                  </a:lnTo>
                  <a:lnTo>
                    <a:pt x="1094" y="1898"/>
                  </a:lnTo>
                  <a:lnTo>
                    <a:pt x="1129" y="1908"/>
                  </a:lnTo>
                  <a:lnTo>
                    <a:pt x="1161" y="1918"/>
                  </a:lnTo>
                  <a:lnTo>
                    <a:pt x="1193" y="1927"/>
                  </a:lnTo>
                  <a:lnTo>
                    <a:pt x="1228" y="1936"/>
                  </a:lnTo>
                  <a:lnTo>
                    <a:pt x="1260" y="1944"/>
                  </a:lnTo>
                  <a:lnTo>
                    <a:pt x="1304" y="1951"/>
                  </a:lnTo>
                  <a:lnTo>
                    <a:pt x="1347" y="1958"/>
                  </a:lnTo>
                  <a:lnTo>
                    <a:pt x="1347" y="1829"/>
                  </a:lnTo>
                  <a:lnTo>
                    <a:pt x="1315" y="1819"/>
                  </a:lnTo>
                  <a:lnTo>
                    <a:pt x="1270" y="1811"/>
                  </a:lnTo>
                  <a:lnTo>
                    <a:pt x="1237" y="1804"/>
                  </a:lnTo>
                  <a:lnTo>
                    <a:pt x="1199" y="1793"/>
                  </a:lnTo>
                  <a:lnTo>
                    <a:pt x="1171" y="1785"/>
                  </a:lnTo>
                  <a:lnTo>
                    <a:pt x="1149" y="1775"/>
                  </a:lnTo>
                  <a:lnTo>
                    <a:pt x="1122" y="1767"/>
                  </a:lnTo>
                  <a:lnTo>
                    <a:pt x="1090" y="1758"/>
                  </a:lnTo>
                  <a:lnTo>
                    <a:pt x="1063" y="1747"/>
                  </a:lnTo>
                  <a:lnTo>
                    <a:pt x="1038" y="1736"/>
                  </a:lnTo>
                  <a:lnTo>
                    <a:pt x="1019" y="1724"/>
                  </a:lnTo>
                  <a:lnTo>
                    <a:pt x="992" y="1709"/>
                  </a:lnTo>
                  <a:lnTo>
                    <a:pt x="957" y="1685"/>
                  </a:lnTo>
                  <a:lnTo>
                    <a:pt x="931" y="1669"/>
                  </a:lnTo>
                  <a:lnTo>
                    <a:pt x="907" y="1649"/>
                  </a:lnTo>
                  <a:lnTo>
                    <a:pt x="880" y="1623"/>
                  </a:lnTo>
                  <a:lnTo>
                    <a:pt x="851" y="1587"/>
                  </a:lnTo>
                  <a:lnTo>
                    <a:pt x="826" y="1551"/>
                  </a:lnTo>
                  <a:lnTo>
                    <a:pt x="795" y="1500"/>
                  </a:lnTo>
                  <a:lnTo>
                    <a:pt x="767" y="1450"/>
                  </a:lnTo>
                  <a:lnTo>
                    <a:pt x="745" y="1401"/>
                  </a:lnTo>
                  <a:lnTo>
                    <a:pt x="732" y="1365"/>
                  </a:lnTo>
                  <a:lnTo>
                    <a:pt x="720" y="1322"/>
                  </a:lnTo>
                  <a:lnTo>
                    <a:pt x="710" y="1290"/>
                  </a:lnTo>
                  <a:lnTo>
                    <a:pt x="699" y="1233"/>
                  </a:lnTo>
                  <a:lnTo>
                    <a:pt x="687" y="1176"/>
                  </a:lnTo>
                  <a:lnTo>
                    <a:pt x="678" y="1134"/>
                  </a:lnTo>
                  <a:lnTo>
                    <a:pt x="668" y="1075"/>
                  </a:lnTo>
                  <a:lnTo>
                    <a:pt x="660" y="1016"/>
                  </a:lnTo>
                  <a:lnTo>
                    <a:pt x="650" y="951"/>
                  </a:lnTo>
                  <a:lnTo>
                    <a:pt x="641" y="890"/>
                  </a:lnTo>
                  <a:lnTo>
                    <a:pt x="627" y="809"/>
                  </a:lnTo>
                  <a:lnTo>
                    <a:pt x="619" y="758"/>
                  </a:lnTo>
                  <a:lnTo>
                    <a:pt x="609" y="704"/>
                  </a:lnTo>
                  <a:lnTo>
                    <a:pt x="598" y="657"/>
                  </a:lnTo>
                  <a:lnTo>
                    <a:pt x="584" y="601"/>
                  </a:lnTo>
                  <a:lnTo>
                    <a:pt x="570" y="565"/>
                  </a:lnTo>
                  <a:lnTo>
                    <a:pt x="556" y="525"/>
                  </a:lnTo>
                  <a:lnTo>
                    <a:pt x="532" y="471"/>
                  </a:lnTo>
                  <a:lnTo>
                    <a:pt x="518" y="440"/>
                  </a:lnTo>
                  <a:lnTo>
                    <a:pt x="502" y="397"/>
                  </a:lnTo>
                  <a:lnTo>
                    <a:pt x="468" y="339"/>
                  </a:lnTo>
                  <a:lnTo>
                    <a:pt x="443" y="294"/>
                  </a:lnTo>
                  <a:lnTo>
                    <a:pt x="423" y="266"/>
                  </a:lnTo>
                  <a:lnTo>
                    <a:pt x="397" y="236"/>
                  </a:lnTo>
                  <a:lnTo>
                    <a:pt x="352" y="184"/>
                  </a:lnTo>
                  <a:lnTo>
                    <a:pt x="323" y="151"/>
                  </a:lnTo>
                  <a:lnTo>
                    <a:pt x="295" y="127"/>
                  </a:lnTo>
                  <a:lnTo>
                    <a:pt x="257" y="97"/>
                  </a:lnTo>
                  <a:lnTo>
                    <a:pt x="219" y="74"/>
                  </a:lnTo>
                  <a:lnTo>
                    <a:pt x="169" y="49"/>
                  </a:lnTo>
                  <a:lnTo>
                    <a:pt x="154" y="41"/>
                  </a:lnTo>
                  <a:lnTo>
                    <a:pt x="136" y="33"/>
                  </a:lnTo>
                  <a:lnTo>
                    <a:pt x="124" y="29"/>
                  </a:lnTo>
                  <a:lnTo>
                    <a:pt x="110" y="25"/>
                  </a:lnTo>
                  <a:lnTo>
                    <a:pt x="98" y="19"/>
                  </a:lnTo>
                  <a:lnTo>
                    <a:pt x="87" y="15"/>
                  </a:lnTo>
                  <a:lnTo>
                    <a:pt x="74" y="14"/>
                  </a:lnTo>
                  <a:lnTo>
                    <a:pt x="53" y="8"/>
                  </a:lnTo>
                  <a:lnTo>
                    <a:pt x="36" y="5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1916280"/>
              <a:ext cx="213336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1347" y="120"/>
                  </a:moveTo>
                  <a:lnTo>
                    <a:pt x="1320" y="121"/>
                  </a:lnTo>
                  <a:lnTo>
                    <a:pt x="1306" y="124"/>
                  </a:lnTo>
                  <a:lnTo>
                    <a:pt x="1295" y="125"/>
                  </a:lnTo>
                  <a:lnTo>
                    <a:pt x="1284" y="128"/>
                  </a:lnTo>
                  <a:lnTo>
                    <a:pt x="1276" y="131"/>
                  </a:lnTo>
                  <a:lnTo>
                    <a:pt x="1264" y="135"/>
                  </a:lnTo>
                  <a:lnTo>
                    <a:pt x="1255" y="140"/>
                  </a:lnTo>
                  <a:lnTo>
                    <a:pt x="1243" y="146"/>
                  </a:lnTo>
                  <a:lnTo>
                    <a:pt x="1225" y="154"/>
                  </a:lnTo>
                  <a:lnTo>
                    <a:pt x="1206" y="166"/>
                  </a:lnTo>
                  <a:lnTo>
                    <a:pt x="1188" y="177"/>
                  </a:lnTo>
                  <a:lnTo>
                    <a:pt x="1167" y="191"/>
                  </a:lnTo>
                  <a:lnTo>
                    <a:pt x="1150" y="202"/>
                  </a:lnTo>
                  <a:lnTo>
                    <a:pt x="1115" y="230"/>
                  </a:lnTo>
                  <a:lnTo>
                    <a:pt x="1081" y="264"/>
                  </a:lnTo>
                  <a:lnTo>
                    <a:pt x="1052" y="298"/>
                  </a:lnTo>
                  <a:lnTo>
                    <a:pt x="1013" y="350"/>
                  </a:lnTo>
                  <a:lnTo>
                    <a:pt x="988" y="397"/>
                  </a:lnTo>
                  <a:lnTo>
                    <a:pt x="955" y="446"/>
                  </a:lnTo>
                  <a:lnTo>
                    <a:pt x="937" y="493"/>
                  </a:lnTo>
                  <a:lnTo>
                    <a:pt x="922" y="538"/>
                  </a:lnTo>
                  <a:lnTo>
                    <a:pt x="899" y="590"/>
                  </a:lnTo>
                  <a:lnTo>
                    <a:pt x="885" y="640"/>
                  </a:lnTo>
                  <a:lnTo>
                    <a:pt x="863" y="718"/>
                  </a:lnTo>
                  <a:lnTo>
                    <a:pt x="848" y="790"/>
                  </a:lnTo>
                  <a:lnTo>
                    <a:pt x="834" y="860"/>
                  </a:lnTo>
                  <a:lnTo>
                    <a:pt x="822" y="946"/>
                  </a:lnTo>
                  <a:lnTo>
                    <a:pt x="814" y="1004"/>
                  </a:lnTo>
                  <a:lnTo>
                    <a:pt x="804" y="1072"/>
                  </a:lnTo>
                  <a:lnTo>
                    <a:pt x="796" y="1117"/>
                  </a:lnTo>
                  <a:lnTo>
                    <a:pt x="790" y="1158"/>
                  </a:lnTo>
                  <a:lnTo>
                    <a:pt x="781" y="1210"/>
                  </a:lnTo>
                  <a:lnTo>
                    <a:pt x="767" y="1262"/>
                  </a:lnTo>
                  <a:lnTo>
                    <a:pt x="755" y="1304"/>
                  </a:lnTo>
                  <a:lnTo>
                    <a:pt x="743" y="1354"/>
                  </a:lnTo>
                  <a:lnTo>
                    <a:pt x="729" y="1402"/>
                  </a:lnTo>
                  <a:lnTo>
                    <a:pt x="716" y="1443"/>
                  </a:lnTo>
                  <a:lnTo>
                    <a:pt x="699" y="1480"/>
                  </a:lnTo>
                  <a:lnTo>
                    <a:pt x="685" y="1510"/>
                  </a:lnTo>
                  <a:lnTo>
                    <a:pt x="671" y="1541"/>
                  </a:lnTo>
                  <a:lnTo>
                    <a:pt x="650" y="1574"/>
                  </a:lnTo>
                  <a:lnTo>
                    <a:pt x="629" y="1612"/>
                  </a:lnTo>
                  <a:lnTo>
                    <a:pt x="603" y="1647"/>
                  </a:lnTo>
                  <a:lnTo>
                    <a:pt x="572" y="1691"/>
                  </a:lnTo>
                  <a:lnTo>
                    <a:pt x="539" y="1728"/>
                  </a:lnTo>
                  <a:lnTo>
                    <a:pt x="502" y="1763"/>
                  </a:lnTo>
                  <a:lnTo>
                    <a:pt x="463" y="1793"/>
                  </a:lnTo>
                  <a:lnTo>
                    <a:pt x="434" y="1812"/>
                  </a:lnTo>
                  <a:lnTo>
                    <a:pt x="413" y="1826"/>
                  </a:lnTo>
                  <a:lnTo>
                    <a:pt x="387" y="1838"/>
                  </a:lnTo>
                  <a:lnTo>
                    <a:pt x="359" y="1853"/>
                  </a:lnTo>
                  <a:lnTo>
                    <a:pt x="326" y="1868"/>
                  </a:lnTo>
                  <a:lnTo>
                    <a:pt x="291" y="1882"/>
                  </a:lnTo>
                  <a:lnTo>
                    <a:pt x="252" y="1898"/>
                  </a:lnTo>
                  <a:lnTo>
                    <a:pt x="218" y="1908"/>
                  </a:lnTo>
                  <a:lnTo>
                    <a:pt x="186" y="1918"/>
                  </a:lnTo>
                  <a:lnTo>
                    <a:pt x="154" y="1927"/>
                  </a:lnTo>
                  <a:lnTo>
                    <a:pt x="119" y="1936"/>
                  </a:lnTo>
                  <a:lnTo>
                    <a:pt x="87" y="1944"/>
                  </a:lnTo>
                  <a:lnTo>
                    <a:pt x="43" y="1951"/>
                  </a:lnTo>
                  <a:lnTo>
                    <a:pt x="0" y="1958"/>
                  </a:lnTo>
                  <a:lnTo>
                    <a:pt x="0" y="1829"/>
                  </a:lnTo>
                  <a:lnTo>
                    <a:pt x="34" y="1819"/>
                  </a:lnTo>
                  <a:lnTo>
                    <a:pt x="77" y="1811"/>
                  </a:lnTo>
                  <a:lnTo>
                    <a:pt x="109" y="1804"/>
                  </a:lnTo>
                  <a:lnTo>
                    <a:pt x="148" y="1793"/>
                  </a:lnTo>
                  <a:lnTo>
                    <a:pt x="176" y="1785"/>
                  </a:lnTo>
                  <a:lnTo>
                    <a:pt x="200" y="1775"/>
                  </a:lnTo>
                  <a:lnTo>
                    <a:pt x="227" y="1767"/>
                  </a:lnTo>
                  <a:lnTo>
                    <a:pt x="256" y="1758"/>
                  </a:lnTo>
                  <a:lnTo>
                    <a:pt x="283" y="1747"/>
                  </a:lnTo>
                  <a:lnTo>
                    <a:pt x="309" y="1736"/>
                  </a:lnTo>
                  <a:lnTo>
                    <a:pt x="329" y="1724"/>
                  </a:lnTo>
                  <a:lnTo>
                    <a:pt x="355" y="1709"/>
                  </a:lnTo>
                  <a:lnTo>
                    <a:pt x="390" y="1685"/>
                  </a:lnTo>
                  <a:lnTo>
                    <a:pt x="417" y="1669"/>
                  </a:lnTo>
                  <a:lnTo>
                    <a:pt x="441" y="1649"/>
                  </a:lnTo>
                  <a:lnTo>
                    <a:pt x="467" y="1623"/>
                  </a:lnTo>
                  <a:lnTo>
                    <a:pt x="497" y="1587"/>
                  </a:lnTo>
                  <a:lnTo>
                    <a:pt x="522" y="1551"/>
                  </a:lnTo>
                  <a:lnTo>
                    <a:pt x="553" y="1500"/>
                  </a:lnTo>
                  <a:lnTo>
                    <a:pt x="579" y="1450"/>
                  </a:lnTo>
                  <a:lnTo>
                    <a:pt x="601" y="1401"/>
                  </a:lnTo>
                  <a:lnTo>
                    <a:pt x="615" y="1365"/>
                  </a:lnTo>
                  <a:lnTo>
                    <a:pt x="627" y="1322"/>
                  </a:lnTo>
                  <a:lnTo>
                    <a:pt x="635" y="1290"/>
                  </a:lnTo>
                  <a:lnTo>
                    <a:pt x="648" y="1233"/>
                  </a:lnTo>
                  <a:lnTo>
                    <a:pt x="660" y="1176"/>
                  </a:lnTo>
                  <a:lnTo>
                    <a:pt x="669" y="1134"/>
                  </a:lnTo>
                  <a:lnTo>
                    <a:pt x="680" y="1075"/>
                  </a:lnTo>
                  <a:lnTo>
                    <a:pt x="688" y="1016"/>
                  </a:lnTo>
                  <a:lnTo>
                    <a:pt x="697" y="951"/>
                  </a:lnTo>
                  <a:lnTo>
                    <a:pt x="706" y="890"/>
                  </a:lnTo>
                  <a:lnTo>
                    <a:pt x="719" y="809"/>
                  </a:lnTo>
                  <a:lnTo>
                    <a:pt x="727" y="758"/>
                  </a:lnTo>
                  <a:lnTo>
                    <a:pt x="739" y="704"/>
                  </a:lnTo>
                  <a:lnTo>
                    <a:pt x="750" y="657"/>
                  </a:lnTo>
                  <a:lnTo>
                    <a:pt x="762" y="601"/>
                  </a:lnTo>
                  <a:lnTo>
                    <a:pt x="776" y="565"/>
                  </a:lnTo>
                  <a:lnTo>
                    <a:pt x="790" y="525"/>
                  </a:lnTo>
                  <a:lnTo>
                    <a:pt x="814" y="471"/>
                  </a:lnTo>
                  <a:lnTo>
                    <a:pt x="828" y="440"/>
                  </a:lnTo>
                  <a:lnTo>
                    <a:pt x="846" y="397"/>
                  </a:lnTo>
                  <a:lnTo>
                    <a:pt x="878" y="339"/>
                  </a:lnTo>
                  <a:lnTo>
                    <a:pt x="904" y="294"/>
                  </a:lnTo>
                  <a:lnTo>
                    <a:pt x="923" y="266"/>
                  </a:lnTo>
                  <a:lnTo>
                    <a:pt x="950" y="236"/>
                  </a:lnTo>
                  <a:lnTo>
                    <a:pt x="995" y="184"/>
                  </a:lnTo>
                  <a:lnTo>
                    <a:pt x="1024" y="151"/>
                  </a:lnTo>
                  <a:lnTo>
                    <a:pt x="1052" y="127"/>
                  </a:lnTo>
                  <a:lnTo>
                    <a:pt x="1091" y="97"/>
                  </a:lnTo>
                  <a:lnTo>
                    <a:pt x="1127" y="74"/>
                  </a:lnTo>
                  <a:lnTo>
                    <a:pt x="1178" y="49"/>
                  </a:lnTo>
                  <a:lnTo>
                    <a:pt x="1193" y="41"/>
                  </a:lnTo>
                  <a:lnTo>
                    <a:pt x="1211" y="33"/>
                  </a:lnTo>
                  <a:lnTo>
                    <a:pt x="1224" y="29"/>
                  </a:lnTo>
                  <a:lnTo>
                    <a:pt x="1236" y="25"/>
                  </a:lnTo>
                  <a:lnTo>
                    <a:pt x="1250" y="19"/>
                  </a:lnTo>
                  <a:lnTo>
                    <a:pt x="1260" y="15"/>
                  </a:lnTo>
                  <a:lnTo>
                    <a:pt x="1273" y="14"/>
                  </a:lnTo>
                  <a:lnTo>
                    <a:pt x="1294" y="8"/>
                  </a:lnTo>
                  <a:lnTo>
                    <a:pt x="1309" y="5"/>
                  </a:lnTo>
                  <a:lnTo>
                    <a:pt x="1323" y="3"/>
                  </a:lnTo>
                  <a:lnTo>
                    <a:pt x="1347" y="0"/>
                  </a:lnTo>
                  <a:lnTo>
                    <a:pt x="1347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080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8120" y="4195800"/>
              <a:ext cx="1463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064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3320" y="4195800"/>
              <a:ext cx="14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420560" y="3474720"/>
              <a:ext cx="2503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r>
                <a:rPr b="1" lang="es-ES_tradnl" sz="1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stilo de liderazgo </a:t>
            </a:r>
            <a:r>
              <a:rPr b="1" lang="es-CL" sz="2200" spc="-1" strike="noStrike" u="sng">
                <a:solidFill>
                  <a:srgbClr val="003399"/>
                </a:solidFill>
                <a:uFillTx/>
                <a:latin typeface="Trebuchet MS"/>
              </a:rPr>
              <a:t>DIRIGIR</a:t>
            </a:r>
            <a:r>
              <a:rPr b="1" lang="es-CL" sz="1600" spc="-1" strike="noStrike">
                <a:solidFill>
                  <a:srgbClr val="808080"/>
                </a:solidFill>
                <a:latin typeface="Trebuchet MS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el entusiasm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ca los resultados, objetivos y plaz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planificación de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trices e instrucciones especi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Entren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br>
              <a:rPr sz="2600"/>
            </a:b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 colaborador en la identificación de problemas y en fijar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poyo, seguridad y elog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: brinda al colaborador una oportunidad para discutir preocupaciones  y compartir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de decisiones finales relativas a los planes de acción luego de escuchar las ideas y los sentimient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la razón para tomar un enfoque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Apoy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1424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rabaja con el colaborador en la evaluación de su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7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l 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Deleg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6600" y="154260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mite al colaborador hacers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al colaborador a evaluar su propio 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110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Estilos de toma de decisiones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3" name=""/>
          <p:cNvSpPr/>
          <p:nvPr/>
        </p:nvSpPr>
        <p:spPr>
          <a:xfrm>
            <a:off x="2424240" y="2384280"/>
            <a:ext cx="20700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Ap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ambos decid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7600" y="238428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Ent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24240" y="4365720"/>
            <a:ext cx="2070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Tú dec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57600" y="436572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i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1854360"/>
            <a:ext cx="4292640" cy="4292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854360"/>
            <a:ext cx="0" cy="429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87520" y="3962520"/>
            <a:ext cx="4292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720" y="30456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iderazgo eficaz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7" name=""/>
          <p:cNvSpPr/>
          <p:nvPr/>
        </p:nvSpPr>
        <p:spPr>
          <a:xfrm>
            <a:off x="618480" y="37051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49" name="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50" name="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4280" y="4268880"/>
                <a:ext cx="292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53" name="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81880" y="4268880"/>
                <a:ext cx="288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67360" y="1382760"/>
            <a:ext cx="2549520" cy="3943800"/>
            <a:chOff x="5967360" y="1382760"/>
            <a:chExt cx="2549520" cy="3943800"/>
          </a:xfrm>
        </p:grpSpPr>
        <p:sp>
          <p:nvSpPr>
            <p:cNvPr id="57" name=""/>
            <p:cNvSpPr/>
            <p:nvPr/>
          </p:nvSpPr>
          <p:spPr>
            <a:xfrm>
              <a:off x="7130160" y="1382760"/>
              <a:ext cx="75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23880" y="5040360"/>
              <a:ext cx="9712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IN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60" name="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806880" y="2967120"/>
              <a:ext cx="14896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ACTITU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COMPROMI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SENT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753000" y="2525760"/>
            <a:ext cx="1128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7240" y="6183360"/>
            <a:ext cx="10400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417760" y="2814480"/>
            <a:ext cx="3095640" cy="3302280"/>
            <a:chOff x="2417760" y="2814480"/>
            <a:chExt cx="3095640" cy="3302280"/>
          </a:xfrm>
        </p:grpSpPr>
        <p:sp>
          <p:nvSpPr>
            <p:cNvPr id="79" name=""/>
            <p:cNvSpPr/>
            <p:nvPr/>
          </p:nvSpPr>
          <p:spPr>
            <a:xfrm rot="16200000">
              <a:off x="2844000" y="2916720"/>
              <a:ext cx="2243160" cy="3095640"/>
            </a:xfrm>
            <a:prstGeom prst="triangle">
              <a:avLst>
                <a:gd name="adj" fmla="val 50625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2560" y="2814480"/>
              <a:ext cx="0" cy="33022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9732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8120" y="60199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9280" y="32274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34815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29280" y="373392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18120" y="39877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9280" y="42418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9280" y="44956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29280" y="474984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38640" y="50036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9280" y="52578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8640" y="55119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8640" y="57657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89680" y="4110120"/>
            <a:ext cx="1896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Un líder tiene tres opcione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7720" y="2057400"/>
            <a:ext cx="7640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Utilizar el estilo requerido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excesiva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insuficiente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excesiva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Participación disminuid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autonomía en el desempeñ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insufic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0280" y="43920"/>
            <a:ext cx="9118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18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115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l Proceso de administración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del desempeñ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1000" y="206064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Planific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2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Asesoría día a día utilizando el estilo de liderazgo acordad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3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Evalu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1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nseñe a sus colaboradores el modelo del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iderazgo Situacional II (SLII®)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que las áreas claves de responsabil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a las met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92" name=""/>
          <p:cNvSpPr/>
          <p:nvPr/>
        </p:nvSpPr>
        <p:spPr>
          <a:xfrm>
            <a:off x="3174480" y="342900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5331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4. Evalúe el nivel de desarrollo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99"/>
                </a:solidFill>
                <a:latin typeface="Trebuchet MS"/>
              </a:rPr>
              <a:t>Lo importante como líder no es lo que sucede cuando usted está supervisando; es lo que sucede cuando usted no está presente.</a:t>
            </a:r>
            <a:endParaRPr b="0" lang="en-US" sz="4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Creencias y valor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acerca de las personas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ueden y quieren desarrollarse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a alianz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rosperan mediante la participación y la comunic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4140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Liderazgo</a:t>
            </a:r>
            <a:br>
              <a:rPr sz="3000"/>
            </a:b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 proceso de influenci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s trabajar con los colaboradores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ra alcanzar sus metas personales y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metas de la organiz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Estilo de liderazgo</a:t>
            </a: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2880" y="16286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trón de comportamientos que usted utiliza con sus colaboradores tal como ellos lo percibe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tres habilidades de 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un líder situacional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Diagnosticar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 determinar las necesidades de desarrol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utilizar una variedad de estilos de liderazg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lianza para el desempeño/Acuerdo sobre el estilo de liderazgo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2760" y="269640"/>
            <a:ext cx="778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cuatro funcion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6586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1. Fijar met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2. Retroalimentar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3. Solucionar problem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4. Proporcionar reconocimiento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29T14:46:11Z</dcterms:modified>
  <cp:revision>35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69540482</vt:r8>
  </property>
  <property fmtid="{D5CDD505-2E9C-101B-9397-08002B2CF9AE}" pid="3" name="_AuthorEmail">
    <vt:lpwstr>carolina_m@terra.cl</vt:lpwstr>
  </property>
  <property fmtid="{D5CDD505-2E9C-101B-9397-08002B2CF9AE}" pid="4" name="_AuthorEmailDisplayName">
    <vt:lpwstr>Carolina Muñoz</vt:lpwstr>
  </property>
  <property fmtid="{D5CDD505-2E9C-101B-9397-08002B2CF9AE}" pid="5" name="_EmailSubject">
    <vt:lpwstr>Presentación Liderazgo Situacional</vt:lpwstr>
  </property>
</Properties>
</file>