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4640" y="4694040"/>
            <a:ext cx="539424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1960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2FA3-A06F-4BC5-8C72-D056775E52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1960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4FAD-0EF7-4E1A-B1D6-28AE61AB210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0" y="9383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1160" y="747720"/>
            <a:ext cx="4921200" cy="3691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98200" y="4692600"/>
            <a:ext cx="49467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1E72-348B-4AE7-854A-620C63C6B3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AC98-85CE-4174-B863-B9D504ED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CAAE9-07F3-43D2-B000-97C9C815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918A1-2B42-4DB0-B705-688576BEDE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2F34-7813-4A5D-9FFD-4802AE31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8815-559A-4E11-8A4E-A3D759FE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621CA-1979-4921-901D-47D7182C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736C7-693B-4141-9F7A-A4384C1A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5B3B-B0ED-4931-BF99-B26AD3FD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0C8F-1DF3-4039-8809-316C4B1A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B7C5-724B-47A9-BDA1-C257ED0B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90A89-FD58-46A0-A342-09731E1E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A436-6311-46DC-B0C3-5786DF6DDE41}" type="slidenum">
              <a:rPr b="0" lang="en-US" sz="10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57000"/>
            <a:ext cx="81342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ELEMENTOS DE LA ESTRATEGIA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Trebuchet MS"/>
              </a:rPr>
              <a:t>Agosto 2008</a:t>
            </a:r>
            <a:endParaRPr b="1" lang="en-US" sz="2400" spc="-1" strike="noStrike">
              <a:solidFill>
                <a:srgbClr val="808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Á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Análisis del entorno actual y proyección de escenarios futu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El entorno evoluciona en su complejidad en forma veloz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organización debe contemplar la evolución del entorno para desarrollarse en forma sustentabl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organización genera bienes y/o servicios para satisfacer las expectativas de usuarios que pertenecen a dicho entorn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os usuarios son el nexo entre la organización y la comunida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Análisis del entorno actual y proyección de escenarios futu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No olvide que el entorno le genera mandatos a su institución y que en él están las organizaciones que ejecutan funciones similares a las de su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1483920"/>
            <a:ext cx="7696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rebuchet MS"/>
              </a:rPr>
              <a:t>Proyección de escenarios futuro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Polít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Responsabilidad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Económ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Tecnológ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Camp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Educa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Man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Demográ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Geográfico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Epidemiológico.</a:t>
            </a:r>
            <a:r>
              <a:rPr b="0" lang="es-ES_tradnl" sz="2000" spc="-1" strike="noStrike">
                <a:solidFill>
                  <a:srgbClr val="333399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79880" y="32544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 Misión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Es un planteamiento general acerca del tipo de institución, su propósito principal y sus valor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79880" y="32544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1557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Misión es el propósito más importante por el que trabajan y se esfuerzan los miembros de una Organización, es la razón de ser de la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Misión se inspira en los PRINCIPIOS y VALORES que sustentan el conjunto de convicciones profundas y las grandes políticas que movilizan a todos los actores que forman parte de la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179880" y="46008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1773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Misión debe expresar lo que se pretende alcanzar con los principios establecidos y lo que debemos hacer para lograr el éxito al terminar el camino traza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Finalmente, y sin duda lo más importante, todos los participantes (directivos y prestadores directos) deben identificarse con la Misión, para lo cual será necesario acoger todos los aportes que hagan los implicad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INTERNO DE LA ORGANIZAC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1773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OPORTUNIDAD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Elemento o característica existente en el entorno que puede servir para lograr mayor desarrollo de la Organiza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MENAZ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spectos del entorno que pueden significar peligros para el desarrollo de la Institución, el cumplimiento de su MISIÓN y la mantención de su sustentabilidad en el tiemp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ALISIS INTERNO DE LA ORGANIZAC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Respecto del entorno sólo podemos estar alertas.  Respecto de nosotros, podemos incrementar nuestras fortalezas y capacidades y podemos superar nuestras debilidades y las brechas, para alcanzar el éxit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Conocer las fortalezas y debilidades “es una forma de dejar de preocuparse por el futuro y comenzar a trabajar por crearlo” (Hubert Humphrey).  El principal recurso para alcanzar el éxito somos nosotros mism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os objetiv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finen los logros que se esperan obtener en el período de tiempo establecido en términos cualitativ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Recuerde que los OBJETIVOS DE MAYOR VIABILIDAD son aquellos para los cuales tenemos la confluencia de FORTALEZAS y OPORTUNIDAD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quellos de menor probabilidad de ocurrencia son los objetivos para los cuales tenemos la confluencia de DEBILIDADES y AMENAZA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Finalmente, es más fácil superar debilidades institucionales o personales que transformar las amenazas del entorno en oportunidad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uzzle4"/>
          <p:cNvSpPr/>
          <p:nvPr/>
        </p:nvSpPr>
        <p:spPr>
          <a:xfrm>
            <a:off x="5580000" y="5086440"/>
            <a:ext cx="1224000" cy="1655640"/>
          </a:xfrm>
          <a:prstGeom prst="pi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UnitOT-Regular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341360"/>
            <a:ext cx="104292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Geográ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Tecno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olí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Leg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341360"/>
            <a:ext cx="1042920" cy="6112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nto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1341360"/>
            <a:ext cx="97308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V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Mis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Objetiv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Val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19280" y="1341360"/>
            <a:ext cx="973080" cy="6112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strate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1341360"/>
            <a:ext cx="158112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Trabajo en equi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omuni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onfli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Rel. Interpers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l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Lideraz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341360"/>
            <a:ext cx="1581120" cy="6112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UnitOT-Regular"/>
              </a:rPr>
              <a:t>Procesos sicológic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UnitOT-Regular"/>
              </a:rPr>
              <a:t>y sicoso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1341360"/>
            <a:ext cx="2448000" cy="2890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1630440"/>
            <a:ext cx="1225800" cy="338292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l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irami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Matr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st. Pues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st. T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1630440"/>
            <a:ext cx="1225800" cy="3538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struct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24360" y="1630440"/>
            <a:ext cx="1297080" cy="338292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Selección</a:t>
            </a:r>
            <a:r>
              <a:rPr b="0" lang="es-CL" sz="1400" spc="-1" strike="noStrike">
                <a:solidFill>
                  <a:srgbClr val="ffffff"/>
                </a:solidFill>
                <a:latin typeface="UnitOT-Regular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Capaci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v. Desem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Remunera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Incen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Plan C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Ev. Poten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Desv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1630440"/>
            <a:ext cx="1297080" cy="35388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Sist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6000" y="1341360"/>
            <a:ext cx="1657080" cy="3672000"/>
          </a:xfrm>
          <a:prstGeom prst="rect">
            <a:avLst/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Organiz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Grup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UnitOT-Regular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1341360"/>
            <a:ext cx="1657080" cy="25236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611360"/>
            <a:ext cx="793440" cy="34128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RR.H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29440" y="1611360"/>
            <a:ext cx="863640" cy="341280"/>
          </a:xfrm>
          <a:prstGeom prst="rect">
            <a:avLst/>
          </a:prstGeom>
          <a:solidFill>
            <a:srgbClr val="3333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UnitOT-Regular"/>
              </a:rPr>
              <a:t>Efect. Or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76720" y="549360"/>
            <a:ext cx="5975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UnitOT-Regular"/>
              </a:rPr>
              <a:t>Modelo Organizacional</a:t>
            </a:r>
            <a:endParaRPr b="1" lang="en-US" sz="16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1989000"/>
            <a:ext cx="315720" cy="302436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UnitOT-Regular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4581360"/>
            <a:ext cx="934920" cy="505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1440" y="4581360"/>
            <a:ext cx="935280" cy="50508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5440" y="451008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451008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5373720"/>
            <a:ext cx="1582920" cy="1081080"/>
          </a:xfrm>
          <a:prstGeom prst="wedgeRectCallout">
            <a:avLst>
              <a:gd name="adj1" fmla="val -43782"/>
              <a:gd name="adj2" fmla="val 6747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uzzle1"/>
          <p:cNvSpPr/>
          <p:nvPr/>
        </p:nvSpPr>
        <p:spPr>
          <a:xfrm>
            <a:off x="3060720" y="5373720"/>
            <a:ext cx="1727280" cy="1295280"/>
          </a:xfrm>
          <a:prstGeom prst="pie">
            <a:avLst/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580536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UnitOT-Regular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17560" y="89352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s metas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on resultados y beneficios cuantificables esperados, los cuales deben ser congruentes con los objetiv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Factores estratégicos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Son aspectos que inciden directamente en el éxito o fracaso de la organización y hacia los cuales debe orientarse la acción institucional para garantizar el cumplimiento de la mis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134136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 estrategia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scribe cómo se lograrán los objetivos generales, esto es, la dirección futura de los productos y mercados de la organización incluyendo los métodos de intervención que ayudarán a la organización a cumplir su misión y a lograr sus objetivos generales de manera factible y eficaz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1628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estrategia es “una herramienta multidimensional que abarca la totalidad de las actividades críticas de una organización y le da un sentido de unidad, dirección y propósito” (Hax, A. y Majluf, N. 1996: 20), y, a la vez, facilita los cambios necesarios que su medio ambiente (entorno) induc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1916280"/>
            <a:ext cx="76932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OBJETIVOS Y METAS:     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QUÉ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FACTORES ESTRATEGICOS:  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CÓM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170028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Determinar los FACTORES ESTRATEGICOS DE ÉXITO, permitirá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Cumplir con objetivos y m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Transformar debilidades en fortale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Eludir amenazas y aprovechar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lcanzar el éxito de las unidades y de la Institución en su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umentar el posicionamient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14130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Implementación de los factores estratégicos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Qué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Qué equipo lo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En qué plazo lo h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Qué resistencias visualiza?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¿Cómo las superar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Identifique los indicadores (trazadores) que permitirán evaluar el cumplimiento de la imple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899080" y="171360"/>
            <a:ext cx="618912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É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838080" y="18446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planificación estratégica es una metodología que permite tomar decisiones para un período definido respecto de la relación que debe tener la organización con el entorn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Al mismo tiempo, es un tipo particular de comunicación que en definitiva es el principal componente de una organización. (Cultura Postulada) </a:t>
            </a:r>
            <a:r>
              <a:rPr b="0" i="1" lang="es-ES_tradnl" sz="2400" spc="-1" strike="noStrike">
                <a:solidFill>
                  <a:srgbClr val="333399"/>
                </a:solidFill>
                <a:latin typeface="Trebuchet MS"/>
              </a:rPr>
              <a:t>“el cuento que la organización se cuenta de si misma y le cuenta a otros”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79880" y="396720"/>
            <a:ext cx="59083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170028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La Planificación Estratégica es un poderoso instrumento de gestión institucional si es acogido por los directivos en su trabajo diari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rebuchet MS"/>
              </a:rPr>
              <a:t>De lo contrario, pierde todo su valor y es visto como un gasto de tiempo y de recursos que podrían haberse destinado a otros fines. ¿Por qué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44960" y="469800"/>
            <a:ext cx="59083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38080" y="11970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Consiste en un patrón de decisiones coherente, unificador e integrado, que determina y revela el propósito de la organización en términos de objetivos a largo plazo, programas de acción y prioridades para la asignación de recurso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FASES DE LA PLANIFICACION ESTRATEGICA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38080" y="140184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nálisis del entorno y escenarios futu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nálisis interno de la organización (FO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Definición de objetivos y 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Identificación e implementación de factores estratég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8080" y="12589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Es la imagen del futuro de la institució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rebuchet MS"/>
              </a:rPr>
              <a:t>Es el sueño generado por sus líderes o por un proceso participativ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99"/>
                </a:solidFill>
                <a:latin typeface="Trebuchet MS"/>
              </a:rPr>
              <a:t>Es el “gran sueño” que responde a la pregunta ¿Qué deseamos ser?  En una perspectiva de largo plazo. La visión tiene un sentido de dirección y debe generar compromis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79880" y="207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VISIÓN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141300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Visión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 realidad la construimos desde las expectativas del futuro deseado y soñad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Las organizaciones se desarrollan y construyen desde la VISIÓN DE FUTUR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Una visión potente es una que además pueda iluminar a otros, que les dé también valor a ellos. Una visión actúa de imán, atrae, desafía y une a personas.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79880" y="396720"/>
            <a:ext cx="5451120" cy="103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ANÁLISIS DE ENTORNO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32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Análisis del entorno actual y proyección de escenarios futuro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828800" y="2421000"/>
          <a:ext cx="5535720" cy="336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421000"/>
                    <a:ext cx="553572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usuario</cp:lastModifiedBy>
  <dcterms:modified xsi:type="dcterms:W3CDTF">2008-08-28T17:57:47Z</dcterms:modified>
  <cp:revision>211</cp:revision>
  <dc:subject/>
  <dc:title>Títul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74213227</vt:r8>
  </property>
  <property fmtid="{D5CDD505-2E9C-101B-9397-08002B2CF9AE}" pid="3" name="_AuthorEmail">
    <vt:lpwstr>carolina_m@terra.cl</vt:lpwstr>
  </property>
  <property fmtid="{D5CDD505-2E9C-101B-9397-08002B2CF9AE}" pid="4" name="_AuthorEmailDisplayName">
    <vt:lpwstr>Carolina Muñoz</vt:lpwstr>
  </property>
  <property fmtid="{D5CDD505-2E9C-101B-9397-08002B2CF9AE}" pid="5" name="_EmailSubject">
    <vt:lpwstr>PPT y otros</vt:lpwstr>
  </property>
  <property fmtid="{D5CDD505-2E9C-101B-9397-08002B2CF9AE}" pid="6" name="_PreviousAdHocReviewCycleID">
    <vt:r8>-1584043124</vt:r8>
  </property>
</Properties>
</file>