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6E96E9-F6EF-421D-95A3-4A04592F40DC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664420-5FFF-4AF7-B36B-7D532999887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84320" y="858960"/>
            <a:ext cx="4929120" cy="3697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2480" y="5452560"/>
            <a:ext cx="520884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AD82-F88D-4E36-87FC-76B7ED6328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67DD-169B-4D81-98FF-76ACBD06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520A5-CF2D-4D5B-87F8-246C69C1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4ED14-D895-40FF-9DF7-5C82FBDFDE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289CC-FFAE-48CB-A9E0-568D6437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8D3F-71B8-4A59-BF7D-0FB55B61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F414-889B-4738-8C4A-CC103EF8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009E-FC86-46DD-A88B-DCD2F9E8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8928-B301-41F5-B05E-B08519D1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5778-9F22-4701-A5EE-9FB1FA12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4506-0274-42B5-9DB3-F81CB77F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AEB3-D701-4FA8-A89C-38996822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162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08080"/>
                </a:solidFill>
                <a:latin typeface="UnitOT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162E-27DE-4145-A38B-E9A31250D4EC}" type="slidenum">
              <a:rPr b="0" lang="es-ES" sz="1200" spc="-1" strike="noStrike">
                <a:solidFill>
                  <a:srgbClr val="808080"/>
                </a:solidFill>
                <a:latin typeface="UnitOT-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4365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Agosto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93800" y="1844640"/>
            <a:ext cx="65502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Comportamiento Organizacional y </a:t>
            </a:r>
            <a:br>
              <a:rPr sz="2800"/>
            </a:b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Gestión de Recursos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Test Psicológicos</a:t>
            </a:r>
            <a:endParaRPr b="1" lang="en-US" sz="28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873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Nivel Intelectual: Test Multifactorial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sonalidad lógicamente estructurados.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Personalidad proyectivos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D8D5-DD88-4B68-B492-A3D4E00144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765000"/>
            <a:ext cx="8281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38440" y="3332160"/>
            <a:ext cx="1677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4800" y="28386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92640" y="3832200"/>
            <a:ext cx="18237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98880" y="4413240"/>
            <a:ext cx="21175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85920" y="2252520"/>
            <a:ext cx="2908080" cy="743040"/>
          </a:xfrm>
          <a:custGeom>
            <a:avLst/>
            <a:gdLst/>
            <a:ahLst/>
            <a:rect l="l" t="t" r="r" b="b"/>
            <a:pathLst>
              <a:path w="1984" h="503">
                <a:moveTo>
                  <a:pt x="0" y="0"/>
                </a:moveTo>
                <a:lnTo>
                  <a:pt x="148" y="343"/>
                </a:lnTo>
                <a:lnTo>
                  <a:pt x="200" y="381"/>
                </a:lnTo>
                <a:lnTo>
                  <a:pt x="252" y="408"/>
                </a:lnTo>
                <a:lnTo>
                  <a:pt x="306" y="422"/>
                </a:lnTo>
                <a:lnTo>
                  <a:pt x="371" y="440"/>
                </a:lnTo>
                <a:lnTo>
                  <a:pt x="455" y="455"/>
                </a:lnTo>
                <a:lnTo>
                  <a:pt x="590" y="478"/>
                </a:lnTo>
                <a:lnTo>
                  <a:pt x="758" y="496"/>
                </a:lnTo>
                <a:lnTo>
                  <a:pt x="890" y="499"/>
                </a:lnTo>
                <a:lnTo>
                  <a:pt x="1000" y="502"/>
                </a:lnTo>
                <a:lnTo>
                  <a:pt x="1106" y="502"/>
                </a:lnTo>
                <a:lnTo>
                  <a:pt x="1228" y="496"/>
                </a:lnTo>
                <a:lnTo>
                  <a:pt x="1370" y="484"/>
                </a:lnTo>
                <a:lnTo>
                  <a:pt x="1490" y="472"/>
                </a:lnTo>
                <a:lnTo>
                  <a:pt x="1609" y="452"/>
                </a:lnTo>
                <a:lnTo>
                  <a:pt x="1648" y="440"/>
                </a:lnTo>
                <a:lnTo>
                  <a:pt x="1741" y="419"/>
                </a:lnTo>
                <a:lnTo>
                  <a:pt x="1806" y="390"/>
                </a:lnTo>
                <a:lnTo>
                  <a:pt x="1828" y="378"/>
                </a:lnTo>
                <a:lnTo>
                  <a:pt x="1860" y="340"/>
                </a:lnTo>
                <a:lnTo>
                  <a:pt x="19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87360" y="2013120"/>
            <a:ext cx="2901960" cy="50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08040" y="2017800"/>
            <a:ext cx="2443320" cy="490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81360" y="2359080"/>
            <a:ext cx="1719000" cy="139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7720" y="3265560"/>
            <a:ext cx="1639800" cy="741240"/>
          </a:xfrm>
          <a:custGeom>
            <a:avLst/>
            <a:gdLst/>
            <a:ahLst/>
            <a:rect l="l" t="t" r="r" b="b"/>
            <a:pathLst>
              <a:path w="1119" h="502">
                <a:moveTo>
                  <a:pt x="0" y="0"/>
                </a:moveTo>
                <a:lnTo>
                  <a:pt x="84" y="342"/>
                </a:lnTo>
                <a:lnTo>
                  <a:pt x="113" y="380"/>
                </a:lnTo>
                <a:lnTo>
                  <a:pt x="142" y="407"/>
                </a:lnTo>
                <a:lnTo>
                  <a:pt x="173" y="421"/>
                </a:lnTo>
                <a:lnTo>
                  <a:pt x="209" y="439"/>
                </a:lnTo>
                <a:lnTo>
                  <a:pt x="256" y="454"/>
                </a:lnTo>
                <a:lnTo>
                  <a:pt x="333" y="477"/>
                </a:lnTo>
                <a:lnTo>
                  <a:pt x="427" y="495"/>
                </a:lnTo>
                <a:lnTo>
                  <a:pt x="502" y="498"/>
                </a:lnTo>
                <a:lnTo>
                  <a:pt x="564" y="501"/>
                </a:lnTo>
                <a:lnTo>
                  <a:pt x="624" y="501"/>
                </a:lnTo>
                <a:lnTo>
                  <a:pt x="693" y="495"/>
                </a:lnTo>
                <a:lnTo>
                  <a:pt x="773" y="483"/>
                </a:lnTo>
                <a:lnTo>
                  <a:pt x="840" y="472"/>
                </a:lnTo>
                <a:lnTo>
                  <a:pt x="907" y="451"/>
                </a:lnTo>
                <a:lnTo>
                  <a:pt x="929" y="439"/>
                </a:lnTo>
                <a:lnTo>
                  <a:pt x="982" y="418"/>
                </a:lnTo>
                <a:lnTo>
                  <a:pt x="1018" y="389"/>
                </a:lnTo>
                <a:lnTo>
                  <a:pt x="1031" y="377"/>
                </a:lnTo>
                <a:lnTo>
                  <a:pt x="1049" y="339"/>
                </a:lnTo>
                <a:lnTo>
                  <a:pt x="1118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30320" y="3025800"/>
            <a:ext cx="1613160" cy="503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2720" y="3030480"/>
            <a:ext cx="1358640" cy="490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63680" y="3368520"/>
            <a:ext cx="952560" cy="144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504800" y="2763360"/>
            <a:ext cx="416160" cy="514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56080" y="2787120"/>
            <a:ext cx="417600" cy="49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68520" y="2592000"/>
            <a:ext cx="2457000" cy="4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8280" y="2595960"/>
            <a:ext cx="246240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8" y="11483"/>
                </a:moveTo>
                <a:arcTo wR="10800" hR="10800" stAng="217511" swAng="5186602"/>
                <a:lnTo>
                  <a:pt x="10800" y="10800"/>
                </a:lnTo>
                <a:close/>
              </a:path>
              <a:path fill="none" w="21600" h="21600">
                <a:moveTo>
                  <a:pt x="21578" y="11483"/>
                </a:moveTo>
                <a:arcTo wR="10800" hR="10800" stAng="217511" swAng="518660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0040" y="2773800"/>
            <a:ext cx="2251080" cy="37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64560" y="2773800"/>
            <a:ext cx="2248920" cy="3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5981" swAng="5184019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5981" swAng="518401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7520" y="2876400"/>
            <a:ext cx="205380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57080" y="2876400"/>
            <a:ext cx="2057760" cy="3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6034" swAng="5183966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6034" swAng="5183966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43200" y="2976840"/>
            <a:ext cx="187884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3" y="21600"/>
                </a:moveTo>
                <a:arcTo wR="10800" hR="10800" stAng="5405368" swAng="5394632"/>
                <a:lnTo>
                  <a:pt x="10800" y="10800"/>
                </a:lnTo>
                <a:close/>
              </a:path>
              <a:path fill="none" w="21600" h="21600">
                <a:moveTo>
                  <a:pt x="10783" y="21600"/>
                </a:moveTo>
                <a:arcTo wR="10800" hR="10800" stAng="5405368" swAng="539463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0680" y="2981520"/>
            <a:ext cx="188028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261" swAng="5189128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261" swAng="518912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20960" y="3073320"/>
            <a:ext cx="171396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1" y="21600"/>
                </a:moveTo>
                <a:arcTo wR="10800" hR="10800" stAng="5405915" swAng="5421024"/>
                <a:lnTo>
                  <a:pt x="10800" y="10800"/>
                </a:lnTo>
                <a:close/>
              </a:path>
              <a:path fill="none" w="21600" h="21600">
                <a:moveTo>
                  <a:pt x="10781" y="21600"/>
                </a:moveTo>
                <a:arcTo wR="10800" hR="10800" stAng="5405915" swAng="542102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6720" y="3070440"/>
            <a:ext cx="17143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158" swAng="5183842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158" swAng="518384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28840" y="4361040"/>
            <a:ext cx="817560" cy="693720"/>
          </a:xfrm>
          <a:custGeom>
            <a:avLst/>
            <a:gdLst/>
            <a:ahLst/>
            <a:rect l="l" t="t" r="r" b="b"/>
            <a:pathLst>
              <a:path w="558" h="469">
                <a:moveTo>
                  <a:pt x="0" y="0"/>
                </a:moveTo>
                <a:lnTo>
                  <a:pt x="42" y="319"/>
                </a:lnTo>
                <a:lnTo>
                  <a:pt x="56" y="355"/>
                </a:lnTo>
                <a:lnTo>
                  <a:pt x="71" y="380"/>
                </a:lnTo>
                <a:lnTo>
                  <a:pt x="86" y="394"/>
                </a:lnTo>
                <a:lnTo>
                  <a:pt x="104" y="410"/>
                </a:lnTo>
                <a:lnTo>
                  <a:pt x="128" y="424"/>
                </a:lnTo>
                <a:lnTo>
                  <a:pt x="166" y="446"/>
                </a:lnTo>
                <a:lnTo>
                  <a:pt x="213" y="462"/>
                </a:lnTo>
                <a:lnTo>
                  <a:pt x="250" y="465"/>
                </a:lnTo>
                <a:lnTo>
                  <a:pt x="281" y="468"/>
                </a:lnTo>
                <a:lnTo>
                  <a:pt x="311" y="468"/>
                </a:lnTo>
                <a:lnTo>
                  <a:pt x="345" y="462"/>
                </a:lnTo>
                <a:lnTo>
                  <a:pt x="385" y="451"/>
                </a:lnTo>
                <a:lnTo>
                  <a:pt x="418" y="440"/>
                </a:lnTo>
                <a:lnTo>
                  <a:pt x="452" y="421"/>
                </a:lnTo>
                <a:lnTo>
                  <a:pt x="463" y="410"/>
                </a:lnTo>
                <a:lnTo>
                  <a:pt x="489" y="391"/>
                </a:lnTo>
                <a:lnTo>
                  <a:pt x="507" y="363"/>
                </a:lnTo>
                <a:lnTo>
                  <a:pt x="514" y="352"/>
                </a:lnTo>
                <a:lnTo>
                  <a:pt x="523" y="317"/>
                </a:lnTo>
                <a:lnTo>
                  <a:pt x="55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4202280"/>
            <a:ext cx="806400" cy="299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94000" y="4206960"/>
            <a:ext cx="677880" cy="287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98760" y="4408560"/>
            <a:ext cx="474480" cy="824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034720" y="3758760"/>
            <a:ext cx="298440" cy="59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141720" y="3814560"/>
            <a:ext cx="280800" cy="56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03480" y="3678480"/>
            <a:ext cx="1463400" cy="39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537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537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9000" y="3674880"/>
            <a:ext cx="1390320" cy="40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20"/>
                </a:moveTo>
                <a:arcTo wR="10800" hR="10800" stAng="-25397" swAng="5432669"/>
                <a:lnTo>
                  <a:pt x="10800" y="10800"/>
                </a:lnTo>
                <a:close/>
              </a:path>
              <a:path fill="none" w="21600" h="21600">
                <a:moveTo>
                  <a:pt x="21600" y="10720"/>
                </a:moveTo>
                <a:arcTo wR="10800" hR="10800" stAng="-25397" swAng="543266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85920" y="3913560"/>
            <a:ext cx="127260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21600"/>
                </a:moveTo>
                <a:arcTo wR="10800" hR="10800" stAng="5407912" swAng="5392088"/>
                <a:lnTo>
                  <a:pt x="10800" y="10800"/>
                </a:lnTo>
                <a:close/>
              </a:path>
              <a:path fill="none" w="21600" h="21600">
                <a:moveTo>
                  <a:pt x="10775" y="21600"/>
                </a:moveTo>
                <a:arcTo wR="10800" hR="10800" stAng="5407912" swAng="53920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87280" y="3913560"/>
            <a:ext cx="1216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294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29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28760" y="4003920"/>
            <a:ext cx="1171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5160" y="4003920"/>
            <a:ext cx="112032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98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9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4840" y="4097520"/>
            <a:ext cx="106020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0600" y="4097520"/>
            <a:ext cx="101268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20920" y="4200840"/>
            <a:ext cx="955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46040" y="4200840"/>
            <a:ext cx="91116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rot="16200000">
            <a:off x="2581200" y="5099760"/>
            <a:ext cx="353880" cy="336600"/>
          </a:xfrm>
          <a:prstGeom prst="rightArrow">
            <a:avLst>
              <a:gd name="adj1" fmla="val 50000"/>
              <a:gd name="adj2" fmla="val 52571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rot="16200000">
            <a:off x="2483280" y="1835640"/>
            <a:ext cx="468360" cy="333360"/>
          </a:xfrm>
          <a:prstGeom prst="rightArrow">
            <a:avLst>
              <a:gd name="adj1" fmla="val 50000"/>
              <a:gd name="adj2" fmla="val 7025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rot="17220000">
            <a:off x="2931840" y="1842840"/>
            <a:ext cx="466920" cy="339840"/>
          </a:xfrm>
          <a:prstGeom prst="rightArrow">
            <a:avLst>
              <a:gd name="adj1" fmla="val 50000"/>
              <a:gd name="adj2" fmla="val 68703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4380000">
            <a:off x="2048400" y="1846800"/>
            <a:ext cx="468360" cy="339840"/>
          </a:xfrm>
          <a:prstGeom prst="rightArrow">
            <a:avLst>
              <a:gd name="adj1" fmla="val 50000"/>
              <a:gd name="adj2" fmla="val 6891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08080" y="1125360"/>
            <a:ext cx="31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333399"/>
                </a:solidFill>
                <a:latin typeface="Arial"/>
              </a:rPr>
              <a:t>50 candidat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84960" y="2938320"/>
            <a:ext cx="66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35680" y="34606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160" y="40132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0120" y="449892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2924280"/>
            <a:ext cx="49276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Entrevistas profundas y simu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68800" y="2327400"/>
            <a:ext cx="429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Revisión de Antecedentes o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3429000"/>
            <a:ext cx="3117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Evaluación Psic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94000" y="3932280"/>
            <a:ext cx="581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Revisión de referencias y exámenes mé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58840" y="5479920"/>
            <a:ext cx="318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333399"/>
                </a:solidFill>
                <a:latin typeface="Arial"/>
              </a:rPr>
              <a:t>Ofer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52840" y="5445000"/>
            <a:ext cx="255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Book Antiqua"/>
              </a:rPr>
              <a:t>Flujograma</a:t>
            </a:r>
            <a:r>
              <a:rPr b="0" lang="es-MX" sz="1600" spc="-1" strike="noStrike">
                <a:solidFill>
                  <a:srgbClr val="333399"/>
                </a:solidFill>
                <a:latin typeface="Book Antiqua"/>
              </a:rPr>
              <a:t> Contra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F1052-7B25-4DE0-B029-0513361580A3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540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studio de lo que hacen personas y grupos al interior de una organización y cómo estas acciones afectan la productividad, tanto individual como colectiva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Pone al servicio de la autoridad modelos y herramientas de análisis              de procesos que permitan generar interpretaciones que agreguen valor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Imperativo ético:  Productividad con Satisfacción.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esafíos y oportunidades</a:t>
            </a: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Administrar divers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Potenciar empleabilidad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Deficiencia de habilidades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lvl="2" marL="539640" algn="just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Innovación y adaptación al cambio</a:t>
            </a: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19640" y="171360"/>
            <a:ext cx="48974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5" name=""/>
          <p:cNvSpPr/>
          <p:nvPr/>
        </p:nvSpPr>
        <p:spPr>
          <a:xfrm>
            <a:off x="758880" y="1557360"/>
            <a:ext cx="777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Concepción de las organizaciones como sistemas sociales abiertos.</a:t>
            </a:r>
            <a:br>
              <a:rPr sz="1800"/>
            </a:b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Trae consigo afianzamiento de perspectiva sistémica con variables tecnológicas, estructurales y ambientales  por sobre corriente desarrollo pers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Enfoque de análisis:  Sistema Socio Téc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Los modelos experto, médico o de procesos como respuesta a la consultoría en Desarrollo Organiz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2068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odelo Comportamiento Organizacional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4000" y="1297080"/>
            <a:ext cx="8569080" cy="5445000"/>
            <a:chOff x="324000" y="1297080"/>
            <a:chExt cx="8569080" cy="5445000"/>
          </a:xfrm>
        </p:grpSpPr>
        <p:sp>
          <p:nvSpPr>
            <p:cNvPr id="58" name="Puzzle4"/>
            <p:cNvSpPr/>
            <p:nvPr/>
          </p:nvSpPr>
          <p:spPr>
            <a:xfrm>
              <a:off x="5292720" y="4681440"/>
              <a:ext cx="1700280" cy="20606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S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24000" y="1297080"/>
              <a:ext cx="1042920" cy="3671640"/>
              <a:chOff x="324000" y="1297080"/>
              <a:chExt cx="1042920" cy="3671640"/>
            </a:xfrm>
          </p:grpSpPr>
          <p:sp>
            <p:nvSpPr>
              <p:cNvPr id="60" name=""/>
              <p:cNvSpPr/>
              <p:nvPr/>
            </p:nvSpPr>
            <p:spPr>
              <a:xfrm>
                <a:off x="324000" y="1297080"/>
                <a:ext cx="104292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24000" y="1297080"/>
                <a:ext cx="104292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619280" y="1297080"/>
              <a:ext cx="973080" cy="3671640"/>
              <a:chOff x="1619280" y="1297080"/>
              <a:chExt cx="973080" cy="3671640"/>
            </a:xfrm>
          </p:grpSpPr>
          <p:sp>
            <p:nvSpPr>
              <p:cNvPr id="63" name=""/>
              <p:cNvSpPr/>
              <p:nvPr/>
            </p:nvSpPr>
            <p:spPr>
              <a:xfrm>
                <a:off x="1619280" y="1297080"/>
                <a:ext cx="97308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Vis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is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Objetivos</a:t>
                </a:r>
                <a:r>
                  <a:rPr b="1" lang="es-CL" sz="1400" spc="-1" strike="noStrike">
                    <a:solidFill>
                      <a:srgbClr val="00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Valor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9280" y="1297080"/>
                <a:ext cx="97308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strateg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435640" y="1297080"/>
              <a:ext cx="1581120" cy="3671640"/>
              <a:chOff x="5435640" y="1297080"/>
              <a:chExt cx="1581120" cy="3671640"/>
            </a:xfrm>
          </p:grpSpPr>
          <p:sp>
            <p:nvSpPr>
              <p:cNvPr id="66" name=""/>
              <p:cNvSpPr/>
              <p:nvPr/>
            </p:nvSpPr>
            <p:spPr>
              <a:xfrm>
                <a:off x="5435640" y="1297080"/>
                <a:ext cx="158112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Trabajo en equip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omunicacion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onflic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Rel. Interpersona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li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Liderazg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35640" y="1297080"/>
                <a:ext cx="1581120" cy="610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Procesos sicológico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y sicosocial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771640" y="1297080"/>
              <a:ext cx="2448000" cy="288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2771640" y="1585800"/>
              <a:ext cx="1225440" cy="3382920"/>
              <a:chOff x="2771640" y="1585800"/>
              <a:chExt cx="1225440" cy="3382920"/>
            </a:xfrm>
          </p:grpSpPr>
          <p:sp>
            <p:nvSpPr>
              <p:cNvPr id="70" name=""/>
              <p:cNvSpPr/>
              <p:nvPr/>
            </p:nvSpPr>
            <p:spPr>
              <a:xfrm>
                <a:off x="2771640" y="1585800"/>
                <a:ext cx="1225440" cy="33829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la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iramid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Matri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st. Puest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st. Tare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roces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71640" y="1585800"/>
                <a:ext cx="1225440" cy="3542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structu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3924360" y="1585800"/>
              <a:ext cx="1296720" cy="3382920"/>
              <a:chOff x="3924360" y="1585800"/>
              <a:chExt cx="1296720" cy="3382920"/>
            </a:xfrm>
          </p:grpSpPr>
          <p:sp>
            <p:nvSpPr>
              <p:cNvPr id="73" name=""/>
              <p:cNvSpPr/>
              <p:nvPr/>
            </p:nvSpPr>
            <p:spPr>
              <a:xfrm>
                <a:off x="3924360" y="1585800"/>
                <a:ext cx="1296720" cy="33829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Selección</a:t>
                </a:r>
                <a:r>
                  <a:rPr b="0" lang="es-CL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Capacit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v. Desemp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Remunerac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Incentiv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Plan Carre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Ev. Poten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Desvinc</a:t>
                </a:r>
                <a:r>
                  <a:rPr b="1" lang="es-CL" sz="1400" spc="-1" strike="noStrike">
                    <a:solidFill>
                      <a:srgbClr val="000066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924360" y="1585800"/>
                <a:ext cx="1296720" cy="3542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Sistem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7236000" y="1297080"/>
              <a:ext cx="1657080" cy="3671640"/>
              <a:chOff x="7236000" y="1297080"/>
              <a:chExt cx="1657080" cy="3671640"/>
            </a:xfrm>
          </p:grpSpPr>
          <p:sp>
            <p:nvSpPr>
              <p:cNvPr id="76" name=""/>
              <p:cNvSpPr/>
              <p:nvPr/>
            </p:nvSpPr>
            <p:spPr>
              <a:xfrm>
                <a:off x="7236000" y="1297080"/>
                <a:ext cx="1657080" cy="3671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Organiz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Grup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ffffff"/>
                    </a:solidFill>
                    <a:latin typeface="Times New Roman"/>
                  </a:rPr>
                  <a:t>Individu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36000" y="1297080"/>
                <a:ext cx="1657080" cy="252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Resultad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236000" y="1541520"/>
                <a:ext cx="793440" cy="341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RR.H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029440" y="1541520"/>
                <a:ext cx="863640" cy="341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Times New Roman"/>
                  </a:rPr>
                  <a:t>Efect. Org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780000" y="1944720"/>
              <a:ext cx="315720" cy="3024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71640" y="453708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41440" y="4537080"/>
              <a:ext cx="935280" cy="504720"/>
            </a:xfrm>
            <a:custGeom>
              <a:avLst/>
              <a:gdLst>
                <a:gd name="textAreaLeft" fmla="*/ 146160 w 935280"/>
                <a:gd name="textAreaRight" fmla="*/ 818640 w 93528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05440" y="446580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32720" y="4465800"/>
              <a:ext cx="934920" cy="50472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68360" y="5329080"/>
              <a:ext cx="1582920" cy="1081080"/>
            </a:xfrm>
            <a:prstGeom prst="wedgeRectCallout">
              <a:avLst>
                <a:gd name="adj1" fmla="val -43518"/>
                <a:gd name="adj2" fmla="val 7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uzzle1"/>
            <p:cNvSpPr/>
            <p:nvPr/>
          </p:nvSpPr>
          <p:spPr>
            <a:xfrm>
              <a:off x="2700360" y="5041800"/>
              <a:ext cx="2158920" cy="1656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Técn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EBF4-7F45-4EDC-B293-08DB0F9BD4D4}" type="slidenum">
              <a:t>4</a:t>
            </a:fld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Sistema de Provisión</a:t>
            </a:r>
            <a:br>
              <a:rPr sz="2800"/>
            </a:b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Selección de Personal</a:t>
            </a:r>
            <a:endParaRPr b="1" lang="en-US" sz="28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72A0-05EE-4A5A-8D50-2EF95D9C31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eguntas de discusión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Deberían las empresas realizar tests psicológicos o deberían centrarse sólo en habilidades específicas (conocimiento técnico) respecto al cargo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Para qué tipo de trabajo es justificado aplicarlos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Se justifican los exámenes de pelo, orina, embarazo u otros a la hora de llevar a cabo la selección de personal?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¿En qué medida usted considera que las evaluaciones a las que ha sido sometido no han sido consistentes (test-retest) o confiables para el cargo al cual postuló? </a:t>
            </a: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BA084-F2F0-45E9-BBC7-73D1874057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27520" y="404640"/>
            <a:ext cx="4740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Selección Eficaz es</a:t>
            </a: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990800"/>
            <a:ext cx="7661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marL="353880" indent="-353880" algn="just">
              <a:buClr>
                <a:srgbClr val="333399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Un proceso organizado para recopilar información sobre competencias de los candidatos (nuevo ingreso o promoción), tomando en cuenta comportamientos pasados para predecir comportamientos futuros y asegurar la imparcialidad, efectividad y aceptación en la toma de decisiones de selec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22AC2-5B50-4067-BAE0-EECE9DDE6DB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260280"/>
            <a:ext cx="7255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Arial Narrow"/>
              </a:rPr>
              <a:t>MODELO BASICO DE COMPE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333399"/>
                </a:solidFill>
                <a:latin typeface="Arial Narro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338120"/>
            <a:ext cx="213372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1338120"/>
            <a:ext cx="396216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338120"/>
            <a:ext cx="2133720" cy="48769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30243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98840"/>
            <a:ext cx="60958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081760"/>
            <a:ext cx="60958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588000" y="2262240"/>
            <a:ext cx="2098800" cy="3971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680" y="276372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. CONO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7680" y="407340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I. HA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29920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III. ACTITU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    </a:t>
            </a: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Y  VAL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262240"/>
            <a:ext cx="82296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621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LASIFIC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162576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EJEMP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5680" y="162576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LO SELECCIONABLE V/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LO ENTRENABLE</a:t>
            </a: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51040" y="2401920"/>
            <a:ext cx="390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nocimientos técnicos propios de la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Marketing - finanzas - recursos humanos -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Enfasis en la formación y/o la exper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641760"/>
            <a:ext cx="390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Trabajo en equipo (hacer en conju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municación efectiva (saber escuchar y transmit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apacidad para la interacción/vincu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Negociación (ganar - gan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Orientación a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onsultoría  -  Aseso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5081760"/>
            <a:ext cx="3886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Capacidad de aprendizaje y adap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Pensamiento individual (local) v/s sistémico (glob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Actitud de servicio (sirvo, no hag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 Narrow"/>
              </a:rPr>
              <a:t>Tolerancia, respeto, empatía, lealtad, honestidad, (valo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41452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ENTRE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Y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3989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 Narrow"/>
              </a:rPr>
              <a:t>RECLUTAMIENTO Y SELECCIÓN</a:t>
            </a:r>
            <a:r>
              <a:rPr b="0" lang="es-ES_tradnl" sz="16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321B3-E0CE-413E-A4D3-4B67C66918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3342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lasificación de Test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051440"/>
            <a:ext cx="37213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Test de Pot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apacidades y habil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respuestas correc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e cronometra el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a un número (C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949400"/>
            <a:ext cx="7704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Test de Personal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características y rasgos de person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no posee respuestas correctas e incorrectas, sino prefer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no se cronometra el 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da como resultado un perf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AABDC-01ED-4905-AEEB-C177C6722D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08-11T15:46:27Z</dcterms:modified>
  <cp:revision>262</cp:revision>
  <dc:subject/>
  <dc:title>Título </dc:title>
</cp:coreProperties>
</file>