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3D816E-9EAB-4192-8D20-BCAA8AF5D9D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F89076-3142-4BA8-BFF7-D355FD9B243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84320" y="8589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2480" y="5452560"/>
            <a:ext cx="520884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E6F2-CF2D-4CD4-894F-3422E8F28B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DA78-7979-4F81-B839-CBD20F14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8414-E9E4-4C94-8200-0EEEB563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9407-321E-46A9-9559-C151ED16A1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93AE-70E1-43B8-8243-047863BF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E7FC-0137-4692-87FD-2956E379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F6E9-AE2D-4A5F-A12D-DD323FE5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E7D1-DE5D-46B6-9FFF-AAC8450D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94B9-1A8C-4CCE-863F-38CB1867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E766-1D38-4C2F-B2EF-2DC05FEF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0B7C-70FD-465C-B2F2-3A5FAE6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0328-0AD3-49D3-A747-2227DF62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9808-676E-4594-8EB7-10618560A262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4365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gos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ortamiento Organizacional y </a:t>
            </a: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Gestión de 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est Psicológicos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ivel Intelectual: Test Multifactorial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lógicamente estructurados.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proyectivos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935A-AD0F-4808-A1A1-680455B8F7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5920" y="2252520"/>
            <a:ext cx="2908080" cy="743040"/>
          </a:xfrm>
          <a:custGeom>
            <a:avLst/>
            <a:gdLst/>
            <a:ahLst/>
            <a:rect l="l" t="t" r="r" b="b"/>
            <a:pathLst>
              <a:path w="1984" h="503">
                <a:moveTo>
                  <a:pt x="0" y="0"/>
                </a:moveTo>
                <a:lnTo>
                  <a:pt x="148" y="343"/>
                </a:lnTo>
                <a:lnTo>
                  <a:pt x="200" y="381"/>
                </a:lnTo>
                <a:lnTo>
                  <a:pt x="252" y="408"/>
                </a:lnTo>
                <a:lnTo>
                  <a:pt x="306" y="422"/>
                </a:lnTo>
                <a:lnTo>
                  <a:pt x="371" y="440"/>
                </a:lnTo>
                <a:lnTo>
                  <a:pt x="455" y="455"/>
                </a:lnTo>
                <a:lnTo>
                  <a:pt x="590" y="478"/>
                </a:lnTo>
                <a:lnTo>
                  <a:pt x="758" y="496"/>
                </a:lnTo>
                <a:lnTo>
                  <a:pt x="890" y="499"/>
                </a:lnTo>
                <a:lnTo>
                  <a:pt x="1000" y="502"/>
                </a:lnTo>
                <a:lnTo>
                  <a:pt x="1106" y="502"/>
                </a:lnTo>
                <a:lnTo>
                  <a:pt x="1228" y="496"/>
                </a:lnTo>
                <a:lnTo>
                  <a:pt x="1370" y="484"/>
                </a:lnTo>
                <a:lnTo>
                  <a:pt x="1490" y="472"/>
                </a:lnTo>
                <a:lnTo>
                  <a:pt x="1609" y="452"/>
                </a:lnTo>
                <a:lnTo>
                  <a:pt x="1648" y="440"/>
                </a:lnTo>
                <a:lnTo>
                  <a:pt x="1741" y="419"/>
                </a:lnTo>
                <a:lnTo>
                  <a:pt x="1806" y="390"/>
                </a:lnTo>
                <a:lnTo>
                  <a:pt x="1828" y="378"/>
                </a:lnTo>
                <a:lnTo>
                  <a:pt x="1860" y="340"/>
                </a:lnTo>
                <a:lnTo>
                  <a:pt x="19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7720" y="3265560"/>
            <a:ext cx="1639800" cy="741240"/>
          </a:xfrm>
          <a:custGeom>
            <a:avLst/>
            <a:gdLst/>
            <a:ahLst/>
            <a:rect l="l" t="t" r="r" b="b"/>
            <a:pathLst>
              <a:path w="1119" h="502">
                <a:moveTo>
                  <a:pt x="0" y="0"/>
                </a:moveTo>
                <a:lnTo>
                  <a:pt x="84" y="342"/>
                </a:lnTo>
                <a:lnTo>
                  <a:pt x="113" y="380"/>
                </a:lnTo>
                <a:lnTo>
                  <a:pt x="142" y="407"/>
                </a:lnTo>
                <a:lnTo>
                  <a:pt x="173" y="421"/>
                </a:lnTo>
                <a:lnTo>
                  <a:pt x="209" y="439"/>
                </a:lnTo>
                <a:lnTo>
                  <a:pt x="256" y="454"/>
                </a:lnTo>
                <a:lnTo>
                  <a:pt x="333" y="477"/>
                </a:lnTo>
                <a:lnTo>
                  <a:pt x="427" y="495"/>
                </a:lnTo>
                <a:lnTo>
                  <a:pt x="502" y="498"/>
                </a:lnTo>
                <a:lnTo>
                  <a:pt x="564" y="501"/>
                </a:lnTo>
                <a:lnTo>
                  <a:pt x="624" y="501"/>
                </a:lnTo>
                <a:lnTo>
                  <a:pt x="693" y="495"/>
                </a:lnTo>
                <a:lnTo>
                  <a:pt x="773" y="483"/>
                </a:lnTo>
                <a:lnTo>
                  <a:pt x="840" y="472"/>
                </a:lnTo>
                <a:lnTo>
                  <a:pt x="907" y="451"/>
                </a:lnTo>
                <a:lnTo>
                  <a:pt x="929" y="439"/>
                </a:lnTo>
                <a:lnTo>
                  <a:pt x="982" y="418"/>
                </a:lnTo>
                <a:lnTo>
                  <a:pt x="1018" y="389"/>
                </a:lnTo>
                <a:lnTo>
                  <a:pt x="1031" y="377"/>
                </a:lnTo>
                <a:lnTo>
                  <a:pt x="1049" y="339"/>
                </a:lnTo>
                <a:lnTo>
                  <a:pt x="111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8520" y="2592000"/>
            <a:ext cx="24570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8280" y="2595960"/>
            <a:ext cx="2462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8" y="11483"/>
                </a:moveTo>
                <a:arcTo wR="10800" hR="10800" stAng="217511" swAng="5186602"/>
                <a:lnTo>
                  <a:pt x="10800" y="10800"/>
                </a:lnTo>
                <a:close/>
              </a:path>
              <a:path fill="none" w="21600" h="21600">
                <a:moveTo>
                  <a:pt x="21578" y="11483"/>
                </a:moveTo>
                <a:arcTo wR="10800" hR="10800" stAng="217511" swAng="518660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0040" y="2773800"/>
            <a:ext cx="22510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64560" y="2773800"/>
            <a:ext cx="2248920" cy="3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5981" swAng="5184019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5981" swAng="518401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7520" y="2876400"/>
            <a:ext cx="205380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7080" y="2876400"/>
            <a:ext cx="205776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6034" swAng="5183966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6034" swAng="518396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43200" y="2976840"/>
            <a:ext cx="187884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21600"/>
                </a:moveTo>
                <a:arcTo wR="10800" hR="10800" stAng="5405368" swAng="5394632"/>
                <a:lnTo>
                  <a:pt x="10800" y="10800"/>
                </a:lnTo>
                <a:close/>
              </a:path>
              <a:path fill="none" w="21600" h="21600">
                <a:moveTo>
                  <a:pt x="10783" y="21600"/>
                </a:moveTo>
                <a:arcTo wR="10800" hR="10800" stAng="5405368" swAng="539463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0680" y="2981520"/>
            <a:ext cx="188028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261" swAng="5189128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261" swAng="518912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20960" y="3073320"/>
            <a:ext cx="171396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21600"/>
                </a:moveTo>
                <a:arcTo wR="10800" hR="10800" stAng="5405915" swAng="5421024"/>
                <a:lnTo>
                  <a:pt x="10800" y="10800"/>
                </a:lnTo>
                <a:close/>
              </a:path>
              <a:path fill="none" w="21600" h="21600">
                <a:moveTo>
                  <a:pt x="10781" y="21600"/>
                </a:moveTo>
                <a:arcTo wR="10800" hR="10800" stAng="5405915" swAng="542102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6720" y="3070440"/>
            <a:ext cx="17143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158" swAng="5183842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158" swAng="518384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8840" y="4361040"/>
            <a:ext cx="817560" cy="693720"/>
          </a:xfrm>
          <a:custGeom>
            <a:avLst/>
            <a:gdLst/>
            <a:ahLst/>
            <a:rect l="l" t="t" r="r" b="b"/>
            <a:pathLst>
              <a:path w="558" h="469">
                <a:moveTo>
                  <a:pt x="0" y="0"/>
                </a:moveTo>
                <a:lnTo>
                  <a:pt x="42" y="319"/>
                </a:lnTo>
                <a:lnTo>
                  <a:pt x="56" y="355"/>
                </a:lnTo>
                <a:lnTo>
                  <a:pt x="71" y="380"/>
                </a:lnTo>
                <a:lnTo>
                  <a:pt x="86" y="394"/>
                </a:lnTo>
                <a:lnTo>
                  <a:pt x="104" y="410"/>
                </a:lnTo>
                <a:lnTo>
                  <a:pt x="128" y="424"/>
                </a:lnTo>
                <a:lnTo>
                  <a:pt x="166" y="446"/>
                </a:lnTo>
                <a:lnTo>
                  <a:pt x="213" y="462"/>
                </a:lnTo>
                <a:lnTo>
                  <a:pt x="250" y="465"/>
                </a:lnTo>
                <a:lnTo>
                  <a:pt x="281" y="468"/>
                </a:lnTo>
                <a:lnTo>
                  <a:pt x="311" y="468"/>
                </a:lnTo>
                <a:lnTo>
                  <a:pt x="345" y="462"/>
                </a:lnTo>
                <a:lnTo>
                  <a:pt x="385" y="451"/>
                </a:lnTo>
                <a:lnTo>
                  <a:pt x="418" y="440"/>
                </a:lnTo>
                <a:lnTo>
                  <a:pt x="452" y="421"/>
                </a:lnTo>
                <a:lnTo>
                  <a:pt x="463" y="410"/>
                </a:lnTo>
                <a:lnTo>
                  <a:pt x="489" y="391"/>
                </a:lnTo>
                <a:lnTo>
                  <a:pt x="507" y="363"/>
                </a:lnTo>
                <a:lnTo>
                  <a:pt x="514" y="352"/>
                </a:lnTo>
                <a:lnTo>
                  <a:pt x="523" y="317"/>
                </a:lnTo>
                <a:lnTo>
                  <a:pt x="55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03480" y="3678480"/>
            <a:ext cx="1463400" cy="3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537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9000" y="3674880"/>
            <a:ext cx="1390320" cy="40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0"/>
                </a:moveTo>
                <a:arcTo wR="10800" hR="10800" stAng="-25397" swAng="5432669"/>
                <a:lnTo>
                  <a:pt x="10800" y="10800"/>
                </a:lnTo>
                <a:close/>
              </a:path>
              <a:path fill="none" w="21600" h="21600">
                <a:moveTo>
                  <a:pt x="21600" y="10720"/>
                </a:moveTo>
                <a:arcTo wR="10800" hR="10800" stAng="-25397" swAng="543266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85920" y="3913560"/>
            <a:ext cx="127260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7912" swAng="5392088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7912" swAng="53920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87280" y="3913560"/>
            <a:ext cx="1216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29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29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28760" y="4003920"/>
            <a:ext cx="1171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5160" y="4003920"/>
            <a:ext cx="112032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98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9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4840" y="4097520"/>
            <a:ext cx="10602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0600" y="4097520"/>
            <a:ext cx="10126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20920" y="4200840"/>
            <a:ext cx="955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46040" y="4200840"/>
            <a:ext cx="91116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DD2D-09E5-45C4-A0BF-E59E2D4A90D4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studio de lo que hacen personas y grupos al interior de una organización y cómo estas acciones afectan la productividad, tanto individual como colectiva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Pone al servicio de la autoridad modelos y herramientas de análisis              de procesos que permitan generar interpretaciones que agreguen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mperativo ético:  Productividad con Satisfac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esafíos y oportunidad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Administrar divers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Potenciar empleabil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Deficiencia de habilidades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Innovación y adaptación al cambio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19640" y="171360"/>
            <a:ext cx="4897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758880" y="1557360"/>
            <a:ext cx="77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Concepción de las organizaciones como sistemas sociales abiertos.</a:t>
            </a:r>
            <a:br>
              <a:rPr sz="18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rae consigo afianzamiento de perspectiva sistémica con variables tecnológicas, estructurales y ambientales  por sobre corriente desarrollo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Enfoque de análisis:  Sistema Socio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os modelos experto, médico o de procesos como respuesta a la consultoría en Desarrollo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2068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4000" y="1297080"/>
            <a:ext cx="8569080" cy="5445000"/>
            <a:chOff x="324000" y="1297080"/>
            <a:chExt cx="8569080" cy="5445000"/>
          </a:xfrm>
        </p:grpSpPr>
        <p:sp>
          <p:nvSpPr>
            <p:cNvPr id="58" name="Puzzle4"/>
            <p:cNvSpPr/>
            <p:nvPr/>
          </p:nvSpPr>
          <p:spPr>
            <a:xfrm>
              <a:off x="5292720" y="4681440"/>
              <a:ext cx="1700280" cy="20606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S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24000" y="1297080"/>
              <a:ext cx="1042920" cy="3671640"/>
              <a:chOff x="324000" y="1297080"/>
              <a:chExt cx="1042920" cy="3671640"/>
            </a:xfrm>
          </p:grpSpPr>
          <p:sp>
            <p:nvSpPr>
              <p:cNvPr id="60" name=""/>
              <p:cNvSpPr/>
              <p:nvPr/>
            </p:nvSpPr>
            <p:spPr>
              <a:xfrm>
                <a:off x="324000" y="1297080"/>
                <a:ext cx="10429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4000" y="1297080"/>
                <a:ext cx="10429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619280" y="1297080"/>
              <a:ext cx="973080" cy="3671640"/>
              <a:chOff x="1619280" y="1297080"/>
              <a:chExt cx="973080" cy="3671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19280" y="1297080"/>
                <a:ext cx="973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bjetivos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al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9280" y="1297080"/>
                <a:ext cx="97308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ateg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435640" y="1297080"/>
              <a:ext cx="1581120" cy="3671640"/>
              <a:chOff x="5435640" y="1297080"/>
              <a:chExt cx="1581120" cy="3671640"/>
            </a:xfrm>
          </p:grpSpPr>
          <p:sp>
            <p:nvSpPr>
              <p:cNvPr id="66" name=""/>
              <p:cNvSpPr/>
              <p:nvPr/>
            </p:nvSpPr>
            <p:spPr>
              <a:xfrm>
                <a:off x="5435640" y="1297080"/>
                <a:ext cx="15811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rabajo en equip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municacion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nfli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l. Interperson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li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iderazg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35640" y="1297080"/>
                <a:ext cx="15811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Procesos sicológico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y sicosoci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771640" y="1297080"/>
              <a:ext cx="2448000" cy="288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771640" y="1585800"/>
              <a:ext cx="1225440" cy="3382920"/>
              <a:chOff x="2771640" y="1585800"/>
              <a:chExt cx="1225440" cy="3382920"/>
            </a:xfrm>
          </p:grpSpPr>
          <p:sp>
            <p:nvSpPr>
              <p:cNvPr id="70" name=""/>
              <p:cNvSpPr/>
              <p:nvPr/>
            </p:nvSpPr>
            <p:spPr>
              <a:xfrm>
                <a:off x="2771640" y="1585800"/>
                <a:ext cx="122544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iramid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atri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Pues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Tare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roces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71640" y="1585800"/>
                <a:ext cx="122544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uctu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924360" y="1585800"/>
              <a:ext cx="1296720" cy="3382920"/>
              <a:chOff x="3924360" y="1585800"/>
              <a:chExt cx="1296720" cy="3382920"/>
            </a:xfrm>
          </p:grpSpPr>
          <p:sp>
            <p:nvSpPr>
              <p:cNvPr id="73" name=""/>
              <p:cNvSpPr/>
              <p:nvPr/>
            </p:nvSpPr>
            <p:spPr>
              <a:xfrm>
                <a:off x="3924360" y="1585800"/>
                <a:ext cx="129672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Selección</a:t>
                </a:r>
                <a:r>
                  <a:rPr b="0" lang="es-CL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apacit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Desem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munera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centiv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 Carre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Pote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Desvinc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24360" y="1585800"/>
                <a:ext cx="129672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Siste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236000" y="1297080"/>
              <a:ext cx="1657080" cy="3671640"/>
              <a:chOff x="7236000" y="1297080"/>
              <a:chExt cx="1657080" cy="3671640"/>
            </a:xfrm>
          </p:grpSpPr>
          <p:sp>
            <p:nvSpPr>
              <p:cNvPr id="76" name=""/>
              <p:cNvSpPr/>
              <p:nvPr/>
            </p:nvSpPr>
            <p:spPr>
              <a:xfrm>
                <a:off x="7236000" y="1297080"/>
                <a:ext cx="1657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rganiz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rup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dividu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36000" y="1297080"/>
                <a:ext cx="1657080" cy="252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esultad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36000" y="1541520"/>
                <a:ext cx="7934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R.H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029440" y="1541520"/>
                <a:ext cx="8636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fect. Org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780000" y="1944720"/>
              <a:ext cx="315720" cy="3024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1640" y="453708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41440" y="4537080"/>
              <a:ext cx="935280" cy="504720"/>
            </a:xfrm>
            <a:custGeom>
              <a:avLst/>
              <a:gdLst>
                <a:gd name="textAreaLeft" fmla="*/ 146160 w 935280"/>
                <a:gd name="textAreaRight" fmla="*/ 818640 w 93528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0544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272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8360" y="5329080"/>
              <a:ext cx="1582920" cy="1081080"/>
            </a:xfrm>
            <a:prstGeom prst="wedgeRectCallout">
              <a:avLst>
                <a:gd name="adj1" fmla="val -43518"/>
                <a:gd name="adj2" fmla="val 7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1"/>
            <p:cNvSpPr/>
            <p:nvPr/>
          </p:nvSpPr>
          <p:spPr>
            <a:xfrm>
              <a:off x="2700360" y="5041800"/>
              <a:ext cx="2158920" cy="165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Téc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8D7C-7945-49FB-88C8-A9A37FAC0DC0}" type="slidenum">
              <a:t>4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istema de Provisión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elección de Personal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ADBE-1D1F-44AC-8434-EA170E1D3F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eguntas de discusión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Deberían las empresas realizar tests psicológicos o deberían centrarse sólo en habilidades específicas (conocimiento técnico) respecto al cargo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Para qué tipo de trabajo es justificado aplicarlos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9847-9284-434A-BFA8-751E73396D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27520" y="404640"/>
            <a:ext cx="4740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Selección Eficaz es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buClr>
                <a:srgbClr val="333399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9E55-6AE1-47E3-9800-36D835CAFDA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1338120"/>
            <a:ext cx="396216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0243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9884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08176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588000" y="2262240"/>
            <a:ext cx="2098800" cy="3971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680" y="276372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. CONO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7680" y="40734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29920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62240"/>
            <a:ext cx="8229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62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62576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5680" y="162576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ENTRENABLE</a:t>
            </a: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51040" y="240192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64176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08176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145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3989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RECLUTAMIENTO Y SELECCIÓN</a:t>
            </a:r>
            <a:r>
              <a:rPr b="0" lang="es-ES_tradnl" sz="16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DB74-01AA-427B-93C9-CB0DF31926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3342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lasificación de Test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E02C-4B5D-4136-9C12-BEFC0B3F62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11T15:46:27Z</dcterms:modified>
  <cp:revision>262</cp:revision>
  <dc:subject/>
  <dc:title>Título </dc:title>
</cp:coreProperties>
</file>