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738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732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2112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49560" y="-360"/>
            <a:ext cx="302112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775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6960" y="4386240"/>
            <a:ext cx="5578560" cy="4154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69240"/>
            <a:ext cx="3021120" cy="46224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49560" y="8769240"/>
            <a:ext cx="3021120" cy="46224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FF0F60-C494-43FB-B281-398FFD5D2A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49560" y="8769240"/>
            <a:ext cx="3021120" cy="46224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E40C16-0AB6-49B4-94F2-EE85289926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0" y="8769240"/>
            <a:ext cx="3021120" cy="46224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0" y="-360"/>
            <a:ext cx="302112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949560" y="-360"/>
            <a:ext cx="302112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85840" y="698400"/>
            <a:ext cx="4600440" cy="3449880"/>
          </a:xfrm>
          <a:prstGeom prst="rect">
            <a:avLst/>
          </a:prstGeom>
          <a:ln w="0">
            <a:noFill/>
          </a:ln>
        </p:spPr>
      </p:sp>
      <p:sp>
        <p:nvSpPr>
          <p:cNvPr id="157" name="PlaceHolder 2"/>
          <p:cNvSpPr>
            <a:spLocks noGrp="1"/>
          </p:cNvSpPr>
          <p:nvPr>
            <p:ph type="body"/>
          </p:nvPr>
        </p:nvSpPr>
        <p:spPr>
          <a:xfrm>
            <a:off x="929880" y="4386240"/>
            <a:ext cx="51116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33D11-A548-49B5-838B-A3E020077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C3A8-C2BB-4981-8D2E-570AB7E7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F278D-333E-4819-B582-9E02E5957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609F3-5134-47C6-8F1C-140A9BF2B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A255-9C78-4BDF-AFC1-5C86D3483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C8BD0-A2C9-455F-909E-20BC2F934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894FA-50F6-4D9F-AEF3-E5D91115A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6EB1-45BD-4DE0-9B19-AE2C4304B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47427-CBC5-4E0B-AD1C-F0847E4BE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AAA53-C39B-420F-ADCB-6BAAD796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6EC9A-3EDB-4319-A3AA-A856A6FF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F493-6079-4323-B845-8200B1940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1BDC-6823-40A1-A962-CCB756CEC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7480" y="44280"/>
            <a:ext cx="2971800" cy="1089360"/>
          </a:xfrm>
          <a:prstGeom prst="rect">
            <a:avLst/>
          </a:prstGeom>
          <a:ln w="0">
            <a:noFill/>
          </a:ln>
        </p:spPr>
      </p:pic>
      <p:pic>
        <p:nvPicPr>
          <p:cNvPr id="7" name="" descr=""/>
          <p:cNvPicPr/>
          <p:nvPr/>
        </p:nvPicPr>
        <p:blipFill>
          <a:blip r:embed="rId3"/>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52"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UnitOT-Regular"/>
              </a:rPr>
              <a:t>Agosto 2008</a:t>
            </a:r>
            <a:endParaRPr b="0" lang="en-US" sz="2400" spc="-1" strike="noStrike">
              <a:solidFill>
                <a:srgbClr val="000000"/>
              </a:solidFill>
              <a:latin typeface="Arial"/>
            </a:endParaRPr>
          </a:p>
        </p:txBody>
      </p:sp>
      <p:sp>
        <p:nvSpPr>
          <p:cNvPr id="5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71" name=""/>
          <p:cNvSpPr/>
          <p:nvPr/>
        </p:nvSpPr>
        <p:spPr>
          <a:xfrm>
            <a:off x="3276720" y="404640"/>
            <a:ext cx="575928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419640" y="476280"/>
            <a:ext cx="5616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74"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547640" y="404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78"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80"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82"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83"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84"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85"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87"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88"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89"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91"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92"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93"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94"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box(in)"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gtEl>
                                        <p:attrNameLst>
                                          <p:attrName>style.visibility</p:attrName>
                                        </p:attrNameLst>
                                      </p:cBhvr>
                                      <p:to>
                                        <p:strVal val="visible"/>
                                      </p:to>
                                    </p:set>
                                    <p:animEffect filter="box(in)"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4"/>
                                        </p:tgtEl>
                                        <p:attrNameLst>
                                          <p:attrName>style.visibility</p:attrName>
                                        </p:attrNameLst>
                                      </p:cBhvr>
                                      <p:to>
                                        <p:strVal val="visible"/>
                                      </p:to>
                                    </p:set>
                                    <p:animEffect filter="box(in)" transition="in">
                                      <p:cBhvr additive="repl">
                                        <p:cTn id="22" dur="500"/>
                                        <p:tgtEl>
                                          <p:spTgt spid="9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4"/>
                                        </p:tgtEl>
                                        <p:attrNameLst>
                                          <p:attrName>style.visibility</p:attrName>
                                        </p:attrNameLst>
                                      </p:cBhvr>
                                      <p:to>
                                        <p:strVal val="visible"/>
                                      </p:to>
                                    </p:set>
                                    <p:animEffect filter="box(in)"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7"/>
                                        </p:tgtEl>
                                        <p:attrNameLst>
                                          <p:attrName>style.visibility</p:attrName>
                                        </p:attrNameLst>
                                      </p:cBhvr>
                                      <p:to>
                                        <p:strVal val="visible"/>
                                      </p:to>
                                    </p:set>
                                    <p:animEffect filter="box(i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692360" y="404640"/>
            <a:ext cx="7488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106"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108"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109"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111"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112"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114"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115"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914560" y="423720"/>
            <a:ext cx="6121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582720" y="495360"/>
            <a:ext cx="59155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123"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50928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a:t>
            </a:r>
            <a:r>
              <a:rPr b="0" lang="es-MX" sz="4000" spc="-1" strike="noStrike">
                <a:solidFill>
                  <a:srgbClr val="333399"/>
                </a:solidFill>
                <a:latin typeface="UnitOT-Regular"/>
              </a:rPr>
              <a:t> </a:t>
            </a:r>
            <a:r>
              <a:rPr b="1" lang="es-MX" sz="4000" spc="-1" strike="noStrike">
                <a:solidFill>
                  <a:srgbClr val="333399"/>
                </a:solidFill>
                <a:latin typeface="UnitOT-Regular"/>
              </a:rPr>
              <a:t>del informe</a:t>
            </a:r>
            <a:endParaRPr b="0" lang="en-US" sz="4000" spc="-1" strike="noStrike">
              <a:solidFill>
                <a:srgbClr val="000000"/>
              </a:solidFill>
              <a:latin typeface="Arial"/>
            </a:endParaRPr>
          </a:p>
        </p:txBody>
      </p:sp>
      <p:sp>
        <p:nvSpPr>
          <p:cNvPr id="127" name=""/>
          <p:cNvSpPr/>
          <p:nvPr/>
        </p:nvSpPr>
        <p:spPr>
          <a:xfrm>
            <a:off x="250920" y="1773360"/>
            <a:ext cx="835344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1.  Descripción General (Historia y Entorn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Estrategia y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ategia:  Misión, Visión, Objetivos y Valores Organizacionales.</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675240" y="47628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1" name=""/>
          <p:cNvSpPr/>
          <p:nvPr/>
        </p:nvSpPr>
        <p:spPr>
          <a:xfrm>
            <a:off x="395280" y="1860480"/>
            <a:ext cx="8353440" cy="47865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Sistemas de Recursos Humanos</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9560" y="495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5"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58956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9"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23360" y="419040"/>
            <a:ext cx="2288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43"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3860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47" name=""/>
          <p:cNvSpPr/>
          <p:nvPr/>
        </p:nvSpPr>
        <p:spPr>
          <a:xfrm>
            <a:off x="611280" y="1935000"/>
            <a:ext cx="777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ínimo de 4 y máximo de 6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90528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51"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5940360" y="476280"/>
            <a:ext cx="30956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5940360" y="476280"/>
            <a:ext cx="3024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61"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63" name=""/>
          <p:cNvSpPr/>
          <p:nvPr/>
        </p:nvSpPr>
        <p:spPr>
          <a:xfrm>
            <a:off x="3492360" y="549360"/>
            <a:ext cx="561672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65" name=""/>
          <p:cNvSpPr/>
          <p:nvPr/>
        </p:nvSpPr>
        <p:spPr>
          <a:xfrm>
            <a:off x="3492360" y="476280"/>
            <a:ext cx="56898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3059280" y="476280"/>
            <a:ext cx="59054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9" name=""/>
          <p:cNvSpPr/>
          <p:nvPr/>
        </p:nvSpPr>
        <p:spPr>
          <a:xfrm>
            <a:off x="1620720" y="549360"/>
            <a:ext cx="748836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8-08-07T16:03:52Z</dcterms:modified>
  <cp:revision>41</cp:revision>
  <dc:subject/>
  <dc:title>Títul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7988285</vt:r8>
  </property>
  <property fmtid="{D5CDD505-2E9C-101B-9397-08002B2CF9AE}" pid="3" name="_AuthorEmail">
    <vt:lpwstr>carolina_m@terra.cl</vt:lpwstr>
  </property>
  <property fmtid="{D5CDD505-2E9C-101B-9397-08002B2CF9AE}" pid="4" name="_AuthorEmailDisplayName">
    <vt:lpwstr>Carolina Muñoz</vt:lpwstr>
  </property>
  <property fmtid="{D5CDD505-2E9C-101B-9397-08002B2CF9AE}" pid="5" name="_EmailSubject">
    <vt:lpwstr>PPT</vt:lpwstr>
  </property>
</Properties>
</file>