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8FBA-904A-4555-9CD7-8C310DFD8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0A0C-33C2-471E-BC48-86FDE18F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3DEAA6-93AE-4286-BAF2-08AD5590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FCA1DD-8F5A-470B-B1B2-709AB96F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1CDE73-CD71-41AF-9167-269551A0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B22B33-09D0-4F38-BC69-ADF49611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60D24A-7684-4EF7-9658-C0E4397C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560E32-9018-40ED-B077-267C853E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FC6B2D-A795-4C2F-B778-7DDE8297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208EF2-E754-4DD2-A99D-9AE7430C2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FFA84E-3CCD-4CD2-9B0B-7BE06D5AC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0B84BF-BD77-42BC-B89D-9202D5D6A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BB38-B582-4DA2-998E-4866F259D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4DC1FA-60A7-4404-8B22-4AE77641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B59F30-F215-4013-8130-E5FE08E4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3FED16-80B5-4560-8E23-BB968051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7FD174-E8CD-4061-AAA5-3E8C2135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ABDB25-CB83-4815-A32B-944A8C12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F315D5-0428-48EE-A88B-512F81FD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458427-391F-431B-BC4B-D7BA8D72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1B1737-F496-4545-BB87-380C921D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23F99E-9D64-4B03-A0D3-A64143FB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3065D8-5DE4-4AC5-A2B9-2A5B4ADC1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4151-77DF-4271-A885-1145E2C94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9E7979-EFAF-4A34-B8AD-9F3322112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9C224-A7DC-49AC-8391-E7CF2DB79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2629A-4229-4462-8909-FF09A59E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7D764-40C0-41A6-AD32-5034B342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7097D-297F-409C-91D1-F8F7EB45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B1925-1C62-4CA0-B94D-6F1190BA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779F58-E096-41F0-B674-9BA0B69B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C5FF6-8EC6-40AB-9394-AB77C8F5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BF45A-08F7-4CC5-8404-5433FDE3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3A7E9-A424-4F88-A2B3-3FDCD080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DBA3-7BA6-4254-9F34-3ABADF333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8337C-17B8-41E9-BD4B-5BD187CE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5ACB04-5E49-446E-B5B1-A6427864D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A7FE9-585E-4B1E-B211-735E57F3E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F4302E-7433-4498-93CC-BE6A8800A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59FF05-F92E-4748-B43D-2C66983F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52DF06-4F35-4F1A-B97C-A67809DA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BFA9A1-A55F-48F3-BE48-5529C965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95EB31-50E5-42B1-90A0-79793A80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E2FB09-441F-46A4-A388-05D0B351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DFA8BA-8BD6-44BA-877D-A77AF05A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19AE-B997-49B4-8956-72039F2F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0143F1-BD20-48F3-A9A9-42324BD2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FFD03E-4018-4E19-9993-DE86B514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F9055D-4060-47EB-88B7-B2CF4B4E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06E7B8-5A1C-4E9D-8D98-FD10A2DA8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B963CD-6E58-45D5-BD46-5C9B3EB41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E43A-21B8-40E5-843F-B3E256CA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410B-5A15-4A47-8221-F68C7BCC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08C7-0E20-4DE7-BA99-22619E90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9960-BE4D-403B-BD9F-45FEC435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EBFF-A191-4E30-956B-9C0830C9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3868-6C61-462A-B6AD-E64EAE05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9767-6A99-4E3B-91FD-05103196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7EF6-92D5-40FB-95CD-52AFB138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32F7-1F64-4DBF-9E2A-A47A6125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EA49-73A9-4C97-8460-00A387322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1D13-1C33-4F3E-B2DC-BAA21F41B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E8268-B6BD-4DD7-8509-58A1F3874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DF64B-1CFF-409F-94EC-20A6A2AF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F4E07-13CF-40C8-9E1D-392F7DC1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847E1-54BC-4D68-A009-9448AC95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E4AFC-E3DA-4C12-8D70-874CD3D9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3408-5249-41F2-AC51-A3D5196E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B6611-6DA2-428E-83E5-F4645600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78CFD-C587-453B-896E-1E2E0E8E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169D1-C741-40B4-BD0F-E587B2E9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2AC24-8F3A-4862-B387-1E29C9DA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883A2-4540-488D-933F-55AD7A5C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73213-08AA-4541-88C7-8F7ACA397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FA101-070A-4651-87E3-A34E81314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A265C-3047-44D9-9E4D-9A88B1E51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6983B-FC1A-4D16-8291-F665B5CC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4FFB4-A608-4810-B60F-F4217DE7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384E-A05D-4105-9A67-2BADCE93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06700-670F-4AB6-B139-7BA1A8C6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FFE95-BE73-4F70-8EDE-CDF7E28B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D20C1-7BBD-4E88-AFEA-8A02B303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7F06A-97B5-4894-A1D4-80900B31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7FDC0-DD73-43E9-84A4-5C363E5F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B1775-E2D8-4297-9EF6-21A253ED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5BF20-0034-456D-AEFC-3797B59D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FC781-8D7F-41BC-83CE-9DEBD344D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C8201-83DC-4CC5-B3FC-9E466BD8E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10D2E-DD5C-4587-BB75-CC67A86B2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D097-E213-4517-AD94-74C5F96F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A793B-7843-4685-BB0D-5B510D20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55A0D-4BE3-431C-BD81-6DBD0FA7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7A09A-0A97-41AF-8AE2-CD2E59FB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541E7-00A4-4242-83C2-A6FBC0B2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ACE81-EE61-4F65-97B2-59064713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B09A7-CF8B-4053-98A0-9111179D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E8925-1E85-4F06-BC8C-71932D8A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DCB7F-C294-4E68-A61A-D95860D7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0C15D-3CC6-456B-AECA-7E47DE61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33936-19DC-4954-9892-BD214B8DA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7EC0-C704-47BD-824B-A6479E12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DF545-7688-43B5-AC8C-8212D58B5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7AF95-0C80-4D25-9FD5-E228697B6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493C4-CBDF-4944-8F24-95746BBD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FADB5-E22E-4EA2-9943-F6B168D4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C41D9-9E5A-4613-BA50-D8996969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C024C-F1DA-401E-A555-0E68D32F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C4346-4BA3-4493-B167-06B0ECD2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689FB-3C96-41C0-8AC5-B00EA55F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E8FE0-5A89-4F3B-9535-701FA76E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A4572-AA6C-4514-8248-EE86FBD6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BB0A-4053-4825-A650-8661DDB9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71196-3F7C-4CDF-A2DD-968B0227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52CAB-3267-46B5-B1F3-C44100138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F001A-FEEE-4DFC-8207-DC45670D6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FB3D2-4D4F-4279-99F0-9881D243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24BAD-7942-465D-A851-8D1227E8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0EAA6-2D67-4C78-964B-2AB47B81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53C4E-A84E-4AE6-A825-3C4BA8E4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1DD0E-EFDC-4850-9F8A-959F74FF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E262B-7F24-46A1-92E5-9415F230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9ED11-A8E4-464A-ACB4-7AEAA75B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F6DE-DFE1-44A6-B195-9D423E07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1FC6D-EED0-409E-9D66-3C9B78C6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70F6A-6CA6-4153-9C66-FE767CF8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760ED-C874-4343-9F87-8A3FAD3E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F5584-4815-4C47-948F-E10723953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8C1CB-6BAD-4CE5-9EB8-2D9FEEF3F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894E3-F4CE-46DC-8068-171AC59AD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AB014-3546-4669-B370-CCECE1C3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38279-958E-4701-BDA1-E8FDD699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D1F79-46BA-430E-AB68-7BF4CCA0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BA003-8777-4B7D-8BD2-EFDC196F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44DE-547F-4C50-8D23-7E9D0470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76AA5-5DD7-4631-A007-8B525808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A1539-137C-4E9F-B396-0F9966B8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A0336-AF40-4A6A-A563-8CE37CF5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78742-E753-4432-B5A1-AE92A4B0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588E2-F682-4DEC-9705-136E26D5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994E1-882E-46B9-B71C-090EFF5B5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AD1AE-D5CE-4F39-8B70-12ACA025C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3DEE32-6E81-4A81-90F3-013683677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EB3F9E-7189-4B37-B7B0-89F4A9A9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194631-01AA-43A1-9D90-36F6299B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7B80-A06F-46D1-B733-19FF31190E63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19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23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24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25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26 Rectángulo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27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28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29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30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31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0DDA-DE43-4EE0-8A4A-0F5013037463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CF90-A496-4F08-8298-794FC5AAB27B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20 Rectángulo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23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25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26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27 Conector recto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28 Elipse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29 Elipse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5994-3C37-47DB-8D92-9DC33E384ED5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20 Rectángulo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23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24 Rectángulo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25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26 Conector recto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27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28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29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D133-1B11-4DE2-B84D-4BB9231355B2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A18B-B751-4566-834E-750AB8DAD5AB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9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23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24 Rectángulo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25 Rectángulo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26 Rectángulo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27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28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29 Conector recto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30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31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D080-1519-42D4-9E93-89B3F8E9BCEA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19 Conector recto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02F7-60B8-4A74-9299-5802A97CE22B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19 Conector recto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20 Rectángulo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23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25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26 Rectángulo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27 Rectángulo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28 Conector recto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29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30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31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FAAE-2E32-4554-8063-2B428DA673C0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539A-A137-4596-BBEA-239425A84318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20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23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25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26 Rectángulo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6A5B-7014-4FB5-A326-E13C0649EC0A}" type="slidenum"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19 Rectángulo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23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24 Rectángulo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25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26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27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28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29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30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31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F50E-6911-4F01-B3B2-51EB38717006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3571920"/>
            <a:ext cx="64008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646b86"/>
                </a:solidFill>
                <a:latin typeface="Georgia"/>
              </a:rPr>
              <a:t>IN47B – INGENIERÍA DE OPERACIONE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d16349"/>
                </a:solidFill>
                <a:latin typeface="Georgia"/>
              </a:rPr>
              <a:t>Métodos de Reducción de Varianza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8" name="3 CuadroTexto"/>
          <p:cNvSpPr/>
          <p:nvPr/>
        </p:nvSpPr>
        <p:spPr>
          <a:xfrm>
            <a:off x="4714920" y="5429160"/>
            <a:ext cx="428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eorgia"/>
              </a:rPr>
              <a:t>Primavera 2008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eorgia"/>
              </a:rPr>
              <a:t>Profesor de Cátedra: Fernando Ordoñez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eorgia"/>
              </a:rPr>
              <a:t>Profesor Auxiliar: Cristóbal Mestr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La ide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Georgia"/>
              </a:rPr>
              <a:t>Queremos conocer un intervalo de confianza para alguna estimación en especial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46b86"/>
                </a:solidFill>
                <a:latin typeface="Georgia"/>
              </a:rPr>
              <a:t>Ej: Temperatura promedio a las 13:00hrs en Santiago.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Georgia"/>
              </a:rPr>
              <a:t>(con esto trabajaremos)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Georgia"/>
              </a:rPr>
              <a:t>Poseemos datos sobre el comportamiento histórico, pero no completo de lo que queremos medir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46b86"/>
                </a:solidFill>
                <a:latin typeface="Georgia"/>
              </a:rPr>
              <a:t>Sólo poseemos los últimos 365 días de información.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Georgia"/>
              </a:rPr>
              <a:t>Además sabemos el histórico de un elemento que covaría positivamente con lo que queremos conocer, y su esperanza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46b86"/>
                </a:solidFill>
                <a:latin typeface="Georgia"/>
              </a:rPr>
              <a:t>Esperanza de lluvia en un día y los días que llovió el año recién pasado.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1" name="5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La idea (2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Claramente cuando llueve hay menor temperatura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El histórico de la lluvia, con su esperanza nos debieran ayudar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5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Cómo otro dato nos ayuda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Georgia"/>
              </a:rPr>
              <a:t>Calculamos el promedio de lluvias en un día en Santiago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19840" indent="-2592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46b86"/>
                </a:solidFill>
                <a:latin typeface="Georgia"/>
              </a:rPr>
              <a:t>Ojo, promedio de 365 distinto de la esperanza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19840" indent="-2592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46b86"/>
                </a:solidFill>
                <a:latin typeface="Georgia"/>
              </a:rPr>
              <a:t>Esperanza  supone infinitos dato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59200" indent="-25920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Georgia"/>
              </a:rPr>
              <a:t>Si el promedio de lluvias es mayor que la esperanza, fue un año lluvioso; claramente más frío también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Georgia"/>
              </a:rPr>
              <a:t>Significa que el promedio de temperatura que obtuvimos es menor que la esperanza de la temperatura real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19840" indent="-2592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46b86"/>
                </a:solidFill>
                <a:latin typeface="Georgia"/>
              </a:rPr>
              <a:t>Con esto, las lluvias nos ayudan a ver de forma más exacta la temperatura.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17" name="5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En el ejemplo se tien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Xi: Temperatura de Santiago en día i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Zi: Lluvias en Santiago (Control Variate) día i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E(Z): Esperanza de Lluvias (distinto a promedio)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Luego tenemos el sig estimador insesgad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36400" indent="-267120" algn="ctr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200" spc="-1" strike="noStrike">
                <a:solidFill>
                  <a:srgbClr val="646b86"/>
                </a:solidFill>
                <a:latin typeface="Georgia"/>
              </a:rPr>
              <a:t>X</a:t>
            </a:r>
            <a:r>
              <a:rPr b="0" i="1" lang="es-CL" sz="2200" spc="-1" strike="noStrike">
                <a:solidFill>
                  <a:srgbClr val="646b86"/>
                </a:solidFill>
                <a:latin typeface="Georgia"/>
              </a:rPr>
              <a:t>c</a:t>
            </a:r>
            <a:r>
              <a:rPr b="0" i="1" lang="pl-PL" sz="2200" spc="-1" strike="noStrike">
                <a:solidFill>
                  <a:srgbClr val="646b86"/>
                </a:solidFill>
                <a:latin typeface="Georgia"/>
              </a:rPr>
              <a:t> = X</a:t>
            </a:r>
            <a:r>
              <a:rPr b="0" i="1" lang="es-CL" sz="2200" spc="-1" strike="noStrike">
                <a:solidFill>
                  <a:srgbClr val="646b86"/>
                </a:solidFill>
                <a:latin typeface="Georgia"/>
              </a:rPr>
              <a:t>i</a:t>
            </a:r>
            <a:r>
              <a:rPr b="0" i="1" lang="pl-PL" sz="2200" spc="-1" strike="noStrike">
                <a:solidFill>
                  <a:srgbClr val="646b86"/>
                </a:solidFill>
                <a:latin typeface="Georgia"/>
              </a:rPr>
              <a:t> + c(Z </a:t>
            </a:r>
            <a:r>
              <a:rPr b="0" i="1" lang="es-CL" sz="2200" spc="-1" strike="noStrike">
                <a:solidFill>
                  <a:srgbClr val="646b86"/>
                </a:solidFill>
                <a:latin typeface="Georgia"/>
              </a:rPr>
              <a:t>i-</a:t>
            </a:r>
            <a:r>
              <a:rPr b="0" i="1" lang="pl-PL" sz="2200" spc="-1" strike="noStrike">
                <a:solidFill>
                  <a:srgbClr val="646b86"/>
                </a:solidFill>
                <a:latin typeface="Georgia"/>
              </a:rPr>
              <a:t> E(Z)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36400" indent="-267120" algn="ctr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646b86"/>
                </a:solidFill>
                <a:latin typeface="Georgia"/>
              </a:rPr>
              <a:t>c = Cte arbitraria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Si aplicamos Varianza y derivamos con respecto a c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36400" indent="-267120" algn="ctr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300" spc="-1" strike="noStrike">
                <a:solidFill>
                  <a:srgbClr val="646b86"/>
                </a:solidFill>
                <a:latin typeface="Georgia"/>
              </a:rPr>
              <a:t>c*</a:t>
            </a:r>
            <a:r>
              <a:rPr b="0" i="1" lang="es-CL" sz="9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i="1" lang="es-CL" sz="2300" spc="-1" strike="noStrike">
                <a:solidFill>
                  <a:srgbClr val="646b86"/>
                </a:solidFill>
                <a:latin typeface="Georgia"/>
              </a:rPr>
              <a:t>= </a:t>
            </a:r>
            <a:r>
              <a:rPr b="0" lang="es-CL" sz="2300" spc="-1" strike="noStrike">
                <a:solidFill>
                  <a:srgbClr val="646b86"/>
                </a:solidFill>
                <a:latin typeface="Georgia"/>
              </a:rPr>
              <a:t>Cov(</a:t>
            </a:r>
            <a:r>
              <a:rPr b="0" i="1" lang="es-CL" sz="2300" spc="-1" strike="noStrike">
                <a:solidFill>
                  <a:srgbClr val="646b86"/>
                </a:solidFill>
                <a:latin typeface="Georgia"/>
              </a:rPr>
              <a:t>X, Z)/</a:t>
            </a:r>
            <a:r>
              <a:rPr b="0" lang="es-CL" sz="2300" spc="-1" strike="noStrike">
                <a:solidFill>
                  <a:srgbClr val="646b86"/>
                </a:solidFill>
                <a:latin typeface="Georgia"/>
              </a:rPr>
              <a:t>Var(</a:t>
            </a:r>
            <a:r>
              <a:rPr b="0" i="1" lang="es-CL" sz="2300" spc="-1" strike="noStrike">
                <a:solidFill>
                  <a:srgbClr val="646b86"/>
                </a:solidFill>
                <a:latin typeface="Georgia"/>
              </a:rPr>
              <a:t>Z)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20" name="5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Formul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Var(</a:t>
            </a:r>
            <a:r>
              <a:rPr b="0" i="1" lang="es-CL" sz="2700" spc="-1" strike="noStrike">
                <a:solidFill>
                  <a:srgbClr val="000000"/>
                </a:solidFill>
                <a:latin typeface="Georgia"/>
              </a:rPr>
              <a:t>Xc) = Var(X) –</a:t>
            </a: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Cov(</a:t>
            </a:r>
            <a:r>
              <a:rPr b="0" i="1" lang="es-CL" sz="2700" spc="-1" strike="noStrike">
                <a:solidFill>
                  <a:srgbClr val="000000"/>
                </a:solidFill>
                <a:latin typeface="Georgia"/>
              </a:rPr>
              <a:t>X, Z)</a:t>
            </a:r>
            <a:r>
              <a:rPr b="0" i="1" lang="es-CL" sz="27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i="1" lang="es-CL" sz="2700" spc="-1" strike="noStrike">
                <a:solidFill>
                  <a:srgbClr val="000000"/>
                </a:solidFill>
                <a:latin typeface="Georgia"/>
              </a:rPr>
              <a:t>/</a:t>
            </a: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Var(</a:t>
            </a:r>
            <a:r>
              <a:rPr b="0" i="1" lang="es-CL" sz="2700" spc="-1" strike="noStrike">
                <a:solidFill>
                  <a:srgbClr val="000000"/>
                </a:solidFill>
                <a:latin typeface="Georgia"/>
              </a:rPr>
              <a:t>Z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Sugiere que a mayor covarianza entre X y nuestro control variate, tendremos menor varianza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Lo que significa que se reduce también el intervalo de confianza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5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Un ejemplo práctico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680" y="1527120"/>
            <a:ext cx="3627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Precio de una cal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Lo que genero en T período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Precio de la Call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S</a:t>
            </a:r>
            <a:r>
              <a:rPr b="0" lang="es-CL" sz="2200" spc="-1" strike="noStrike" baseline="-25000">
                <a:solidFill>
                  <a:srgbClr val="646b86"/>
                </a:solidFill>
                <a:latin typeface="Georgia"/>
              </a:rPr>
              <a:t>t </a:t>
            </a: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sigue Browniano Geométrico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626" name="Picture 3" descr=""/>
          <p:cNvPicPr/>
          <p:nvPr/>
        </p:nvPicPr>
        <p:blipFill>
          <a:blip r:embed="rId1"/>
          <a:stretch/>
        </p:blipFill>
        <p:spPr>
          <a:xfrm>
            <a:off x="3862440" y="2071800"/>
            <a:ext cx="3852720" cy="97128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4" descr=""/>
          <p:cNvPicPr/>
          <p:nvPr/>
        </p:nvPicPr>
        <p:blipFill>
          <a:blip r:embed="rId2"/>
          <a:stretch/>
        </p:blipFill>
        <p:spPr>
          <a:xfrm>
            <a:off x="4214880" y="3286080"/>
            <a:ext cx="3000240" cy="35712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5" descr=""/>
          <p:cNvPicPr/>
          <p:nvPr/>
        </p:nvPicPr>
        <p:blipFill>
          <a:blip r:embed="rId3"/>
          <a:stretch/>
        </p:blipFill>
        <p:spPr>
          <a:xfrm>
            <a:off x="4500720" y="4286160"/>
            <a:ext cx="3100320" cy="7192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6" descr=""/>
          <p:cNvPicPr/>
          <p:nvPr/>
        </p:nvPicPr>
        <p:blipFill>
          <a:blip r:embed="rId4"/>
          <a:stretch/>
        </p:blipFill>
        <p:spPr>
          <a:xfrm>
            <a:off x="4514760" y="5429160"/>
            <a:ext cx="2157480" cy="428760"/>
          </a:xfrm>
          <a:prstGeom prst="rect">
            <a:avLst/>
          </a:prstGeom>
          <a:ln w="0">
            <a:noFill/>
          </a:ln>
        </p:spPr>
      </p:pic>
      <p:sp>
        <p:nvSpPr>
          <p:cNvPr id="630" name="5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Datos necesario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1320" y="1527120"/>
            <a:ext cx="4056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Para  i= (1,…,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Es decir, genero n valores aleatorio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Pago esperad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Tres posibles Control Variat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3" name="Picture 2" descr=""/>
          <p:cNvPicPr/>
          <p:nvPr/>
        </p:nvPicPr>
        <p:blipFill>
          <a:blip r:embed="rId1"/>
          <a:stretch/>
        </p:blipFill>
        <p:spPr>
          <a:xfrm>
            <a:off x="5072040" y="1785960"/>
            <a:ext cx="3114720" cy="64296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3" descr=""/>
          <p:cNvPicPr/>
          <p:nvPr/>
        </p:nvPicPr>
        <p:blipFill>
          <a:blip r:embed="rId2"/>
          <a:stretch/>
        </p:blipFill>
        <p:spPr>
          <a:xfrm>
            <a:off x="5072040" y="2928960"/>
            <a:ext cx="2214720" cy="9604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4" descr=""/>
          <p:cNvPicPr/>
          <p:nvPr/>
        </p:nvPicPr>
        <p:blipFill>
          <a:blip r:embed="rId3"/>
          <a:stretch/>
        </p:blipFill>
        <p:spPr>
          <a:xfrm>
            <a:off x="4929120" y="4286160"/>
            <a:ext cx="3267000" cy="1400400"/>
          </a:xfrm>
          <a:prstGeom prst="rect">
            <a:avLst/>
          </a:prstGeom>
          <a:ln w="0">
            <a:noFill/>
          </a:ln>
        </p:spPr>
      </p:pic>
      <p:sp>
        <p:nvSpPr>
          <p:cNvPr id="636" name="5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17:43:16Z</dcterms:created>
  <dc:creator>Cristóbal</dc:creator>
  <dc:description/>
  <dc:language>en-US</dc:language>
  <cp:lastModifiedBy>Cristóbal</cp:lastModifiedBy>
  <dcterms:modified xsi:type="dcterms:W3CDTF">2008-08-23T23:22:35Z</dcterms:modified>
  <cp:revision>18</cp:revision>
  <dc:subject/>
  <dc:title>Métodos de Reducción de Varianza</dc:title>
</cp:coreProperties>
</file>