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87A-CE74-4156-A20C-E0C90BAD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1BF-E3B9-4375-9A32-8057B605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68226-2ADF-4FBD-AC32-6FC89A6A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CE464-8697-443E-9A53-4EC7813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DB982-B75F-47AB-AB9F-7BDA3129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30701-EB1B-45D8-B968-46E0EED5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23C97-CF41-4886-8393-F968DC2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4478A-C2C4-442B-B277-9C819E9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43469-037C-4883-B9BB-40AA4B6F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C9039-E7DA-4FED-BF5F-DE597B6C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6A43C-6064-4E5A-9ADE-8AB68A9C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0C7E8-66ED-4347-9D17-C9B8D356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FBA-4792-4F74-AF12-80B01F81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A4B6A-065D-4BAB-9F1C-962EB180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99F00-9175-41F1-AE2C-A870E25B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A1041-7535-4308-B5CF-D8CC1C23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0DC0E-AA97-4506-877F-82C240E6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E8AD9-1624-4897-8DF0-1409CC9C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F9A3C-B17C-4BE2-9A5B-B695A2FA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77058-4609-4993-B78A-62CDDD64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CF663-F1B1-47F8-A8A8-ECBF0740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416C4-1FBF-4750-9FBF-A4EC1909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E16AC-B2C2-4AD8-AAE0-F8D06D71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6EC-9F63-48C0-8D61-CAAF9BB5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D7303-D030-4B14-ADFF-5730F043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C016B-47DF-49A4-A018-5E873073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B4B7-44A2-4A1E-B783-ADE8D6CF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D7EA8-4AA1-4B78-A1C2-3274997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AC9CF-27E2-46EF-988E-D9740EE6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BC748-B95B-4A00-9EAE-A75615B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FA35B-97FE-45FC-9F98-DF84D184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5D3A9-1AF8-411C-99FD-157E6E2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13583-F127-4CF3-8DED-577EB7D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C6DD8-F899-4518-B1E2-EFBF37D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517D-9389-4E33-9098-E3E4B9E0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98C0C-273F-40AB-881E-0CD4AF27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2E718-77A5-4A53-9F60-FEAC7760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D480A-DE2D-4EEE-BA29-2F85A307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3C162-C338-4A35-B766-C8A4ACB4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F9BBF-4582-44C3-B361-E544C4B8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1D5F9-EEF5-42EB-8D22-EDCF20C2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099F9-344B-415C-A9E2-D988E233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63D25-F7E1-4878-8A61-E0A601F4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A4809-0191-40D8-A806-36E8D40B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751C1-0195-44F6-AEC8-8C0F3E41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DFFB-F188-4844-8CDA-27A758B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67B8A-8FBA-4B6F-A743-9DAFEC2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1D9F5-0CDC-46D0-A1AB-98732B8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98ADA-C96E-4D93-B46E-DF4312B3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48B94-BBDF-4569-A084-9EB35C25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7A0D8-48A3-4A3D-B17E-E80D7C0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ED2B-86E6-4403-8C05-023E1BED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9FC2-C600-49A2-B33D-2420B128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FFAC-4DED-4B0C-8FBA-B119AFE8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E11-50BD-470B-BEBB-4765DE7B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7A4A-41BE-45BF-B540-0448C114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AE0-D8BB-4671-9FC3-05F559A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8B4A-D554-4AC7-B270-C56520A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D0DE-3A66-4929-BC30-79771B8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AB12-710E-4451-BD1D-2AC4327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A298-3FB2-4A76-A719-8E66E36F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3072-E42C-419C-ABA1-DCD3DBC5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7411-3703-44F8-B247-26E55195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034D-AE4A-4A2A-AD26-891C9F0A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74F0-370B-4CFA-A682-E50E8B4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46CD-9405-4A7F-A2C4-3A705ED2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A581-E3F2-418A-A431-E7A14F03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41C-7CEC-4189-85E5-42E70B7D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B598-3120-43A7-A7BD-077F940E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E78B-9233-422A-9243-2D3FEE8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B9A2-2652-440A-BFF7-40B9CBC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F505-62E9-46C1-9B83-C6D0F16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B46D-4F32-4646-810F-E599C9B2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99DD-1F1B-4F92-BC76-D6988068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328D-7987-4180-ACBD-5ADB1A41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3C96-E1E4-4BE4-A372-60A2B241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23FF1-CD94-4621-81A6-F45F98DA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5A9A-3A1E-4ED3-9F90-DAB42AED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839-1C98-4ED6-A629-B87517D4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7512-0FB2-42E8-A2F4-9F9426F5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E632-3618-4EF6-89AB-79F00AB9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DA05-179E-49D5-B8B0-F68AEB91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0DEF-B678-4C74-92FB-9AC94BA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67B9-8BF2-4292-ADA7-201A580C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7479-FF12-4354-BEDF-C0FAECB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A7B7-8E9D-4732-B978-BEFE0142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F53A3-0879-4810-BEDD-BEB976E2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E1BB-4949-4A5B-BA94-6EB290FE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D35FB-1F61-49E4-A3FE-E291DC9F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FB5-1748-4E42-AD19-D56D06C3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B7F26-07D0-48F8-99D6-5F4A60E1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ADB6F-3320-47C6-9C35-6067E5CE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EF526-3806-41BA-B76B-68AEEF71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66D3-B785-4896-BC1A-329180AB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1868-9C19-4128-AC87-A29C7934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BE8D9-69C6-47B1-9156-005288E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4C110-B4FE-4A6B-9AD5-1ECC013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3AABA-8935-419F-A714-8998346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483D-B3C6-4FE3-AB69-F88611A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ECA0-E87B-4D99-A641-E34EBBDF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68A-BA49-40B8-B5E1-38C91EE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3FCEC-643C-4E3F-BD68-FAB774A0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99CC4-B174-4F73-8FBC-9C48FCF9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0A12-A338-4057-92FC-E73BEE01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B4A62-CDC9-4FA4-AAA8-AB1725E6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47AF-8C48-48E3-8BAF-02F1E350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923E5-D01E-489A-B0EB-8452C67B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B4406-5F4E-4ABC-87E1-775D3491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AC71-1BDD-4FEF-BD1E-3714F93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67E34-C58A-417B-8DCA-DB01DD6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FA9C-A0F3-4D73-9B12-131B774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DC8-DB36-4569-95AB-F6865F44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AA1A-D4FD-4E64-9B5A-31C42DC8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427EC-1D4C-4E1A-A86A-E4841604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39F0-3C4C-47D2-BBE1-58EA3B2C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160A-82F0-41E8-BB19-80F4349B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B508-3C5F-47F9-B1D2-7E66D96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FEF2-45CD-483D-BA71-BF381FEB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2FC73-2BAB-442D-B26F-279729F2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4CE47-D50A-42BB-9929-949B247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1425-5BF1-4B8E-AF35-153C25E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665B2-778C-48A6-A728-A7E4844D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D83-E0E4-47B0-91B5-014CE304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B0AEE-892C-4893-A8A3-D4E35970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BAE8D-DA3A-4F8B-9C51-F39619A1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BDDD-B0DA-48E5-8234-5D859DF0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96359-1469-4857-BB17-CFB2B077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92B6-85DE-4F12-A7C7-D2174224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90F8B-26A3-4551-956A-1A072EF6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7E47E-462B-4CE7-8243-F4A8D407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3B982-CD42-4035-AC6C-EB85EE84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346C0-8B1E-417A-8728-075F6037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16DC-AF0E-44F7-B175-D76BF889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A77-7EDE-485D-A7AC-B5ACC65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8D41F-F0F3-472F-A2E8-617CA844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D03E8-7A25-47D5-BDCA-D1B44954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B25E0-16D7-4242-A6DA-F579617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92F84-DD5E-49E7-86D2-9FF0779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9B94E-7ADF-433B-A74E-B5B88239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CB67D-65B2-4CE1-8ED8-FC88EE7D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1FD5C-BBA6-4A91-B43C-001C8E6A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AD9F3-5307-4845-8045-FABDBD1A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14381-401A-4699-9C62-FCD41A11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292D4-8DF7-49C8-A155-A71310F5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6B8C-AE87-46ED-AF87-08CF4D510723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E4C0-63B2-4FBE-A6CC-494B2D3BDDB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915F-643A-44EA-85FE-75FBA93933A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684F-854C-4585-B275-AA3F06C3FD6E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398E-D898-4D7D-A84B-DFE1777785A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CDF4-4A5C-439F-9FE8-6627FC482481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F0B5-9FA6-472F-8BC7-C79502E767A0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5E4B-CE29-48DE-A4BD-A8E66FCC0C69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FB6-774F-453C-A4DB-D59A4A424FD6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BBA0-C8A7-4521-B4DB-F04C1F0E2D37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31C1-CD76-4504-B566-2706CD698560}" type="slidenum"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4263-CA60-4842-8729-FD22AAC764E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46b86"/>
                </a:solidFill>
                <a:latin typeface="Georgia"/>
              </a:rPr>
              <a:t>IN47B – INGENIERÍA DE OPERACIO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d16349"/>
                </a:solidFill>
                <a:latin typeface="Georgia"/>
              </a:rPr>
              <a:t>Métodos de Reducción de Varianz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4714920" y="54291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de Cátedra: Fernando Ordoñez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Auxiliar: Cristóbal Mest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La ide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Queremos conocer un intervalo de confianza para alguna estimación en especi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j: Temperatura promedio a las 13:00hrs en Santiago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Georgia"/>
              </a:rPr>
              <a:t>(con esto trabajaremos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Poseemos datos sobre el comportamiento histórico, pero no completo de lo que queremos medir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Sólo poseemos los últimos 365 días de información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Además sabemos el histórico de un elemento que covaría positivamente con lo que queremos conocer, y su esperanza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speranza de lluvia en un día y los días que llovió el año recién pasado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La idea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laramente cuando llueve hay menor temperatu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l histórico de la lluvia, con su esperanza nos debieran ayudar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ómo otro dato nos ayuda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Calculamos el promedio de lluvias en un día en Santiago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Ojo, promedio de 365 distinto de la esperanza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speranza  supone infinitos dato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Si el promedio de lluvias es mayor que la esperanza, fue un año lluvioso; claramente más frío tambié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Significa que el promedio de temperatura que obtuvimos es menor que la esperanza de la temperatura re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Con esto, las lluvias nos ayudan a ver de forma más exacta la temperatura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7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En el ejemplo se tie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Xi: Temperatura de Santiago en día 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Zi: Lluvias en Santiago (Control Variate) día 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(Z): Esperanza de Lluvias (distinto a promedi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Luego tenemos el sig estimador insesga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 algn="ctr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= X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i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+ c(Z 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i-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E(Z)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 algn="ctr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c = Cte arbitrari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i aplicamos Varianza y derivamos con respecto a c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 algn="ctr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c*</a:t>
            </a:r>
            <a:r>
              <a:rPr b="0" i="1" lang="es-CL" sz="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0" lang="es-CL" sz="2300" spc="-1" strike="noStrike">
                <a:solidFill>
                  <a:srgbClr val="646b86"/>
                </a:solidFill>
                <a:latin typeface="Georgia"/>
              </a:rPr>
              <a:t>Cov(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X, Z)/</a:t>
            </a:r>
            <a:r>
              <a:rPr b="0" lang="es-CL" sz="2300" spc="-1" strike="noStrike">
                <a:solidFill>
                  <a:srgbClr val="646b86"/>
                </a:solidFill>
                <a:latin typeface="Georgia"/>
              </a:rPr>
              <a:t>Var(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Z)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Formul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Xc) = Var(X) –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ov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X, Z)</a:t>
            </a:r>
            <a:r>
              <a:rPr b="0" i="1" lang="es-CL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Z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ugiere que a mayor covarianza entre X y nuestro control variate, tendremos menor varianz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o que significa que se reduce también el intervalo de confianza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Un ejemplo práctic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680" y="1527120"/>
            <a:ext cx="3627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ecio de una c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o que genero en T períod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recio de la Cal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</a:t>
            </a:r>
            <a:r>
              <a:rPr b="0" lang="es-CL" sz="2200" spc="-1" strike="noStrike" baseline="-25000">
                <a:solidFill>
                  <a:srgbClr val="646b86"/>
                </a:solidFill>
                <a:latin typeface="Georgia"/>
              </a:rPr>
              <a:t>t </a:t>
            </a: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igue Browniano Geométric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3862440" y="2071800"/>
            <a:ext cx="3852720" cy="971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2"/>
          <a:stretch/>
        </p:blipFill>
        <p:spPr>
          <a:xfrm>
            <a:off x="4214880" y="328608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3"/>
          <a:stretch/>
        </p:blipFill>
        <p:spPr>
          <a:xfrm>
            <a:off x="4500720" y="4286160"/>
            <a:ext cx="3100320" cy="719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4"/>
          <a:stretch/>
        </p:blipFill>
        <p:spPr>
          <a:xfrm>
            <a:off x="4514760" y="5429160"/>
            <a:ext cx="2157480" cy="428760"/>
          </a:xfrm>
          <a:prstGeom prst="rect">
            <a:avLst/>
          </a:prstGeom>
          <a:ln w="0">
            <a:noFill/>
          </a:ln>
        </p:spPr>
      </p:pic>
      <p:sp>
        <p:nvSpPr>
          <p:cNvPr id="630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Datos necesari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405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ra  i= (1,…,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Es decir, genero n valores aleatori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go espera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Tres posibles Control Vari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5072040" y="1785960"/>
            <a:ext cx="3114720" cy="6429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5072040" y="2928960"/>
            <a:ext cx="2214720" cy="9604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"/>
          <p:cNvPicPr/>
          <p:nvPr/>
        </p:nvPicPr>
        <p:blipFill>
          <a:blip r:embed="rId3"/>
          <a:stretch/>
        </p:blipFill>
        <p:spPr>
          <a:xfrm>
            <a:off x="4929120" y="4286160"/>
            <a:ext cx="3267000" cy="1400400"/>
          </a:xfrm>
          <a:prstGeom prst="rect">
            <a:avLst/>
          </a:prstGeom>
          <a:ln w="0">
            <a:noFill/>
          </a:ln>
        </p:spPr>
      </p:pic>
      <p:sp>
        <p:nvSpPr>
          <p:cNvPr id="636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7:43:16Z</dcterms:created>
  <dc:creator>Cristóbal</dc:creator>
  <dc:description/>
  <dc:language>en-US</dc:language>
  <cp:lastModifiedBy>Cristóbal</cp:lastModifiedBy>
  <dcterms:modified xsi:type="dcterms:W3CDTF">2008-08-23T23:22:35Z</dcterms:modified>
  <cp:revision>18</cp:revision>
  <dc:subject/>
  <dc:title>Métodos de Reducción de Varianza</dc:title>
</cp:coreProperties>
</file>