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31CD-13CE-48AC-9090-908D17C18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5E25-62ED-4174-B1C3-4FF3E0EA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E8FCDC-AE9A-4A89-B405-74D2831C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27C530-BD61-4BA2-8961-83D25EB2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6C0EFC-14C1-482C-9DF5-49F8F644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0A553D-C5AA-49DD-90B3-9C93DC39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D10EB9-95A4-4A35-9C45-876EEBF8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3CCCD8-A34A-47CF-B539-721654DC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CFAEC6-F77E-44DB-BB36-35F4CE6F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AE41A9-476D-4073-BC0E-D8D50CA6C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6FFA51-C437-468E-8101-7C79107A0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E4DF55-3BD9-47C5-803F-08864898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08E6-486A-40A1-B043-AA909A2ED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CE1729-773B-4598-95AD-00941A3E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8B25BE-FE00-4391-857E-7BFBFA69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D690B3-B1F1-439D-AB97-D239C367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42A364-5099-4E70-A449-04F4AC23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EE0E71-CA88-43E0-BB25-A6FF0093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FA7097-642D-4D5F-986F-BC364AFC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91A913-9ECA-4BB8-ADE8-5FDD14FB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FE8B09-F8FF-4867-9CC0-1EB84B64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AE1F65-0A88-4300-B79A-4FAC720C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0F2479-DEA0-4087-B1CD-A82D82B50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8CB7-846D-43C3-A5D2-67A43580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D4F9B5-C4F5-4E81-9A4D-6D3AFFA44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57C79-2227-4B65-83BB-31AB4295D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9E243-F541-4F1B-B640-4BE9F733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5054A-1D2C-4837-8A98-7E57C6A0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3FF53-7A31-41A0-94EB-6FEB726F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E7C8F-8229-4179-B723-D68231CD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AB7BE-668C-4C8B-9D9C-7B1B382D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F9F6A-4696-40FA-8A2A-3D9F5C97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EB4E7-D185-47E4-B4DA-94239C0D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F47F5-B4BE-4C6C-9F35-64276383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02C9-FE2F-4AC4-9013-54035908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E635B-4CEC-4D80-A1A6-C8D630B2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2D3CF-B526-4DF6-97F3-F9A92FB60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E2319-3579-4D72-BAC5-AAE8E78C0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D53D9A-9E13-46E3-BD70-69EF90115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78E510-7D48-439E-B2E6-0B41E12C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09AC1C-22BD-4E1E-88EB-93534D04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FDAEB8-255C-4716-A230-914498A7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B928E0-1433-4C26-AA1D-8AD32059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B61C41-0B77-4C55-A03E-AB152F73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A466CF-C5E3-4D85-9D34-51FE2C42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F306-80B0-458B-8AEE-05E57350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07583B-7AB4-4FE2-9883-E25E7D97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2F6304-E94B-4354-95ED-93561A8D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BAC16C-12D0-47ED-A577-C2BD72A3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2016BC-6A30-487C-A480-CF458EE1C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CF0BB4-64DF-4D1E-830F-86F3870F9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F06A-778A-4EAC-9318-CA03F2A0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8033-3404-45D5-A9F5-06780EEF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00D8-C56D-4ABF-A58F-0C26AF28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5090-8632-4962-A7E5-83D50A8C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5662-133E-4E8D-B57E-100ECC94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1E5B-D5C5-4908-846E-6175BEDC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C087-8223-4D14-8A1A-B36A7E3B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B243-86DD-4B63-A8EC-DB48DBE9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1370-3CBA-40DA-976D-3F4015AE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9DD8-67CB-49BF-8045-F4626D038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0BF6-E106-412E-9611-9CB3BF9C3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821CD-AA03-4232-84EF-AF36DB245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DDD4E-9612-4B43-9F88-F738A4A3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E2BF4-471A-4471-AF4C-0140CFA2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E2B99-D2E1-4935-A52F-C694F924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7B9E3-4254-4790-8639-13D9DA9B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5A84-CB59-4872-8CCB-6B834D07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82790-F7DC-46C9-8C9E-26FD431D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7FE59-49FB-4CE4-AEE5-8168EA98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E9C01-4AA0-4D2A-B596-60A9B956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31AB5-AF4B-4145-AE1E-29A0C747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69D93-5855-4C60-BBC0-E07935FA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E15E7-E672-4CA7-ABFC-B53E1442F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17729-A5E3-41A9-9763-DD4971906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26B45-9BEC-4D56-895F-DB99FB93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0733F-CB2F-48EB-97CD-84EF6CDC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0A52F-A487-4BC5-8BA2-6320C038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1F4A-5F37-4C79-B273-648C3717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337FD-603A-4BE9-860D-1FBAB968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8264B-E677-42A7-984B-FCCC0E62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4C9A0-F9C4-4404-850E-24F82398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08088-CB9B-4194-9350-CCB301E4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F45AB-A0EB-41F3-BF69-872651ED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7F390-92EC-4CC1-9CEA-6A4877C7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56EA3-B1CA-4E03-8689-CF00196C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6DEF6-A864-4ACA-B227-83B710370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74E9F-049E-445E-AA4E-FA3BC6DEB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58DE1-C704-4E32-9F7D-854D62A4B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BBB8-1BB3-43A5-A524-38DD6F4C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47A31-F64A-4ACD-8E2B-F0613D05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790B5-0AAD-4F68-8E04-0EC80153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235A4-69D6-4187-B5DC-38169F81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6155A-B325-4BE8-B803-4B72CAA8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F4E6B-CB4F-4A1F-9DF4-856D1CE6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449F2-CF7C-4066-AF89-D0083AAD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39618-AA94-4922-8AAF-44C613B6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6A0B8-F8F2-474C-96F0-D099DD21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4F87E-1BAF-4E8F-B345-6691AF0C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A8116-2C85-44F3-A8D4-3E7B3BC74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A05C-703B-4DC3-B150-87AD5736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A4BF5-973C-4871-A385-C1C393823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C4E9B-FBF6-483F-8C3C-283D5355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A8E28-E597-4CD7-887B-8074E5B8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81014-9445-48EC-9720-CCB554F4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85E43-606C-47B3-9115-5561E13E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E2F6A-C34E-403B-A59D-1183669B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2B9F6-CFA6-47BC-B3D9-C3F29F64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2FD3F-85E8-42B9-9713-3AB8F0E1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446CC-CAE7-49AD-A363-52CED5AA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87300-344F-481F-ADC2-6EF19E3D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736D-7954-464A-83D0-D3CDACEE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BA67A-3AA5-4989-9427-E62F6238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414F6-83F6-45FB-8843-A4D532C0A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45E4F-92F9-4EA6-8119-0B59E2192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D9EC1-0430-4A61-94D1-28CD958D0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C5CE0-0DD9-4C32-9AD3-3C17E7FE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A2A49-8830-4D0E-91F8-98915359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A99F2-4BD1-41E6-BCE5-5CA6C938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D8B23-D42E-40E3-8CD1-A55DF1B3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9AC84-A303-4F2E-901F-57D9A654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3DBB1-4486-49C3-9378-56970004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F505-1399-4C32-8A2D-0CAE4D99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6CDD4-3C8C-4141-BAED-1C071689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AB770-E1EC-4699-A9BD-FFABEB40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8B27F-FE24-41A6-B396-E8280E48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CD680-AA88-410A-8314-6DA09CFF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FAA7E-864B-4884-9DCF-446BC10A7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91118-AB32-40C8-82AE-39E0F7695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2FC91-7445-41F1-B43B-E7E83F17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AD1BA-7D8D-40D9-8F37-7AD047D6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099CF-99FA-4C4E-AE0A-33777DB8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D00F5-17E2-4C9D-8D67-E33711A8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A037-0615-4DC7-82D2-1E3979E3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C3791-EFCC-4026-B438-3DA927E7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006F2-7968-4B67-955A-859CE5C1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227DB-C84C-4027-9961-D49EAB51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D3173-DC7E-4FE2-8613-00C7BCD4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4733E-9237-43C9-95D7-241A9193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F4917-DFE5-4973-AB4F-521EB8674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012E7-80CF-42A5-B2F5-3FDFAF26E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BDF00C-8597-416A-AA00-E52076AE0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B901E8-2455-4D70-A184-04816940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5A407C-85DC-43EB-BBFD-B83E80E8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42A7-D419-455F-993B-0A7107619AE0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19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23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24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25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26 Rectángulo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27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28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29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30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31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8D50-AADC-4817-BB3B-2ED7248C0C80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BF90-E3F9-4D0B-BFC4-0008309F6852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20 Rectángulo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23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25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26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27 Conector recto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28 Elipse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29 Elipse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CA8F-A771-4A3D-BD5A-79E18AD07325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20 Rectángulo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24 Rectángulo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25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26 Conector recto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27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28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29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8637-5397-4301-A840-12C880EDC2E6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C64A-FD80-4968-9080-86A3D2F5DCCE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9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23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24 Rectángulo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25 Rectángulo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26 Rectángulo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27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28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29 Conector recto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30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31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74DB-6A02-4A55-9CA8-8FFB1504FE0A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19 Conector recto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3F75-C654-4F8A-8999-875DB600C3E0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19 Conector recto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20 Rectángulo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23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25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26 Rectángulo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27 Rectángulo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28 Conector recto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29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30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31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7B1F-59EF-41D7-AA37-CD850E4737C3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74DB-9123-4BDA-B1C4-CF689ACEB20D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20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23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25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26 Rectángulo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E54A-DD53-44DE-B804-94BE5F51F7B7}" type="slidenum"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19 Rectángulo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23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24 Rectángulo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25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26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27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28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29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30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31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6133-98ED-4B8E-B107-6F626907A109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3571920"/>
            <a:ext cx="64008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646b86"/>
                </a:solidFill>
                <a:latin typeface="Georgia"/>
              </a:rPr>
              <a:t>IN47B – INGENIERÍA DE OPERACIONE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d16349"/>
                </a:solidFill>
                <a:latin typeface="Georgia"/>
              </a:rPr>
              <a:t>Métodos de Reducción de Varianza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8" name="3 CuadroTexto"/>
          <p:cNvSpPr/>
          <p:nvPr/>
        </p:nvSpPr>
        <p:spPr>
          <a:xfrm>
            <a:off x="4714920" y="5429160"/>
            <a:ext cx="42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Primavera 2008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Profesor de Cátedra: Fernando Ordoñez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Profesor Auxiliar: Cristóbal Mestr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La ide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Georgia"/>
              </a:rPr>
              <a:t>Queremos conocer un intervalo de confianza para alguna estimación en especial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46b86"/>
                </a:solidFill>
                <a:latin typeface="Georgia"/>
              </a:rPr>
              <a:t>Ej: Temperatura promedio a las 13:00hrs en Santiago.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476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Georgia"/>
              </a:rPr>
              <a:t>(con esto trabajaremos)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Georgia"/>
              </a:rPr>
              <a:t>Poseemos datos sobre el comportamiento histórico, pero no completo de lo que queremos medir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46b86"/>
                </a:solidFill>
                <a:latin typeface="Georgia"/>
              </a:rPr>
              <a:t>Sólo poseemos los últimos 365 días de información.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Georgia"/>
              </a:rPr>
              <a:t>Además sabemos el histórico de un elemento que covaría positivamente con lo que queremos conocer, y su esperanza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46b86"/>
                </a:solidFill>
                <a:latin typeface="Georgia"/>
              </a:rPr>
              <a:t>Esperanza de lluvia en un día y los días que llovió el año recién pasado.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1" name="5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La idea (2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Claramente cuando llueve hay menor temperatura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El histórico de la lluvia, con su esperanza nos debieran ayudar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5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Cómo otro dato nos ayuda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Georgia"/>
              </a:rPr>
              <a:t>Calculamos el promedio de lluvias en un día en Santiago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19840" indent="-2592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46b86"/>
                </a:solidFill>
                <a:latin typeface="Georgia"/>
              </a:rPr>
              <a:t>Ojo, promedio de 365 distinto de la esperanza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19840" indent="-2592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46b86"/>
                </a:solidFill>
                <a:latin typeface="Georgia"/>
              </a:rPr>
              <a:t>Esperanza  supone infinitos dato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59200" indent="-2592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Georgia"/>
              </a:rPr>
              <a:t>Si el promedio de lluvias es mayor que la esperanza, fue un año lluvioso; claramente más frío también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Georgia"/>
              </a:rPr>
              <a:t>Significa que el promedio de temperatura que obtuvimos es menor que la esperanza de la temperatura real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19840" indent="-2592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46b86"/>
                </a:solidFill>
                <a:latin typeface="Georgia"/>
              </a:rPr>
              <a:t>Con esto, las lluvias nos ayudan a ver de forma más exacta la temperatura.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17" name="5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En el ejemplo se tien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Xi: Temperatura de Santiago en día i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Zi: Lluvias en Santiago (Control Variate) día i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E(Z): Esperanza de Lluvias (distinto a promedio)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Luego tenemos el sig estimador insesgad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 algn="ctr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200" spc="-1" strike="noStrike">
                <a:solidFill>
                  <a:srgbClr val="646b86"/>
                </a:solidFill>
                <a:latin typeface="Georgia"/>
              </a:rPr>
              <a:t>X</a:t>
            </a:r>
            <a:r>
              <a:rPr b="0" i="1" lang="es-CL" sz="2200" spc="-1" strike="noStrike">
                <a:solidFill>
                  <a:srgbClr val="646b86"/>
                </a:solidFill>
                <a:latin typeface="Georgia"/>
              </a:rPr>
              <a:t>c</a:t>
            </a:r>
            <a:r>
              <a:rPr b="0" i="1" lang="pl-PL" sz="2200" spc="-1" strike="noStrike">
                <a:solidFill>
                  <a:srgbClr val="646b86"/>
                </a:solidFill>
                <a:latin typeface="Georgia"/>
              </a:rPr>
              <a:t> = X</a:t>
            </a:r>
            <a:r>
              <a:rPr b="0" i="1" lang="es-CL" sz="2200" spc="-1" strike="noStrike">
                <a:solidFill>
                  <a:srgbClr val="646b86"/>
                </a:solidFill>
                <a:latin typeface="Georgia"/>
              </a:rPr>
              <a:t>i</a:t>
            </a:r>
            <a:r>
              <a:rPr b="0" i="1" lang="pl-PL" sz="2200" spc="-1" strike="noStrike">
                <a:solidFill>
                  <a:srgbClr val="646b86"/>
                </a:solidFill>
                <a:latin typeface="Georgia"/>
              </a:rPr>
              <a:t> + c(Z </a:t>
            </a:r>
            <a:r>
              <a:rPr b="0" i="1" lang="es-CL" sz="2200" spc="-1" strike="noStrike">
                <a:solidFill>
                  <a:srgbClr val="646b86"/>
                </a:solidFill>
                <a:latin typeface="Georgia"/>
              </a:rPr>
              <a:t>i-</a:t>
            </a:r>
            <a:r>
              <a:rPr b="0" i="1" lang="pl-PL" sz="2200" spc="-1" strike="noStrike">
                <a:solidFill>
                  <a:srgbClr val="646b86"/>
                </a:solidFill>
                <a:latin typeface="Georgia"/>
              </a:rPr>
              <a:t> E(Z)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 algn="ctr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646b86"/>
                </a:solidFill>
                <a:latin typeface="Georgia"/>
              </a:rPr>
              <a:t>c = Cte arbitraria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Si aplicamos Varianza y derivamos con respecto a c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 algn="ctr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300" spc="-1" strike="noStrike">
                <a:solidFill>
                  <a:srgbClr val="646b86"/>
                </a:solidFill>
                <a:latin typeface="Georgia"/>
              </a:rPr>
              <a:t>c*</a:t>
            </a:r>
            <a:r>
              <a:rPr b="0" i="1" lang="es-CL" sz="9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i="1" lang="es-CL" sz="2300" spc="-1" strike="noStrike">
                <a:solidFill>
                  <a:srgbClr val="646b86"/>
                </a:solidFill>
                <a:latin typeface="Georgia"/>
              </a:rPr>
              <a:t>= </a:t>
            </a:r>
            <a:r>
              <a:rPr b="0" lang="es-CL" sz="2300" spc="-1" strike="noStrike">
                <a:solidFill>
                  <a:srgbClr val="646b86"/>
                </a:solidFill>
                <a:latin typeface="Georgia"/>
              </a:rPr>
              <a:t>Cov(</a:t>
            </a:r>
            <a:r>
              <a:rPr b="0" i="1" lang="es-CL" sz="2300" spc="-1" strike="noStrike">
                <a:solidFill>
                  <a:srgbClr val="646b86"/>
                </a:solidFill>
                <a:latin typeface="Georgia"/>
              </a:rPr>
              <a:t>X, Z)/</a:t>
            </a:r>
            <a:r>
              <a:rPr b="0" lang="es-CL" sz="2300" spc="-1" strike="noStrike">
                <a:solidFill>
                  <a:srgbClr val="646b86"/>
                </a:solidFill>
                <a:latin typeface="Georgia"/>
              </a:rPr>
              <a:t>Var(</a:t>
            </a:r>
            <a:r>
              <a:rPr b="0" i="1" lang="es-CL" sz="2300" spc="-1" strike="noStrike">
                <a:solidFill>
                  <a:srgbClr val="646b86"/>
                </a:solidFill>
                <a:latin typeface="Georgia"/>
              </a:rPr>
              <a:t>Z)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20" name="5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Formul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Var(</a:t>
            </a:r>
            <a:r>
              <a:rPr b="0" i="1" lang="es-CL" sz="2700" spc="-1" strike="noStrike">
                <a:solidFill>
                  <a:srgbClr val="000000"/>
                </a:solidFill>
                <a:latin typeface="Georgia"/>
              </a:rPr>
              <a:t>Xc) = Var(X) –</a:t>
            </a: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Cov(</a:t>
            </a:r>
            <a:r>
              <a:rPr b="0" i="1" lang="es-CL" sz="2700" spc="-1" strike="noStrike">
                <a:solidFill>
                  <a:srgbClr val="000000"/>
                </a:solidFill>
                <a:latin typeface="Georgia"/>
              </a:rPr>
              <a:t>X, Z)</a:t>
            </a:r>
            <a:r>
              <a:rPr b="0" i="1" lang="es-CL" sz="27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i="1" lang="es-CL" sz="2700" spc="-1" strike="noStrike">
                <a:solidFill>
                  <a:srgbClr val="000000"/>
                </a:solidFill>
                <a:latin typeface="Georgia"/>
              </a:rPr>
              <a:t>/</a:t>
            </a: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Var(</a:t>
            </a:r>
            <a:r>
              <a:rPr b="0" i="1" lang="es-CL" sz="2700" spc="-1" strike="noStrike">
                <a:solidFill>
                  <a:srgbClr val="000000"/>
                </a:solidFill>
                <a:latin typeface="Georgia"/>
              </a:rPr>
              <a:t>Z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Sugiere que a mayor covarianza entre X y nuestro control variate, tendremos menor varianza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Lo que significa que se reduce también el intervalo de confianza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5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Un ejemplo práctico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680" y="1527120"/>
            <a:ext cx="3627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Precio de una cal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Lo que genero en T período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Precio de la Call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S</a:t>
            </a:r>
            <a:r>
              <a:rPr b="0" lang="es-CL" sz="2200" spc="-1" strike="noStrike" baseline="-25000">
                <a:solidFill>
                  <a:srgbClr val="646b86"/>
                </a:solidFill>
                <a:latin typeface="Georgia"/>
              </a:rPr>
              <a:t>t </a:t>
            </a: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sigue Browniano Geométrico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26" name="Picture 3" descr=""/>
          <p:cNvPicPr/>
          <p:nvPr/>
        </p:nvPicPr>
        <p:blipFill>
          <a:blip r:embed="rId1"/>
          <a:stretch/>
        </p:blipFill>
        <p:spPr>
          <a:xfrm>
            <a:off x="3862440" y="2071800"/>
            <a:ext cx="3852720" cy="97128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4" descr=""/>
          <p:cNvPicPr/>
          <p:nvPr/>
        </p:nvPicPr>
        <p:blipFill>
          <a:blip r:embed="rId2"/>
          <a:stretch/>
        </p:blipFill>
        <p:spPr>
          <a:xfrm>
            <a:off x="4214880" y="3286080"/>
            <a:ext cx="3000240" cy="35712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5" descr=""/>
          <p:cNvPicPr/>
          <p:nvPr/>
        </p:nvPicPr>
        <p:blipFill>
          <a:blip r:embed="rId3"/>
          <a:stretch/>
        </p:blipFill>
        <p:spPr>
          <a:xfrm>
            <a:off x="4500720" y="4286160"/>
            <a:ext cx="3100320" cy="7192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6" descr=""/>
          <p:cNvPicPr/>
          <p:nvPr/>
        </p:nvPicPr>
        <p:blipFill>
          <a:blip r:embed="rId4"/>
          <a:stretch/>
        </p:blipFill>
        <p:spPr>
          <a:xfrm>
            <a:off x="4514760" y="5429160"/>
            <a:ext cx="2157480" cy="428760"/>
          </a:xfrm>
          <a:prstGeom prst="rect">
            <a:avLst/>
          </a:prstGeom>
          <a:ln w="0">
            <a:noFill/>
          </a:ln>
        </p:spPr>
      </p:pic>
      <p:sp>
        <p:nvSpPr>
          <p:cNvPr id="630" name="5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Datos necesario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7120"/>
            <a:ext cx="4056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Para  i= (1,…,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Es decir, genero n valores aleatorio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Pago esperad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Tres posibles Control Variat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3" name="Picture 2" descr=""/>
          <p:cNvPicPr/>
          <p:nvPr/>
        </p:nvPicPr>
        <p:blipFill>
          <a:blip r:embed="rId1"/>
          <a:stretch/>
        </p:blipFill>
        <p:spPr>
          <a:xfrm>
            <a:off x="5072040" y="1785960"/>
            <a:ext cx="3114720" cy="64296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3" descr=""/>
          <p:cNvPicPr/>
          <p:nvPr/>
        </p:nvPicPr>
        <p:blipFill>
          <a:blip r:embed="rId2"/>
          <a:stretch/>
        </p:blipFill>
        <p:spPr>
          <a:xfrm>
            <a:off x="5072040" y="2928960"/>
            <a:ext cx="2214720" cy="9604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4" descr=""/>
          <p:cNvPicPr/>
          <p:nvPr/>
        </p:nvPicPr>
        <p:blipFill>
          <a:blip r:embed="rId3"/>
          <a:stretch/>
        </p:blipFill>
        <p:spPr>
          <a:xfrm>
            <a:off x="4929120" y="4286160"/>
            <a:ext cx="3267000" cy="1400400"/>
          </a:xfrm>
          <a:prstGeom prst="rect">
            <a:avLst/>
          </a:prstGeom>
          <a:ln w="0">
            <a:noFill/>
          </a:ln>
        </p:spPr>
      </p:pic>
      <p:sp>
        <p:nvSpPr>
          <p:cNvPr id="636" name="5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17:43:16Z</dcterms:created>
  <dc:creator>Cristóbal</dc:creator>
  <dc:description/>
  <dc:language>en-US</dc:language>
  <cp:lastModifiedBy>Cristóbal</cp:lastModifiedBy>
  <dcterms:modified xsi:type="dcterms:W3CDTF">2008-08-23T23:22:35Z</dcterms:modified>
  <cp:revision>18</cp:revision>
  <dc:subject/>
  <dc:title>Métodos de Reducción de Varianza</dc:title>
</cp:coreProperties>
</file>