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A7B-BFE9-4439-8821-D28F91E4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E51-08DC-46CA-A9C9-28AC481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7D825-DB02-45F1-ABCD-E8F91494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D78F9-F6A1-4B61-A212-3548738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74E3C-E5EF-45F3-806A-56655704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29A68-6D48-4AE9-AA80-CC9ADBFA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A9329-C04F-4CAB-9294-5654D46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03DCA-F8A9-4048-8EFA-18D0EC5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10641-08C9-4BB4-8997-8C25C472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1A6B3-D9B8-444F-ABCC-784CE327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27904-48DD-47DA-8638-D7FFA0BC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CF4F9-BFDD-48AD-BD01-0FAB5CB4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7B6-51C3-4653-87F6-54D90DB1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F8445-B7F3-4083-80F0-CC6B967D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0F1B4-31EF-4965-A625-F52C5A5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509C1-3DC7-43FB-BFAF-412B614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B8F3C-5126-4C0D-8F78-453D8102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52988-5EEF-4DDA-A27F-F6F799D8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38D79-1142-4468-BE26-E6C4A2C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568D1-FCBE-4BF6-846F-23ACA91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50477-5ED8-4420-B5EE-70F84A5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63A08-28AF-4839-8990-0FD19F9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654D8-4457-4DA9-8287-373EF6C8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33E-3DA2-407A-ABB9-68FC4CA2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68DBC-ABCB-4169-BA23-163C484B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76488-36DF-48DC-9110-B8662F9E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C2D86-84DF-4246-BEDC-481BF43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C3FE3-F95A-48D3-A50A-B1DA45AD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B59D-9836-4460-9FA2-5D963F1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F5113-79DE-477C-A49B-46FCA99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CC42-F9CB-4508-94A0-29D80C01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1B88E-8D2B-49E1-AFFB-40E6F47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04B4-693F-484E-97EE-00820C63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BC5CD-AF21-462F-8B63-9C0F06B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F981-FD29-499B-8BBE-F806DED6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1F8D9-5D4B-4D2C-8BB6-D51F28C4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07F17-97DD-45F7-A76A-16E9F15B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6178D-BF9E-402F-9396-A59B2CFD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A2AA2-7E01-46CD-838A-29E44169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FBA7A-4FC9-44F5-BCC7-0131526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4EF2E-7422-4F03-8582-0A32AB7F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4A9ED-1876-43A4-B800-BABFEF6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713F8-579E-4D70-8A99-EF769CAA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93A68-8293-43B4-A310-9E10E4A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FFDC2-9CDB-4831-BA25-C13DC58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BDCF-A9D5-4604-ADC3-F1111370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2A333-1930-4E2D-BB2D-315DCDF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8FEB5-E3B4-492A-8199-8EF5945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60B4C-C413-4BC8-B378-6A0901F1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2819E-B819-4AF5-895B-D513E9C1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D3707-EFAF-49FA-91B5-E7365B11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E2BB-A726-4840-8F55-63A6A668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5F86-3948-4AF9-AEA0-4D20070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204F-C5AF-456A-8CD1-6C25702F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8F84-1C01-40CB-855B-0273456A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0296-FE56-429A-A3FE-ADD8A913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6A3-82DC-4A9A-8BEA-0702F2A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80F9-DE22-4083-90A7-495576E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61A8-9254-4C3F-B13F-45EA161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81DF-2F43-4C85-8607-E66E9E10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D586-0762-4D09-83B3-7469C880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FB33-6E68-44FB-B966-8B2A62AE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9463-0FC8-4FE5-9C98-EEFA4B0D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7E34A-EA65-4B30-9571-39F14955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3A04-499E-4140-AD33-1D801600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49E4-80FB-49D1-B503-C0CC1846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41FE-6CF4-46EF-A9AC-ABAE3A99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876-3474-4227-8F4E-FDAD5B20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0FD5-EAB9-446F-8A1B-60F6A7B5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2840-4968-48B7-9A93-B271E4B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34741-DD04-4833-99D2-7944E18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2E75-4225-470E-BF2E-0452DCC4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158E-F371-4201-A85A-19EB1258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A3364-C874-427F-9117-BC6178F0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0597-459B-4DB9-8014-CD96E8B2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A4B8-4574-462D-8EAE-99B5098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5357-C4A6-496A-91F8-3786FD57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B7B3-2435-4913-9519-E49D501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BE6-78A7-431B-85D3-8894261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80B5-12D1-4D2E-90A7-38836A0C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610B-8D16-4176-8327-238170C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63912-1F43-4629-A5E8-7349582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14EB-D800-40C0-9662-003CC29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2E7C-4043-4C76-B870-2C905DA0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0F93-DB89-472B-B23A-3D9A660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ED8F-8C63-4397-BABF-010DEFBB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08D4-09FE-4D76-A31E-09152CF5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C310-4025-41B9-9573-936CD32B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D123-E9FA-44DB-AF2C-83D6AFE9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398-42F6-4F90-A557-0DC6EAA7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8CC0-EAC0-4E85-9DB0-392337C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B0F5-F9BB-498C-B9BB-0DBF8665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C228-E7D6-4883-945B-84844A5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7425-644A-43AD-A61F-511C6EE0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DE874-7A64-458F-8094-4995101F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3C6DA-B3D8-49F5-B9D2-06B1944D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7D932-99B7-457F-AB17-2A030A0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5D42E-0AE8-4E86-B1B7-3931875D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9314-88F1-41D8-B256-7FEA59B4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44A2-07F2-440A-B5D0-8BB622AC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535-E0AC-456E-AF9C-393FA418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3A53B-EE3C-4085-87DC-7EB3FE82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578A-98DE-4E42-A03C-B64906A7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A1532-B8D5-4346-85FE-50730C1D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C9DD0-E124-4259-955C-70D9B1A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3EF1-F689-4348-BB67-4D1B2EE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987DC-490C-4704-87E2-C16F4D11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566B-3D67-42AC-A575-894A7A0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2426-8F96-4421-9412-C5249E2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0169-32FD-4BD8-99D2-3960E17A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617CD-690D-4248-B613-55CF69DE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B8E-4454-46BA-A1C7-7FA4C4EB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39E43-E65E-4A33-AADD-BF86A89C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7A4F-7026-42B3-B469-C75DEE60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C5AF3-D621-420D-BA5D-671D940A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E64D-2B25-4345-9512-C20E8A27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7EC0-5357-4EEA-BA5F-9DFAD61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85157-D8C1-4949-8C58-E3A12EE2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7209-98BE-4A13-9A0F-A66709A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6C2B-AB29-4C4D-9942-549FD16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367B-6B85-4218-AEEF-F3D47C8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B6B0A-DA4D-4F98-96E8-476719F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328-BB3C-4AD2-B111-7791F09D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CA89-EE2F-477B-AF76-401F443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2D6A4-6FB5-4A71-8C4F-CB0F218B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565EE-05FC-423A-B14B-6980953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8889-6C7A-42E3-BC1E-0A70C4AC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62938-C219-4D30-B1C9-C97E6674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77ACF-DD9D-4DA3-A621-BAE87413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A8E78-A1C0-492A-B147-A63D5F45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8E207-F8C4-4378-AB0F-5D869E3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0066-5C33-43B5-A26A-117DC71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FD9AE-DC2E-4D9C-B2DE-84D9902F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86B-1B15-4A08-AE2B-863E5CA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76D1-ED8F-495D-AB76-C32BA93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8B0D1-8723-4FF3-914D-9643FF7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D3428-0D61-4EB3-A378-B35BF77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61C3E-82D4-491D-AAC1-47880BB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3A4A-D92D-4DA9-8BBF-D42578C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936DB-70B4-49DD-8ACC-308D1881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821FB-2F4E-4390-BE6E-5F37B537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94708-85D4-42CF-8BF3-E24A2ADB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04269-3C60-4A62-9F4F-029646A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C1A12-0065-4528-8888-F7CF7AA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03DA-E878-49E7-9B62-565095E2FF04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F06-D481-4EC4-A475-B5C6610A0D34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8F4C-8DBA-454D-B6F2-3D4C2A385D5C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DDF-0CD1-4B39-BC07-AD31A42EED9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EE8-3B1F-4D7D-B0CD-5C447549279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8FE-2295-4720-8953-09546204A07E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780-E5E1-430C-AAA1-7723C42C358A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10FF-7FF7-47E0-9BBC-8F24431EEA81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FD4-170A-4662-A3AA-8BDCC91E181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43DC-7BA9-4B61-8806-B83DD2CCEC2C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D419-18D6-43F9-8D3D-D6CD66F728A4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491F-678E-488E-BEFE-C399B24530E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Métodos de Reducción de Varianz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Queremos conocer un intervalo de confianza para alguna estimación en espec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j: Temperatura promedio a las 13:00hrs en Santiag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eorgia"/>
              </a:rPr>
              <a:t>(con esto trabajaremos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Poseemos datos sobre el comportamiento histórico, pero no completo de lo que queremos medir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Sólo poseemos los últimos 365 días de información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Además sabemos el histórico de un elemento que covaría positivamente con lo que queremos conocer, y su esperanz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de lluvia en un día y los días que llovió el año recién pasad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laramente cuando llueve hay menor temperatu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l histórico de la lluvia, con su esperanza nos debieran ayudar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ómo otro dato nos ayuda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Calculamos el promedio de lluvias en un día en Santiago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Ojo, promedio de 365 distinto de la esperanza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 supone infinitos dato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 el promedio de lluvias es mayor que la esperanza, fue un año lluvioso; claramente más frío tambié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gnifica que el promedio de temperatura que obtuvimos es menor que la esperanza de la temperatura re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Con esto, las lluvias nos ayudan a ver de forma más exacta la temperatura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7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En el ejemplo se tie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Xi: Temperatura de Santiago en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Zi: Lluvias en Santiago (Control Variate)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(Z): Esperanza de Lluvias (distinto a promedi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Luego tenemos el sig estimador insesg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= 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+ c(Z 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-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E(Z)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 = Cte arbitrari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i aplicamos Varianza y derivamos con respecto a c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c*</a:t>
            </a:r>
            <a:r>
              <a:rPr b="0" i="1" lang="es-CL" sz="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Cov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X, Z)/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Var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Z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c) = Var(X) –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ov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, Z)</a:t>
            </a:r>
            <a:r>
              <a:rPr b="0" i="1" lang="es-CL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Z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ugiere que a mayor covarianza entre X y nuestro control variate, tendremos menor varianz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significa que se reduce también el intervalo de confianza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Un ejemplo práctic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680" y="1527120"/>
            <a:ext cx="3627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ecio de una c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genero en T períod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recio de la Ca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</a:t>
            </a:r>
            <a:r>
              <a:rPr b="0" lang="es-CL" sz="2200" spc="-1" strike="noStrike" baseline="-25000">
                <a:solidFill>
                  <a:srgbClr val="646b86"/>
                </a:solidFill>
                <a:latin typeface="Georgia"/>
              </a:rPr>
              <a:t>t </a:t>
            </a: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gue Browniano Geométric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3862440" y="2071800"/>
            <a:ext cx="3852720" cy="971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4214880" y="328608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3"/>
          <a:stretch/>
        </p:blipFill>
        <p:spPr>
          <a:xfrm>
            <a:off x="4500720" y="4286160"/>
            <a:ext cx="3100320" cy="719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4"/>
          <a:stretch/>
        </p:blipFill>
        <p:spPr>
          <a:xfrm>
            <a:off x="4514760" y="5429160"/>
            <a:ext cx="2157480" cy="428760"/>
          </a:xfrm>
          <a:prstGeom prst="rect">
            <a:avLst/>
          </a:prstGeom>
          <a:ln w="0">
            <a:noFill/>
          </a:ln>
        </p:spPr>
      </p:pic>
      <p:sp>
        <p:nvSpPr>
          <p:cNvPr id="63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Datos necesari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405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ra  i= (1,…,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s decir, genero n valores aleatori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go esper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Tres posibles Control Vari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072040" y="1785960"/>
            <a:ext cx="3114720" cy="642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5072040" y="2928960"/>
            <a:ext cx="2214720" cy="960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267000" cy="1400400"/>
          </a:xfrm>
          <a:prstGeom prst="rect">
            <a:avLst/>
          </a:prstGeom>
          <a:ln w="0">
            <a:noFill/>
          </a:ln>
        </p:spPr>
      </p:pic>
      <p:sp>
        <p:nvSpPr>
          <p:cNvPr id="636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7:43:16Z</dcterms:created>
  <dc:creator>Cristóbal</dc:creator>
  <dc:description/>
  <dc:language>en-US</dc:language>
  <cp:lastModifiedBy>Cristóbal</cp:lastModifiedBy>
  <dcterms:modified xsi:type="dcterms:W3CDTF">2008-08-23T23:22:35Z</dcterms:modified>
  <cp:revision>18</cp:revision>
  <dc:subject/>
  <dc:title>Métodos de Reducción de Varianza</dc:title>
</cp:coreProperties>
</file>