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3E5-583D-47EE-9A5F-267FC441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67F-2019-4CB6-866E-6FE26E8A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DB2FE-2230-4864-9146-BE457638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E4273-1666-4011-B779-D33ACBFA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C4951-ADDE-4DF3-9264-FCFD7B7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7C3FA-8A43-486D-9F30-A65CEF79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C207C-0A25-4A62-9063-7FE4DFA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EC02A-FBB8-443C-B894-A96CC60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8A52B-A19C-4104-8433-BB87FC99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E305D-9788-4B77-8267-93E32FCC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91FA9-9052-49D0-9A0A-B506BE1C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AF610-9436-4B03-9947-4B2C8411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903-CCC7-4264-8396-D487F00B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39737-EB46-4F15-9798-2D949BF0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08E2B-A50C-49B8-95D4-F5DF970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F2FE7-8A3D-4F23-8683-59FA0714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16BC8-ADB8-4308-A1F4-A6DD303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9CC46-0A22-4CFD-A520-588BC86E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B0575-5DD1-44E8-BE9F-008B0DA9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27DA0-F4BD-482B-A656-4572A46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03D37-9D61-45C4-8DB2-D019516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93952-723A-40BF-B0B9-68C887B0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BBC87-4766-42B5-A80D-4CD49CEA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7A8-378F-499D-AB0A-96617571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6F816-3951-4488-834D-9604E94F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2C42D-475B-4766-B075-71B1FF70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93CE4-B687-4FF2-B281-BBBF8B7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C116A-F8DF-4358-810F-FDBEC59A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7A2C2-ACD0-4538-8BB6-D6948C32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6CB34-424C-4340-B749-29A209C4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BDC84-90AD-4F8F-8EDC-259B8EF0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AC497-92DE-4296-B1D3-AB0C7E26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29045-A992-4C46-9909-5A2D2D1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CD5D7-A4C7-4F62-8980-3E6B1119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C2D-0BC0-428A-84FC-93A62504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50251-09DE-4FF4-B6FE-4221DBF3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D7F7D-8443-45DA-89C0-ABF85B3A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9EE18-3DEC-438C-B9EB-DA78C6A3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A30F3-48BE-4978-B594-0BBD43F1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9733A-6666-4E8E-9141-02212AAE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E4691-ECD1-496F-8727-9DBE1587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F5D48-3E5B-4FF2-BA5F-B542490E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44B43-4E7A-4E0D-B83F-8A3C6722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E5833-9C69-43F9-AE5D-F8E6D051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A7C59-A506-43C8-8F34-DEF7D84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BB3-A0FD-413D-A344-7C05BDA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6A1C9-0DD2-4C2B-9D62-0C0AE16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A0071-BC19-4A2B-85BA-6E3B1E3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1DAC5-9A86-43C4-A9DB-0C7E2F0E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4229A-DCAC-4952-8105-CA4AE9E7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DF890-CFAE-4B50-BFBC-829C02E2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5D84-D805-433C-8394-CB21DBBF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E14-52FD-4BCC-84D4-C9908883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061A-5601-48F4-BB49-DB2C3899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193A-4274-4916-A1BE-1E9CA47D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3B01-D677-4E6B-9EB7-310DE6E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6F5-5FD1-4409-9CA1-F1C8354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A80F-33BA-48AF-9071-F2A1FA1A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693-3BCD-48C4-92E6-0863F7A7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0F9F-BC6D-4194-BDA7-1BCDA12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2D7F-7F69-4012-B463-92907DEB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805E-EB9E-4F29-B425-517D5DD9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EF11-4F6F-497E-B172-88F9E605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B072-8CE0-4111-92B3-6A4BE169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3D0D-79C9-45A9-B36E-EE9FE2C4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39FD-48EF-49C3-8A8B-D275FEB1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91920-927C-425A-BA38-79EA1661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48B-7BCF-4219-A270-76B50EA3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623D-ABF9-443D-B9A4-5F9BB921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7E7E-F5A0-4382-A67E-21BDBC7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EF7C-318B-48B8-B5FC-F83B6BA1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8A59-9A32-43C9-B0C4-6DC1D053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16FA-2E09-45DC-8ADF-DD8C36AA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EB2C-12C4-493A-839C-50DDA496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21104-5D33-4A8E-8DA9-A5147632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55B0-43A4-48C2-A6E5-8B586EC3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F36B-4BA6-4FDF-BF81-811B354F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EB47-0B1E-4EA4-B740-438A3AF1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848-F024-4725-B649-5AE4631A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B082-070A-4D52-9FA8-D7301BF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EE10-EAE3-4437-BA4C-667C9A88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0DAC-3761-46A6-A973-E84A48E0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0214-BDE1-4428-BDD4-68359171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1BA9-A799-4E76-82CA-FE971B9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A00E-2193-4ED6-B853-0E0F381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7273-9DDC-4A2B-84C8-34AA508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AAFF-95EA-48A2-8D42-B0B6792E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DF98-2315-46A4-9349-132DF6F1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3EF9-B0A6-4D2D-8BA6-0326026C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909-06F0-4F65-97EA-971619E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9E276-22C6-45F0-9B6D-0B673BA1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FBA7-F22E-4FC2-B312-68773259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EFAD-05DC-4C8D-BCE6-549F1D44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8B4E-4FB6-4998-8FC0-914CC03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8013-CF33-439D-ADD0-B84A378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849A7-635F-42B8-8545-1D64489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4913-1014-469B-8903-346EF80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E027-1B87-41D1-8F1F-116AE54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6C6A-1C2B-4731-A8CD-09BD882C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F4E3-68D3-44C2-AF65-FC2B262D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5F9-FBBA-4258-9C99-A24589E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839F-8B87-49FE-971E-3A3F1FFA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AC1B-13F4-47D7-9A01-E7D37CEB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BFDA-47F3-44F2-90EC-59373A2C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88E79-4CB2-4AC4-AAA7-C8CCD41C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1474-C946-49A4-99AA-7CB2E894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0D58-21D3-432D-9D88-D90BBE2F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6E36-79C4-4244-896A-08DABCC7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40A92-E169-466D-84B7-FE8560B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60CBB-0B0A-4377-BD54-D0875DC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B750-49E1-4382-8128-962D654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DF9-C6DC-40EA-8A85-8ECDBA12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1A6B-BF07-4541-98CC-0A499F80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622E-3BC4-4564-8A14-62C178AC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3F33-9BE3-45AE-95FE-2FB2431B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5FF1-72D1-491A-AC0C-FBF3C757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7A69-40F9-482F-AB18-80D8BD7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D2A1-34FD-488F-AD36-E8594FDC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471CA-D908-4B2E-AFD0-EDD2587D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1468D-2290-4FCB-B360-048681B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4178D-BF2B-4879-9AF6-5DB1CC10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C48EB-CE80-4F22-A719-1BC3CBD9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603-A355-40FB-A1EE-DBE65FA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1EDA-E136-466C-93DE-66B52C35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D4862-DF87-4591-A2DA-553F819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E2156-F1C2-455E-9939-C5EA81E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B2EA-770A-4DD3-AAD7-887387FD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69493-90FF-46B9-B33C-A488C3FD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2DA72-C221-4EAC-B007-1EC0056B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DFAB2-ABE2-4583-82CB-B1451CE2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E444A-263B-4018-ACE3-894B6043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3BB68-1C6B-4395-9A53-0C053F0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3B80D-E39F-49D2-9478-75950D9C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720-102E-49E8-A10C-8EB55CC3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CCE7-4809-4894-B2E7-5BD3D908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F22EF-1CEF-4E6C-B894-999C807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163FF-6FB7-47FF-B6FF-AA20D2D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2422F-9DF8-42C4-AC64-0CBF252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4EEF7-9E29-4635-B462-06791F01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18907-7DB5-4949-B15B-B478EABC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4C8FB-B0F6-40DC-BDDD-F0A0EBF9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7BF33-94A8-4401-AC30-0F13AB2A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E23CF-6509-4757-B50A-844B83C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6E872-54CE-47B6-9574-F5842EF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5A2A-086B-43D8-8C99-33D35163EAC1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DD96-AB5A-46DE-8DBE-6FB50DDD1628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608-F571-4EC7-99AE-4A308A94629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772E-C44C-45E4-94CB-DED5FE4E78D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1DEA-02C8-445C-987C-7EBB656AEF99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1925-E38E-4F3F-9EC2-7268B6428EF4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656C-6620-4183-95C5-6C435137FC6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DED3-37AE-48A6-98E2-C8C37A1CE978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6CFE-E9A7-47C4-8AE8-A870FE74779B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6B1-0F9F-4347-9532-C09F5DF69A0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D4AF-B17E-4BA9-A4FE-73A8D09FBF68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787B-E946-4EEB-B47C-1FF1EFFA77D9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Simulación en AREN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leas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ibera una entidad del proces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4286160" y="1643040"/>
            <a:ext cx="4391280" cy="23526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2071800" y="4143240"/>
            <a:ext cx="3590640" cy="2048040"/>
          </a:xfrm>
          <a:prstGeom prst="rect">
            <a:avLst/>
          </a:prstGeom>
          <a:ln w="0">
            <a:noFill/>
          </a:ln>
        </p:spPr>
      </p:pic>
      <p:sp>
        <p:nvSpPr>
          <p:cNvPr id="65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Instalació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28760" y="1357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Después del setup registrar en número de serie “STUDENT”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Se debe instalar el Advanced Process menu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2571840" cy="3417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"/>
          <p:cNvPicPr/>
          <p:nvPr/>
        </p:nvPicPr>
        <p:blipFill>
          <a:blip r:embed="rId2"/>
          <a:stretch/>
        </p:blipFill>
        <p:spPr>
          <a:xfrm>
            <a:off x="4429080" y="3357720"/>
            <a:ext cx="4143600" cy="2628720"/>
          </a:xfrm>
          <a:prstGeom prst="rect">
            <a:avLst/>
          </a:prstGeom>
          <a:ln w="0">
            <a:noFill/>
          </a:ln>
        </p:spPr>
      </p:pic>
      <p:sp>
        <p:nvSpPr>
          <p:cNvPr id="61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oncept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ntit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ersonaje que viaja en 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ugar de atención (donde se toma el tiempo de hacer le proceso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sourc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Número de “cajas” para hacer el proceso de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iab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Variable que se define por quien progra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Queu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Cola que se hace en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4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8400" y="1428480"/>
            <a:ext cx="4857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ci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Azar o condi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Condiciones son sobre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Los atributos pertenecen a cada entida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413160" cy="3643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596880" y="3827520"/>
            <a:ext cx="4546800" cy="2459160"/>
          </a:xfrm>
          <a:prstGeom prst="rect">
            <a:avLst/>
          </a:prstGeom>
          <a:ln w="0">
            <a:noFill/>
          </a:ln>
        </p:spPr>
      </p:pic>
      <p:sp>
        <p:nvSpPr>
          <p:cNvPr id="62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Assig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ntrega un valor arbitrario a una variable o atribut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285920" y="3500280"/>
            <a:ext cx="3031920" cy="1557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tretch/>
        </p:blipFill>
        <p:spPr>
          <a:xfrm>
            <a:off x="5143680" y="2214720"/>
            <a:ext cx="3519360" cy="3398760"/>
          </a:xfrm>
          <a:prstGeom prst="rect">
            <a:avLst/>
          </a:prstGeom>
          <a:ln w="0">
            <a:noFill/>
          </a:ln>
        </p:spPr>
      </p:pic>
      <p:sp>
        <p:nvSpPr>
          <p:cNvPr id="62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511488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o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Registra dato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uede contener un Sub-Model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 no, se compone de una cola, una demora y una libera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2904840" cy="1895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5572080" y="2357280"/>
            <a:ext cx="3214800" cy="3089520"/>
          </a:xfrm>
          <a:prstGeom prst="rect">
            <a:avLst/>
          </a:prstGeom>
          <a:ln w="0">
            <a:noFill/>
          </a:ln>
        </p:spPr>
      </p:pic>
      <p:sp>
        <p:nvSpPr>
          <p:cNvPr id="63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re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anza entidad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isp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aca entidade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5000760" y="4057560"/>
            <a:ext cx="2085840" cy="1514520"/>
          </a:xfrm>
          <a:prstGeom prst="rect">
            <a:avLst/>
          </a:prstGeom>
          <a:ln w="0">
            <a:noFill/>
          </a:ln>
        </p:spPr>
      </p:pic>
      <p:sp>
        <p:nvSpPr>
          <p:cNvPr id="63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ermiten dividir procesos en cola, demora y liberació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ara que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Generar demoras distintas en un mismo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Reingresar al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Modificar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286000" cy="4614840"/>
          </a:xfrm>
          <a:prstGeom prst="rect">
            <a:avLst/>
          </a:prstGeom>
          <a:ln w="0">
            <a:noFill/>
          </a:ln>
        </p:spPr>
      </p:pic>
      <p:sp>
        <p:nvSpPr>
          <p:cNvPr id="640" name="7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iz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col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la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Demor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1571400" cy="12812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5715000" y="1428840"/>
            <a:ext cx="3238560" cy="2100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5072040" y="4000680"/>
            <a:ext cx="2938320" cy="1931760"/>
          </a:xfrm>
          <a:prstGeom prst="rect">
            <a:avLst/>
          </a:prstGeom>
          <a:ln w="0">
            <a:noFill/>
          </a:ln>
        </p:spPr>
      </p:pic>
      <p:sp>
        <p:nvSpPr>
          <p:cNvPr id="646" name="8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Cristóbal</cp:lastModifiedBy>
  <dcterms:modified xsi:type="dcterms:W3CDTF">2008-08-08T17:12:31Z</dcterms:modified>
  <cp:revision>9</cp:revision>
  <dc:subject/>
  <dc:title>Simulación en ARENA</dc:title>
</cp:coreProperties>
</file>