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1B3-924F-4725-AEF6-090F23E6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AF0-A0DA-4CD8-94D3-B8EC91F2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B504B-B3EF-41DB-B11D-D912300E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58EC9-9302-4396-B44A-A6F23CB2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21DFD-CE53-4A3E-8FB1-34A8DC2A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A0886-05FC-42F5-87F4-727C54B1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AD0CE-10BA-47A1-8108-38A3AD08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C13AB-B78A-40F7-ACB4-435DA3B8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9D513-1764-4795-B764-A3C6F945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8FDF8-AB18-4C7E-937D-7B677097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7BD88-98AC-49C1-98FE-FB4D7947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377BB-DFD2-43DE-819A-B0B22760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72D-4974-471F-9F85-9B8887E6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FCF48-A372-465D-89F1-B54F6114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833B0-F13F-4E6D-BE97-03D49B9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942E6-4567-466D-8AE6-F9295565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0139C-3F48-4BBF-BF47-F9605E28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521F4-84CC-44B3-AC46-3FEBB2B1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ABBEE-4F5E-4C3E-82C9-3127D30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586CF-7850-4CD5-ACC9-6555414E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853FD-B29E-4804-B016-A97F7CE6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DDDAF-BCCB-4D5D-9894-E991E53D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DB2F7-2FDD-4EEC-81B7-32B02A41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29F-BD21-413E-8244-54D1C8EC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F2A80-7FA9-4BAD-BFE0-2F7C3AA1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58004-7101-4468-91DB-4F5F3E95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8E13A-07CF-4C65-89FE-A5941F00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2C84C-35AC-4F28-98EF-FD9ECFC5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19335-3FC9-4782-BEC7-47806500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066B4-7224-4DF0-92F6-5211F15B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FB085-4F35-4495-9B39-7195C740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2DC00-97D4-46B5-B6E6-B802F706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E95D3-E194-4690-AF56-6842E52C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8D4C4-1159-4E2C-981C-99F0A06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91D4-5B4F-4CA6-8D56-1C673A64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454A0-41CC-4851-A8C5-07DDB842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0C8D9-8062-4786-84D9-8EC9240F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76973-43AD-4E69-A911-03586B2B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F3CE4-7EB0-47F9-B495-6BA8B9C3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5C7D2-4BAD-4512-A9A6-4765218B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94EF7-3B28-462A-B838-DE97F3A0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54809-B356-4939-B8B4-19E753F8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20777-D791-4DEA-AB9A-E405323E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3038A-76B0-485E-BCA1-79CA19BC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53DFF-CFA0-4F1C-AD15-C47579E3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6B39-F287-4610-AFD8-104C45D5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6C067-8B46-4777-9592-73CC4C6A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B9E6A-06C9-4B7E-B4E1-32B77702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73599-A303-493E-B13C-42E32F17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ECE3C-527A-434E-9175-DE40C795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37039-8C6A-4227-88FE-9147ED61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3F5E-21D8-4302-8DD0-A9490CEC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407D-68CE-4934-8DF3-57FC0830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6064-DE11-452F-ADA1-81B407BF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7771-2B47-4305-925D-6C5FFA2F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1443-9424-403E-A452-27A7E1F3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0E8-55B8-4BA5-A057-F64A6DA9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B842-5982-4F49-A5AE-5B70D42C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5D4E-9181-438C-8618-2AF9ACA2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B14D-FD58-4523-841F-10FF5A11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6762-26E1-4779-8641-9B891847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2F6A-3EB2-4FF2-A056-A824AA31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8E7D-F373-4CDE-8D9D-B752ACB7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444A-1751-484C-B00F-B35F4544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FB1A-B4DB-497A-AC6F-054629FA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0791-5935-4CC1-B678-5D425363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A178-523D-471F-A00B-7273688E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55E-31E9-4186-AA79-9707DF9E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65FF-A3AC-4589-93B1-01EFB6DF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29BB-F0A4-42B1-9A62-A24C7512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4440-3FBE-4CEA-9ACA-FB3A4DB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74A50-A90A-42BC-AF89-27A06DF8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4DF7-6E48-4313-8B41-7D65730C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B768-E405-4DB1-8278-B25ECD1F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D848-6E92-47EB-8A5D-02C0EF06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87BE7-126C-48B6-A184-7D29F2F2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1261-4DDA-49E4-B6CE-3614D865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1C649-D696-4474-AA11-CB96CEE0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F56-91B7-413C-8D90-26239150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8166D-4573-4E04-9CE7-FDCE19FE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6558-AC6C-4268-B802-DDDDF7AD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81A16-6DB4-4551-8206-40C1403C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F816-680C-4932-B3F6-D2BC97BE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CD4E-6D83-41E6-AD86-7BB26197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3847C-C1BF-48C4-83CF-9D4290F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3AAD2-5546-4887-B510-5A458167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D99D-4D2D-43E6-8EAF-BE9FAF69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55640-2BB0-4B0E-BE0F-81D5938D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93A5-1668-4925-AFB7-A0B96F9C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C6A-40D9-4BD3-B6BC-D3E304CD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38B65-0F9D-49F1-939B-00DD328D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53218-B61F-4269-A839-4775388B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02397-BD93-4BA9-B04D-D7027B17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EE942-E4C3-4AF2-BD80-521B32E2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3F2E8-A082-4FC3-A438-D6F54682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11107-9BA4-43F4-ADC0-0CC356A9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DA3CC-DDC2-4426-AB65-184BD63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B3F2-7E04-43F5-8ABA-7D2DD86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BCCC-9F83-46C8-8F9E-6A9CFDFE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73A22-D49B-47F5-935E-AD08606F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602-0523-4214-874A-90F9508D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2F5FB-946C-4FCA-A824-1E3E2E74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2F522-D061-46A3-BBB7-0C7989A6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6BF8-EE88-4B14-87D9-3ADF934B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3766D-A6CE-45F3-945B-E5CF462A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CE99E-3D0E-474C-BD69-F0969927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B183B-64E5-4CA6-9A6E-3CF95E6B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ED7DA-14A4-4009-BAE2-C10DD212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A05B1-33F9-448B-A848-056AC23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F3ED9-91B4-4E2D-9573-A0771C3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72F10-8C17-43C7-BD95-50FE420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951-0326-4144-A469-0748BC3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68A03-147A-4F90-842A-2C70FFDB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8AB4-9662-4E42-9A6F-E055C193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56086-02D0-4FA5-9328-6155F933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F88DC-6CF8-4256-A341-6BD91003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A7D13-D5A1-4F5F-BE21-64CC6C86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DAC6C-08B0-4AFE-9CEF-ED173AAD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5F1CB-2235-4D7F-9AE6-44F74C37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55C6A-3913-4F2C-BD13-1B53E62E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5B7D6-098D-4EC6-9D06-B0D560A4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5FC5F-9352-43A0-9C23-D8B2AECE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2B0-9BF1-47D9-92A3-045013E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048F5-FF6B-4DAF-9CFA-88143D6E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C9FAC-0764-4794-A879-7B8015F7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2A873-749F-4AE7-BEAD-323EDAA1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D1DD3-8FFC-4D8B-B3DB-DC4043EE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5F1F6-F594-40D5-95E4-BF226957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03BE3-8C4E-48D3-9A7C-89E9E8A1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BEEBE-7727-4360-8C32-3B79D0B7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27C80-322D-4AC9-8D7A-96ABFEF6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0109D-DB91-4E29-AB42-CAD40F75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B1AE3-670B-4AD8-A891-2E993C84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2B7-97A2-403A-8349-B1743CBC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47A00-5E97-4765-98F0-870A3731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14530-4518-4E06-BAD6-0CB3DFDF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9C341-7C1C-4A76-921F-CAF1A64C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33DD4-FF61-4D21-A39A-B2D7C627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71285-8CDB-4D32-A647-C48CE94E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B6996-229D-4D9A-B352-A4470892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A3329-A0AC-4D30-9FD9-B2A8D137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C528F-1372-4403-B1A4-321C9989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1C096-7B9E-4C25-99C2-6B6565E9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60360-83F4-4AB6-A1EF-4A3472B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867C-8C99-4DD6-84F7-006231633C38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5DF5-F0F8-437D-9B1C-F994081478AF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D3F0-0224-487F-AE61-3B35A77F4D71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BBDC-376F-4127-8DFC-5DBE617E67CD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32D3-008C-444D-8CA1-70AD19BB829C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56DD-FC02-43A3-B7E5-670E1654FF2A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DCE2-613B-4C8D-AFA7-120F2B70685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F63A-E292-4656-9852-1BE9EF83599D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9B6A-BF7B-4CF4-A736-5357ECBAA811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5285-9443-4042-BFCD-0C7C9E2C2AF3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EBE3-F9D0-4A9F-91FE-B27EDC35AF24}" type="slidenum"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2E76-EDA1-4FF5-A61A-240D2246F3A6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46b86"/>
                </a:solidFill>
                <a:latin typeface="Georgia"/>
              </a:rPr>
              <a:t>IN47B – INGENIERÍA DE OPERACION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d16349"/>
                </a:solidFill>
                <a:latin typeface="Georgia"/>
              </a:rPr>
              <a:t>Simulación en ARENA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4714920" y="542916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de Cátedra: Fernando Ordoñez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Auxiliar: Cristóbal Mest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Release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ibera una entidad del proces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4286160" y="1643040"/>
            <a:ext cx="4391280" cy="23526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" descr=""/>
          <p:cNvPicPr/>
          <p:nvPr/>
        </p:nvPicPr>
        <p:blipFill>
          <a:blip r:embed="rId2"/>
          <a:stretch/>
        </p:blipFill>
        <p:spPr>
          <a:xfrm>
            <a:off x="2071800" y="4143240"/>
            <a:ext cx="3590640" cy="2048040"/>
          </a:xfrm>
          <a:prstGeom prst="rect">
            <a:avLst/>
          </a:prstGeom>
          <a:ln w="0">
            <a:noFill/>
          </a:ln>
        </p:spPr>
      </p:pic>
      <p:sp>
        <p:nvSpPr>
          <p:cNvPr id="65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Instalació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28760" y="1357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eorgia"/>
              </a:rPr>
              <a:t>Después del setup registrar en número de serie “STUDENT”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eorgia"/>
              </a:rPr>
              <a:t>Se debe instalar el Advanced Process menu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500040" y="2857680"/>
            <a:ext cx="2571840" cy="3417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"/>
          <p:cNvPicPr/>
          <p:nvPr/>
        </p:nvPicPr>
        <p:blipFill>
          <a:blip r:embed="rId2"/>
          <a:stretch/>
        </p:blipFill>
        <p:spPr>
          <a:xfrm>
            <a:off x="4429080" y="3357720"/>
            <a:ext cx="4143600" cy="2628720"/>
          </a:xfrm>
          <a:prstGeom prst="rect">
            <a:avLst/>
          </a:prstGeom>
          <a:ln w="0">
            <a:noFill/>
          </a:ln>
        </p:spPr>
      </p:pic>
      <p:sp>
        <p:nvSpPr>
          <p:cNvPr id="613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Concept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ntit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ersonaje que viaja en 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e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ugar de atención (donde se toma el tiempo de hacer le proceso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Resourc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Número de “cajas” para hacer el proceso de un Se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iab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Variable que se define por quien progra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Queu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Cola que se hace en un Se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4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28400" y="1428480"/>
            <a:ext cx="48574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ecid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Azar o condició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Condiciones son sobre atributos o vari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Los atributos pertenecen a cada entida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413160" cy="3643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"/>
          <p:cNvPicPr/>
          <p:nvPr/>
        </p:nvPicPr>
        <p:blipFill>
          <a:blip r:embed="rId2"/>
          <a:stretch/>
        </p:blipFill>
        <p:spPr>
          <a:xfrm>
            <a:off x="596880" y="3827520"/>
            <a:ext cx="4546800" cy="2459160"/>
          </a:xfrm>
          <a:prstGeom prst="rect">
            <a:avLst/>
          </a:prstGeom>
          <a:ln w="0">
            <a:noFill/>
          </a:ln>
        </p:spPr>
      </p:pic>
      <p:sp>
        <p:nvSpPr>
          <p:cNvPr id="62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Assig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Entrega un valor arbitrario a una variable o atribut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1285920" y="3500280"/>
            <a:ext cx="3031920" cy="15573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2"/>
          <a:stretch/>
        </p:blipFill>
        <p:spPr>
          <a:xfrm>
            <a:off x="5143680" y="2214720"/>
            <a:ext cx="3519360" cy="3398760"/>
          </a:xfrm>
          <a:prstGeom prst="rect">
            <a:avLst/>
          </a:prstGeom>
          <a:ln w="0">
            <a:noFill/>
          </a:ln>
        </p:spPr>
      </p:pic>
      <p:sp>
        <p:nvSpPr>
          <p:cNvPr id="626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511488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ro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Registra datos d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uede contener un Sub-Model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i no, se compone de una cola, una demora y una liberació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071720" y="3929040"/>
            <a:ext cx="2904840" cy="1895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5572080" y="2357280"/>
            <a:ext cx="3214800" cy="3089520"/>
          </a:xfrm>
          <a:prstGeom prst="rect">
            <a:avLst/>
          </a:prstGeom>
          <a:ln w="0">
            <a:noFill/>
          </a:ln>
        </p:spPr>
      </p:pic>
      <p:sp>
        <p:nvSpPr>
          <p:cNvPr id="63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6840" y="1599840"/>
            <a:ext cx="590076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re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anza entidad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isp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aca entidades d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857840" y="1643040"/>
            <a:ext cx="2162160" cy="17622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5000760" y="4057560"/>
            <a:ext cx="2085840" cy="1514520"/>
          </a:xfrm>
          <a:prstGeom prst="rect">
            <a:avLst/>
          </a:prstGeom>
          <a:ln w="0">
            <a:noFill/>
          </a:ln>
        </p:spPr>
      </p:pic>
      <p:sp>
        <p:nvSpPr>
          <p:cNvPr id="636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6840" y="1599840"/>
            <a:ext cx="590076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ermiten dividir procesos en cola, demora y liberació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ara que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Generar demoras distintas en un mismo proces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Reingresar al proces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Modificar atributos o vari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286000" cy="4614840"/>
          </a:xfrm>
          <a:prstGeom prst="rect">
            <a:avLst/>
          </a:prstGeom>
          <a:ln w="0">
            <a:noFill/>
          </a:ln>
        </p:spPr>
      </p:pic>
      <p:sp>
        <p:nvSpPr>
          <p:cNvPr id="640" name="7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eiz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Genera una col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ela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Genera una Demor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3857760" y="2000160"/>
            <a:ext cx="1571400" cy="12812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5715000" y="1428840"/>
            <a:ext cx="3238560" cy="21002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"/>
          <p:cNvPicPr/>
          <p:nvPr/>
        </p:nvPicPr>
        <p:blipFill>
          <a:blip r:embed="rId3"/>
          <a:stretch/>
        </p:blipFill>
        <p:spPr>
          <a:xfrm>
            <a:off x="5072040" y="4000680"/>
            <a:ext cx="2938320" cy="1931760"/>
          </a:xfrm>
          <a:prstGeom prst="rect">
            <a:avLst/>
          </a:prstGeom>
          <a:ln w="0">
            <a:noFill/>
          </a:ln>
        </p:spPr>
      </p:pic>
      <p:sp>
        <p:nvSpPr>
          <p:cNvPr id="646" name="8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Cristóbal</cp:lastModifiedBy>
  <dcterms:modified xsi:type="dcterms:W3CDTF">2008-08-08T17:12:31Z</dcterms:modified>
  <cp:revision>9</cp:revision>
  <dc:subject/>
  <dc:title>Simulación en ARENA</dc:title>
</cp:coreProperties>
</file>