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3D3-0663-4FDE-8E07-FA23423B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1AA-4DE1-40AE-A678-41B5EC39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0798B-CAB2-41CA-A6AB-4CF7452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1CAAD-78EF-4E61-8ADF-E1CC4844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09B64-A2B8-4D1B-A15D-9152CB8D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2B020-6F41-48B9-A72B-0F73799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E0FE6-C641-4DB4-9155-947BDCA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A8A7D-F3B9-4D51-B4B9-74FE7C9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E0492-2F76-455C-96F3-A0970E9D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0EA6F-6F7E-4870-9636-AB150D51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50B8D-D632-4936-A09A-7775524B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A6896-C8E1-41C9-9AD6-B27855F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EE5-3A46-46AE-8009-9725A95F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7BB27-4B50-4055-94E2-6E40F60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4AE3D-3C99-40A9-9D94-7B72BE3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E7437-DBF1-4526-9174-EA0E6F8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BEA11-E1F1-495C-906B-45969A9C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3741A-CEA6-44A5-BE87-885613F7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6592B-D697-4FD8-8A75-0F73EEA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468C4-4EC9-4AB6-915E-CB13F77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5BA06-7806-42E3-AEC5-F0565A2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740D5-0B2C-42DE-9749-ACF1A575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8BFF6-6266-416A-85D3-50BD731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5F4-DD5A-4851-9E9A-8B8AD293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A8D37-CF26-491C-B7AA-4B645F5A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11654-469A-4E74-8962-EF50A80E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AE007-1F75-4411-9A46-DE0D809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7671-A3F8-4BAC-A2C9-1D48F8B7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597C3-B29E-40ED-98C5-262CD7E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0ED6-E32B-4A4E-B2FA-AB9C1474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D9EC-A725-4CBD-AF9C-828AFE0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BAC0E-CD79-4B89-95B5-E6D2E4C2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1C4D-C456-46CD-B5B8-1FC719D7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8602-6B03-4975-93F4-BF1F4B6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D32-CF34-42B1-91C1-1D923319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39B91-7DF6-4274-8E15-5F563FE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697E-88B2-4B8C-BBE9-A3741285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0201B-38E9-49F5-AD16-54080F88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B9D7E-F41C-4414-97B2-35FBE3DF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8C607-B8A2-416B-8984-AA0EC7D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550F8-ED4C-42A1-927B-947BB2C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C440B-8866-4BA6-99C4-6126E4C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DE535-1759-4CD9-835E-0AF5A71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C4125-669A-48A8-9131-AD705E0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D5361-29CE-4DFB-B0A9-34A099C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C59-08B6-4BD6-BA50-515CA201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0166A-29E5-4310-A4AD-46D70A9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659C9-0914-482B-AF68-E29CA3F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CADA7-F7DC-4090-8E71-3548575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267F2-B182-4802-8369-3CCD9B8E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ECBDE-49E9-401A-92E5-7917F527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A80-63E3-4EDC-906E-A0E76CFF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55C0-1998-4AC9-B853-89CAF0A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F01-6989-42F7-8904-F272D6C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E635-93AA-4988-AD0A-A76A4091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9F38-117C-4B23-A947-986AE91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E0B-383C-431A-B06F-3A90DA40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21AB-CAF1-4AAD-896A-D6C9D97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8AB-6AB6-4EA0-9377-62F02C2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011E-1865-4AC6-9082-73BC2233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5B4-0383-4058-AA25-9C318FF7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D2B-32C4-406C-9DC4-124C4F1C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1F7B-F17A-4F0C-A030-3493DF60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7627-7084-41E6-8AE6-DA2C108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EC85-5AF0-4DA0-84BC-D142F0A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5850-0A8F-487C-979A-CF60E84C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4186-4458-49C0-9E80-C782209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F5C-3A56-458B-9871-425813A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B189-6F3A-43AB-B419-E5F63C6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8CE9-5C94-4F5E-82EF-E4A70FE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15C5-5BCA-4A68-9FCC-948D025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57F6-DA74-4B51-B18A-85F777A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2930-4105-49A3-AC30-D47E9DE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CEEE-5DB5-4F13-87AB-FBAFF774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A4E1-6C40-4DE8-9DA0-65485CD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4149-9847-4CB0-A6BC-9BCD1B3B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60AA-0621-4CF9-87C5-A27FDFF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EE36-4FB7-4693-8583-2D7C23F5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9F7-8CED-4E40-AE0D-85767C2E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91AB-8FB1-4E6E-B6CA-2ABF3093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97B4-B745-4726-8E9C-D157FB1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1DD7-A0AD-4FDF-A910-DC164A9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46A2-CD74-437E-97A5-B55291E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8022-881F-4AFC-9505-A553C84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7137-67AB-4CF0-8CC4-D825036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9BF4-0EDB-4BA8-A8E3-14FAB9D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80BA-558B-4F79-9726-F82D61DF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BE98-19A5-4F93-9A0D-A024280F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37F0-8BF1-4162-822D-E743E363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18F-6EA9-4161-8F27-F7B438A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2E0A7-5FD7-4B03-AB2D-2D54A85A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CD76-F28A-40D9-B9C6-3D3EF1E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2889-9A81-4290-8B6F-6C544A7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805F-C14F-47BA-9A09-A19DF1EC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11CE-031E-40DC-8F97-A34AC18C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D9ED7-C105-4159-9CF4-44498E9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A4BF9-8301-49DA-8068-077272A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0594-84F2-47A8-916F-84FE852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B644-ECD9-448A-9E74-3CC97513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841D-7047-4C54-96DE-7A82238B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143-D62B-49B1-8427-E17186A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6F859-0665-46F1-A089-2F5CF760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41CEB-2664-4C86-A746-17384C1B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AC03-C9A7-4D73-9C43-22517F0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97C0-748A-441E-BDEC-04FA9BE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832E-92F6-4B86-B551-C656C54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0E09E-4026-44FF-80A3-7E94C0D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2808-C64D-41E1-9D25-A1D2071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5220-8661-40FC-B4A2-0921B44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5F8F-3AD2-4AC1-B3DC-54C884E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5D26-3300-41C1-A58E-B7E2F76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80E-F81E-4210-AC63-D344539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A99A-A71B-4699-8254-40AFFBC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FE08-BD7A-468C-9995-45F34682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956A-30C7-47E3-A6C2-A3E8984B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B2B3-6C54-4888-839A-2A48732B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487A-7BD4-477A-9D5E-795BC89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C284-CACA-4E06-801E-943C5B6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21C2-7A20-4B71-80C2-2FE33DB6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E7F98-7204-443B-9588-A49B80AC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8239-E6CD-40DA-AD44-FE38BB8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6B55-7A75-4584-86B7-0D7C40F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5BA-0152-4C67-913C-1F08A9F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01EA1-3DD0-485E-A0F4-413134C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9091-20AC-4C60-B9FF-5822E39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37B9-F456-46B3-81FB-9DE2F97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4724-ED47-4F8B-902C-E3DA0544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6D85-6164-4F82-8F4A-F306F865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82B8-8E22-4323-ABC5-F3C59019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F7F0-E82D-4719-B997-8CC9DE7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A7BD-E5AD-4D2D-925A-143DF53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38D4-07A8-4881-9F41-000BB67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0FC5-3389-44E2-93F0-AE249AF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CE4-B6B9-47D9-B3B0-CB68DE0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F1FC-647A-4A70-896D-CF49410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DF7C-B871-4636-9DA8-22C1E38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CDC4E-A409-489E-A406-0670668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35FA-7ECD-4E65-B137-4A2052F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E6E8-8E13-4132-B3EF-F37C96EA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6406-EFAF-4824-A882-D2EE51DB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1A3B-73A7-493E-A279-B3B2C3C8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D8EE2-5933-4608-9C72-6D256A99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B3E90-13AC-482A-B3C8-3F7A74D7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4E13C-AFEB-4210-B66E-4949CBC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9580-EBA3-48F6-9C74-562423FCAD94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0F6-5287-43B3-BD9A-1D35DC4F705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00A0-CC5F-4F53-B4B7-9F97BA885592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076E-6F48-430B-9D39-1E1EC93B76C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15E-771F-4EBB-B743-3AED1667EC4F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1471-B013-41AC-A898-4A8CD2B99F6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23C9-7FB5-4695-B0C7-CD9B751738CE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0599-0FD4-49B5-93D9-B75B4745F98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654C-115D-4CDE-92D0-21CF7550130D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7E70-1E12-42EE-BF55-9A3986AAD61C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4D8A-DA94-40D0-8B0E-CBD2BA6ACAEC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7EB2-5484-49D4-9562-51D77B6DD4CD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Simulación en ARE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leas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ibera una entidad del proces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4286160" y="1643040"/>
            <a:ext cx="4391280" cy="2352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2071800" y="4143240"/>
            <a:ext cx="3590640" cy="2048040"/>
          </a:xfrm>
          <a:prstGeom prst="rect">
            <a:avLst/>
          </a:prstGeom>
          <a:ln w="0">
            <a:noFill/>
          </a:ln>
        </p:spPr>
      </p:pic>
      <p:sp>
        <p:nvSpPr>
          <p:cNvPr id="65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Instalac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7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Después del setup registrar en número de serie “STUDENT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Se debe instalar el Advanced Process men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2571840" cy="3417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2"/>
          <a:stretch/>
        </p:blipFill>
        <p:spPr>
          <a:xfrm>
            <a:off x="4429080" y="3357720"/>
            <a:ext cx="4143600" cy="2628720"/>
          </a:xfrm>
          <a:prstGeom prst="rect">
            <a:avLst/>
          </a:prstGeom>
          <a:ln w="0">
            <a:noFill/>
          </a:ln>
        </p:spPr>
      </p:pic>
      <p:sp>
        <p:nvSpPr>
          <p:cNvPr id="61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ncept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ntit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ersonaje que viaja en 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ugar de atención (donde se toma el tiempo de hacer le proceso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sour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Número de “cajas” para hacer el proceso de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Variable que se define por quien progra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Queu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Cola que se hace en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4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8400" y="1428480"/>
            <a:ext cx="4857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c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Azar o condi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Condiciones son sobre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Los atributos pertenecen a cada entid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413160" cy="3643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596880" y="3827520"/>
            <a:ext cx="4546800" cy="2459160"/>
          </a:xfrm>
          <a:prstGeom prst="rect">
            <a:avLst/>
          </a:prstGeom>
          <a:ln w="0">
            <a:noFill/>
          </a:ln>
        </p:spPr>
      </p:pic>
      <p:sp>
        <p:nvSpPr>
          <p:cNvPr id="62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Assig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ntrega un valor arbitrario a una variable o atribut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3031920" cy="1557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5143680" y="2214720"/>
            <a:ext cx="3519360" cy="3398760"/>
          </a:xfrm>
          <a:prstGeom prst="rect">
            <a:avLst/>
          </a:prstGeom>
          <a:ln w="0">
            <a:noFill/>
          </a:ln>
        </p:spPr>
      </p:pic>
      <p:sp>
        <p:nvSpPr>
          <p:cNvPr id="62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51148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Registra dato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uede contener un Sub-Model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 no, se compone de una cola, una demora y una libera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2904840" cy="1895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3214800" cy="3089520"/>
          </a:xfrm>
          <a:prstGeom prst="rect">
            <a:avLst/>
          </a:prstGeom>
          <a:ln w="0">
            <a:noFill/>
          </a:ln>
        </p:spPr>
      </p:pic>
      <p:sp>
        <p:nvSpPr>
          <p:cNvPr id="63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re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anza entida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isp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aca entidade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000760" y="4057560"/>
            <a:ext cx="2085840" cy="1514520"/>
          </a:xfrm>
          <a:prstGeom prst="rect">
            <a:avLst/>
          </a:prstGeom>
          <a:ln w="0">
            <a:noFill/>
          </a:ln>
        </p:spPr>
      </p:pic>
      <p:sp>
        <p:nvSpPr>
          <p:cNvPr id="63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ermiten dividir procesos en cola, demora y liber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ara que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Generar demoras distintas en un mismo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Reingresar al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Modificar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286000" cy="4614840"/>
          </a:xfrm>
          <a:prstGeom prst="rect">
            <a:avLst/>
          </a:prstGeom>
          <a:ln w="0">
            <a:noFill/>
          </a:ln>
        </p:spPr>
      </p:pic>
      <p:sp>
        <p:nvSpPr>
          <p:cNvPr id="640" name="7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iz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col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la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Demor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1571400" cy="1281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715000" y="1428840"/>
            <a:ext cx="3238560" cy="2100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072040" y="4000680"/>
            <a:ext cx="2938320" cy="1931760"/>
          </a:xfrm>
          <a:prstGeom prst="rect">
            <a:avLst/>
          </a:prstGeom>
          <a:ln w="0">
            <a:noFill/>
          </a:ln>
        </p:spPr>
      </p:pic>
      <p:sp>
        <p:nvSpPr>
          <p:cNvPr id="646" name="8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Cristóbal</cp:lastModifiedBy>
  <dcterms:modified xsi:type="dcterms:W3CDTF">2008-08-08T17:12:31Z</dcterms:modified>
  <cp:revision>9</cp:revision>
  <dc:subject/>
  <dc:title>Simulación en ARENA</dc:title>
</cp:coreProperties>
</file>