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469-66B6-40D1-B099-B1F00362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790-CA53-4BEB-8002-F5F9EF29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D5971-C3BE-416D-9E60-D853BFD2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CB3488-BA55-4AAA-95C0-7DC3DE92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7D9696-FA3D-47D1-A886-810131D3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F6C5E-6277-4D9E-B0D9-CE19C5B8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AED131-E43F-42A0-A760-9E00B36E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7489CB-443C-4E30-BCC9-FAECA876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A2564-3F61-48E9-B3B8-06FA60E8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73F29-2772-4275-818F-F0B1AF3C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B987C3-0C5D-4B50-9862-43C25E62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48A4D-CC72-4B8C-8BB1-3C5C4DBE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79C-8FC4-4086-928A-F5994454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03325-45AD-45D6-9098-A7556283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EF4DEA-BFBB-4761-B9A9-E4B2673D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40010-DA7B-4014-94FC-CF1D625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F7FD4-7278-467D-B06D-D0179836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81A3C0-4A1C-4CD1-B3D6-9935A699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EAD158-986D-482E-8B49-1CA4EC5A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8A22D-7773-4AF4-BBC3-75FFDCCE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C073C4-D34A-4173-B22D-6B86F72D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CE659-6B93-4AAC-AB7D-9869FCC4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531E78-F2F4-4282-BCEE-B0BF1655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98E4-94E4-494D-9686-310DD2F5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F4E90-AD4C-480E-98E8-08217119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91B9C-6574-4EA1-B470-9DA791AB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A7677-2D2E-465C-8A21-57909448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73C7A8-EE1B-430C-84E8-446A651F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7EFED6-FD61-44C8-AFF5-2A6BC49F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AA23F-5586-49C9-8C6B-A5594D49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1124D-F7AF-4AD7-93B6-A4348EAB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8733E-2D9E-43E2-B7C6-1044E338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22EC8-CA31-4033-9DD5-543E435E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22CEE8-1FAC-4026-A439-3C83A34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77B5-49F6-403F-8135-396658D9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F0620-1A82-4CF0-B059-C24FEE3F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C8CCC-BCE5-4CDB-BC99-A9199434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35D71F-04FB-4D9C-BF27-7C4FBDF1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CB23EB-880B-41C7-BA76-00DD33BE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8077D1-3E55-4B7E-8F29-B5E4C1B6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C51F85-D0B4-4D96-B7BA-8D809929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47482C-AA79-4B12-8A5E-A070A3C5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459BE6-2CCC-4886-939D-259096D4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5A2F4-6DCC-49E2-A6E6-71C8C5CD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E699CA-2970-4A18-8D28-86A31928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36C0-F46F-4884-9A68-D45D33D8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6752E1-BB8B-444D-B149-27ED94DC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C7D9B-870D-4CE4-92DE-0E43CB70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893EB-3341-483A-BB65-BED74E8A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14514-EDCC-44A1-89D0-2D79F842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D7D79-845F-476C-9DCA-64D463C79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991F-B5C5-491E-8B4B-E051B9054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AC80-6F16-411B-BEE7-104BB0C0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20F3-7AC5-4363-BCF5-E358FCBF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D214-5176-4DFB-BB8E-583ED4A6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CBC8-3E59-4D62-89F6-D6582534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D711-A045-48FB-BDE2-3A6ABA60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2A5EE-6C77-4029-8DCD-44B9CB5A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D15A-D750-45E8-B968-5303D224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67F5-C7B1-451D-B755-D7489F9A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BBBB-ABA1-453E-AD26-EE0C4FDB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74CB-763C-4300-94EE-74F25A47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17FA5-426D-4634-9B38-6EC312EB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111DB-C71D-4D0E-8875-F6A447FB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6BBC-6446-423F-8133-E7ECC301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40C03-4A92-4E2E-9B92-5272FD06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329E8-377E-4A64-9029-A9742845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6BB4-1E75-4224-9A22-85DDCB2C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81F5-14FF-4EE4-801D-6233DD0F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B40F3-1884-43A6-B740-2CF68B63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1CA0-F5FC-4EFB-B25C-B84BA258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4FD31-5489-449D-9FBB-ED53628F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010B-5EAF-45F6-80C7-151321DB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09AB0-C476-460C-86B0-D59F1668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DFEE-AD0D-4DCE-AB9E-37B032A0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5D02A-603C-4F5D-AAE2-4EC18461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26E10-B0E6-4BDC-9F61-FAEDFD79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2D49-0EE4-46A4-95EB-27D58DE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C66-5745-401C-AC08-9D1B390C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2ADE-2C9D-4026-9DCE-47BCE53D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818CD-1E35-4F0E-9AFA-4C0CCBF7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83A47-ABB9-4AF8-92DE-85681178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EAC8-6AF6-4AAA-B6F6-852E8706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B975D-88FF-46D8-BD56-5074FAFB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55A70-F661-4112-9DD8-378F354F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06896-CE66-4B48-8CB5-95C25ADD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6856E-69DA-4C6F-80A4-5A3072FFC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BF270-34EA-4660-9485-360FB738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55E04-170D-4017-BDBC-DA4E5C6C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96AC-0F01-4823-9BCD-67618B49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6036E-BEE0-4A04-B0ED-36756D37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FEA3F-CB74-4808-9630-883292CA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56AA-78FE-4E89-BFA3-28C97BEF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99165-4BB7-4B43-8FBF-882917DC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9C91B-DE51-427D-A30A-722400EE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C4236-8A2A-4721-95BA-C24D84EE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C2D4-A4DD-4841-8BB7-4E773842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C48CB-1FF1-415F-8DAE-CDD70B8B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7872F-1B42-494E-8D9E-95632C18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B3E53-CB33-44E2-9F85-2C4E712D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FBFC-FD4D-4430-A5FA-A57A6438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46C78-B08C-473E-9C25-2283D66E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4D284-4B1B-4556-BDA9-CEE35890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590FE-7C80-42C2-BABD-26D28234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FCDDA-3BA8-4511-A8C6-F43F2398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A9EC-7CED-409E-B987-7C236E7C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9CC11-538F-472F-9B95-FFE4D9B4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FE22B-9F03-4C68-AB9F-DC543AE1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7D3BA-2A2D-4B74-8BD5-65E23AF0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09E6D-7935-4C8D-A202-1B9DF1F6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B905E-1842-4830-B913-7C386C15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3F15-678B-4E04-A68B-615B6AE2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0C1E3-9AFE-465F-A0E9-4A8FA1BA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B1655-4772-4B20-A7AF-D7BB1467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A8D86-120C-4EB9-8417-6A06D039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93CC2-85D5-49E3-882F-73EB48B3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BA6F8-249B-4598-B7A5-0F891501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A948E-E163-40C0-8443-CAC56994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1DBD7-17FD-47CD-8D7C-DBE6C8EB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C2848-F8B4-4949-8D9F-1AFE47E3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FFFFF-D6BD-4AF8-B32B-ACB8B601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4A06B-0A01-49F5-8D65-06413F1A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1FE8-997A-423A-8BBF-33612945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B65BF-320B-4777-91B6-AE9BADF4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F5246-0F0C-43AB-B932-F73F835D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E0ABB-D3B3-4D27-B2E4-7036408F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6D54F-792D-494F-8ED2-201AFE1A4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6F450-3ADE-4A7A-9E51-6AB645AB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0233B-3D40-471E-887D-3EC26EBC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D004D-C157-443D-BD6E-F161583C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31DCE-4561-4F6D-BECB-6B1BCEA84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EFE82-FC2A-4E64-B5ED-432D7B03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44A57-B133-4395-90A4-9841E42F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7BA3-2355-41C0-8EDE-28688CD5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B821A-3520-4AB6-82EC-9F0FF613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C08CD-6EA3-496A-822C-8FA91969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18826-BD60-4DFD-915A-53F1C00E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3BCCF-9814-4789-9E40-71305891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67696-276A-4547-A400-67B6D80D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36241-23B7-492B-8697-CF426359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5372B-8434-4E77-ABDF-28E5FC89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01FFE9-F3B2-4939-8EBA-85E9390DD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F8318D-B484-4727-9E6A-3D6D92D8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421EDE-FE16-40E2-B413-13131BD4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96B9D-AF81-46F5-993D-8D75C0ADA71F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19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24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26 Rectángulo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27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28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2F42-F9E5-48CE-A847-B8D2F52D6C38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7BBA-EB91-474B-86EF-3995E39767B0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20 Rectángulo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23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26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27 Conector recto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28 Elipse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29 Elipse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1A03-9EEF-4F96-BEC0-B9BC573AC8CB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20 Rectángulo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23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24 Rectángulo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6 Conector recto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8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9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6AEA-F19D-42B9-A21E-F3B0A1CFBBE8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34E5-040D-4FE2-8588-3CFD5320F72E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9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23 Rectángulo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24 Rectángulo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25 Rectángulo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26 Rectángulo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27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28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29 Conector recto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30 Elipse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31 Elipse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DC79-5850-4DAD-87C9-83078D6A4133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19 Conector recto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9757-3EE0-4C39-BA32-BD7C6B2E08E0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9 Conector recto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20 Rectángulo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23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25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26 Rectángulo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27 Rectángulo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28 Conector recto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29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30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31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F9FF-B8D6-485D-BB3F-50084B8214D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6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15 Rectángulo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17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18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8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7 Rectángulo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9 Conector recto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11 Elipse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14 Elipse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FE99-311E-410C-9368-5655372B1A24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19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20 Rectángulo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24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25 Rectángulo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26 Rectángulo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1391-74BA-418A-80D6-B10F240F7EC9}" type="slidenum">
              <a:rPr b="0" lang="es-C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9 Rectángulo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20 Rectángulo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23 Rectángulo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24 Rectángulo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25 Rectángulo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26 Rectángulo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27 Rectángulo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28 Conector recto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29 Elipse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30 Elipse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31 Rectángulo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11C8-48FB-4954-83B2-38B8387430A5}" type="slidenum">
              <a:rPr b="0" lang="es-C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3571920"/>
            <a:ext cx="6400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646b86"/>
                </a:solidFill>
                <a:latin typeface="Georgia"/>
              </a:rPr>
              <a:t>IN47B – INGENIERÍA DE OPERACION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d16349"/>
                </a:solidFill>
                <a:latin typeface="Georgia"/>
              </a:rPr>
              <a:t>Simulación en ARENA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8" name="3 CuadroTexto"/>
          <p:cNvSpPr/>
          <p:nvPr/>
        </p:nvSpPr>
        <p:spPr>
          <a:xfrm>
            <a:off x="4714920" y="542916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imavera 2008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de Cátedra: Fernando Ordoñez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eorgia"/>
              </a:rPr>
              <a:t>Profesor Auxiliar: Cristóbal Mestr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599840"/>
            <a:ext cx="37576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Release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ibera una entidad del proces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4286160" y="1643040"/>
            <a:ext cx="4391280" cy="23526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" descr=""/>
          <p:cNvPicPr/>
          <p:nvPr/>
        </p:nvPicPr>
        <p:blipFill>
          <a:blip r:embed="rId2"/>
          <a:stretch/>
        </p:blipFill>
        <p:spPr>
          <a:xfrm>
            <a:off x="2071800" y="4143240"/>
            <a:ext cx="3590640" cy="2048040"/>
          </a:xfrm>
          <a:prstGeom prst="rect">
            <a:avLst/>
          </a:prstGeom>
          <a:ln w="0">
            <a:noFill/>
          </a:ln>
        </p:spPr>
      </p:pic>
      <p:sp>
        <p:nvSpPr>
          <p:cNvPr id="65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Instalació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28760" y="1357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eorgia"/>
              </a:rPr>
              <a:t>Después del setup registrar en número de serie “STUDENT”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7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eorgia"/>
              </a:rPr>
              <a:t>Se debe instalar el Advanced Process menu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11" name="Picture 2" descr=""/>
          <p:cNvPicPr/>
          <p:nvPr/>
        </p:nvPicPr>
        <p:blipFill>
          <a:blip r:embed="rId1"/>
          <a:stretch/>
        </p:blipFill>
        <p:spPr>
          <a:xfrm>
            <a:off x="500040" y="2857680"/>
            <a:ext cx="2571840" cy="341784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"/>
          <p:cNvPicPr/>
          <p:nvPr/>
        </p:nvPicPr>
        <p:blipFill>
          <a:blip r:embed="rId2"/>
          <a:stretch/>
        </p:blipFill>
        <p:spPr>
          <a:xfrm>
            <a:off x="4429080" y="3357720"/>
            <a:ext cx="4143600" cy="2628720"/>
          </a:xfrm>
          <a:prstGeom prst="rect">
            <a:avLst/>
          </a:prstGeom>
          <a:ln w="0">
            <a:noFill/>
          </a:ln>
        </p:spPr>
      </p:pic>
      <p:sp>
        <p:nvSpPr>
          <p:cNvPr id="613" name="5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Concept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Entit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ersonaje que viaja en 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et: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ugar de atención (donde se toma el tiempo de hacer le proceso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Resourc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Número de “cajas” para hacer el proceso de un Se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Variabl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Variable que se define por quien progra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Queu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Cola que se hace en un Se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4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28400" y="1428480"/>
            <a:ext cx="48574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ecid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Azar o condició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Condiciones son sobre atributos o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Los atributos pertenecen a cada entida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5500800" y="1714680"/>
            <a:ext cx="3413160" cy="36432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"/>
          <p:cNvPicPr/>
          <p:nvPr/>
        </p:nvPicPr>
        <p:blipFill>
          <a:blip r:embed="rId2"/>
          <a:stretch/>
        </p:blipFill>
        <p:spPr>
          <a:xfrm>
            <a:off x="596880" y="3827520"/>
            <a:ext cx="4546800" cy="2459160"/>
          </a:xfrm>
          <a:prstGeom prst="rect">
            <a:avLst/>
          </a:prstGeom>
          <a:ln w="0">
            <a:noFill/>
          </a:ln>
        </p:spPr>
      </p:pic>
      <p:sp>
        <p:nvSpPr>
          <p:cNvPr id="62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Assig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Entrega un valor arbitrario a una variable o atribut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1285920" y="3500280"/>
            <a:ext cx="3031920" cy="155736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" descr=""/>
          <p:cNvPicPr/>
          <p:nvPr/>
        </p:nvPicPr>
        <p:blipFill>
          <a:blip r:embed="rId2"/>
          <a:stretch/>
        </p:blipFill>
        <p:spPr>
          <a:xfrm>
            <a:off x="5143680" y="2214720"/>
            <a:ext cx="3519360" cy="3398760"/>
          </a:xfrm>
          <a:prstGeom prst="rect">
            <a:avLst/>
          </a:prstGeom>
          <a:ln w="0">
            <a:noFill/>
          </a:ln>
        </p:spPr>
      </p:pic>
      <p:sp>
        <p:nvSpPr>
          <p:cNvPr id="626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511488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roc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Registra datos d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uede contener un Sub-Modelo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i no, se compone de una cola, una demora y una liberació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071720" y="3929040"/>
            <a:ext cx="2904840" cy="1895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5572080" y="2357280"/>
            <a:ext cx="3214800" cy="3089520"/>
          </a:xfrm>
          <a:prstGeom prst="rect">
            <a:avLst/>
          </a:prstGeom>
          <a:ln w="0">
            <a:noFill/>
          </a:ln>
        </p:spPr>
      </p:pic>
      <p:sp>
        <p:nvSpPr>
          <p:cNvPr id="631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Básic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56840" y="1599840"/>
            <a:ext cx="59007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Creat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Lanza entidad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ispo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Saca entidades del sistem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857840" y="1643040"/>
            <a:ext cx="2162160" cy="176220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"/>
          <p:cNvPicPr/>
          <p:nvPr/>
        </p:nvPicPr>
        <p:blipFill>
          <a:blip r:embed="rId2"/>
          <a:stretch/>
        </p:blipFill>
        <p:spPr>
          <a:xfrm>
            <a:off x="5000760" y="4057560"/>
            <a:ext cx="2085840" cy="1514520"/>
          </a:xfrm>
          <a:prstGeom prst="rect">
            <a:avLst/>
          </a:prstGeom>
          <a:ln w="0">
            <a:noFill/>
          </a:ln>
        </p:spPr>
      </p:pic>
      <p:sp>
        <p:nvSpPr>
          <p:cNvPr id="636" name="6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6840" y="1599840"/>
            <a:ext cx="590076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Permiten dividir procesos en cola, demora y liberació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Para que?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Generar demoras distintas en un mismo proce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Reingresar al proces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Georgia"/>
              </a:rPr>
              <a:t>Modificar atributos o variabl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3" descr=""/>
          <p:cNvPicPr/>
          <p:nvPr/>
        </p:nvPicPr>
        <p:blipFill>
          <a:blip r:embed="rId1"/>
          <a:stretch/>
        </p:blipFill>
        <p:spPr>
          <a:xfrm>
            <a:off x="6072120" y="1571760"/>
            <a:ext cx="2286000" cy="4614840"/>
          </a:xfrm>
          <a:prstGeom prst="rect">
            <a:avLst/>
          </a:prstGeom>
          <a:ln w="0">
            <a:noFill/>
          </a:ln>
        </p:spPr>
      </p:pic>
      <p:sp>
        <p:nvSpPr>
          <p:cNvPr id="640" name="7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7b9899"/>
                </a:solidFill>
                <a:latin typeface="Georgia"/>
              </a:rPr>
              <a:t>Procesos Avanzado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Seize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Genera una col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Georgia"/>
              </a:rPr>
              <a:t>Delay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646b86"/>
                </a:solidFill>
                <a:latin typeface="Georgia"/>
              </a:rPr>
              <a:t>Genera una Demora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3857760" y="2000160"/>
            <a:ext cx="1571400" cy="12812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5715000" y="1428840"/>
            <a:ext cx="3238560" cy="210024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5072040" y="4000680"/>
            <a:ext cx="2938320" cy="1931760"/>
          </a:xfrm>
          <a:prstGeom prst="rect">
            <a:avLst/>
          </a:prstGeom>
          <a:ln w="0">
            <a:noFill/>
          </a:ln>
        </p:spPr>
      </p:pic>
      <p:sp>
        <p:nvSpPr>
          <p:cNvPr id="646" name="8 CuadroTexto"/>
          <p:cNvSpPr/>
          <p:nvPr/>
        </p:nvSpPr>
        <p:spPr>
          <a:xfrm>
            <a:off x="3000240" y="6429240"/>
            <a:ext cx="378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Georgia"/>
              </a:rPr>
              <a:t>Cristóbal Mestre - Primavera 2008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5:58:30Z</dcterms:created>
  <dc:creator>Cristóbal</dc:creator>
  <dc:description/>
  <dc:language>en-US</dc:language>
  <cp:lastModifiedBy>Cristóbal</cp:lastModifiedBy>
  <dcterms:modified xsi:type="dcterms:W3CDTF">2008-08-08T17:12:31Z</dcterms:modified>
  <cp:revision>9</cp:revision>
  <dc:subject/>
  <dc:title>Simulación en ARENA</dc:title>
</cp:coreProperties>
</file>